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2C01-83B5-45F3-8F9F-B2885B74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AF60-1A74-4B49-9BB8-66AE0566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3FD-2E72-42F5-A070-756405E3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21E-72C0-4160-BF0A-B582EDFC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6F4-4848-453B-A626-661D82D8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D04E-8B3A-42CC-811B-A006CBCB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B89-27D1-41A6-BB3F-BCA5255D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DF9-2600-4C77-8DD7-B6E08D16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E5D-3797-42CB-BE20-132A7261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D23-2641-4C11-A86E-AF2DA877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AC0-6B8A-451D-8197-64FE54F7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BF3-9E6B-495F-95FF-5C2C6B3D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9387-3B57-4F09-B7D8-76BF3F8930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Monday, December 15th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Homework:</a:t>
            </a:r>
            <a:br>
              <a:rPr sz="6500"/>
            </a:b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Page 408</a:t>
            </a:r>
            <a:br>
              <a:rPr sz="6500"/>
            </a:b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#1-7</a:t>
            </a:r>
            <a:r>
              <a:rPr b="0" i="1" lang="en-US" sz="4000" spc="-1" strike="noStrike">
                <a:solidFill>
                  <a:srgbClr val="dfd293"/>
                </a:solidFill>
                <a:latin typeface="Arial"/>
              </a:rPr>
              <a:t>(part a only), 9,15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Get back test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akes must be done by 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19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d293"/>
                </a:solidFill>
                <a:latin typeface="Arial"/>
              </a:rPr>
              <a:t>Lesson 5.4</a:t>
            </a:r>
            <a:br>
              <a:rPr sz="8500"/>
            </a:br>
            <a:r>
              <a:rPr b="0" lang="en-US" sz="8500" spc="-1" strike="noStrike">
                <a:solidFill>
                  <a:srgbClr val="dfd293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um and Difference Formula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Important Paper #3 into your b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dfd2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 the exact value: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in(</a:t>
            </a:r>
            <a:r>
              <a:rPr b="0" lang="en-US" sz="4000" spc="-1" strike="noStrike" baseline="30000">
                <a:solidFill>
                  <a:srgbClr val="dfd293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fd293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+ </a:t>
            </a:r>
            <a:r>
              <a:rPr b="0" lang="en-US" sz="4000" spc="-1" strike="noStrike" baseline="30000">
                <a:solidFill>
                  <a:srgbClr val="dfd293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fd293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9080" y="2160720"/>
            <a:ext cx="401760" cy="250560"/>
          </a:xfrm>
          <a:custGeom>
            <a:avLst/>
            <a:gdLst/>
            <a:ahLst/>
            <a:rect l="l" t="t" r="r" b="b"/>
            <a:pathLst>
              <a:path w="1117" h="695">
                <a:moveTo>
                  <a:pt x="12427" y="6003"/>
                </a:moveTo>
                <a:cubicBezTo>
                  <a:pt x="12395" y="6035"/>
                  <a:pt x="12398" y="6055"/>
                  <a:pt x="12378" y="6077"/>
                </a:cubicBezTo>
                <a:cubicBezTo>
                  <a:pt x="12336" y="6124"/>
                  <a:pt x="12348" y="6193"/>
                  <a:pt x="12328" y="6251"/>
                </a:cubicBezTo>
                <a:cubicBezTo>
                  <a:pt x="12304" y="6322"/>
                  <a:pt x="12303" y="6373"/>
                  <a:pt x="12303" y="6449"/>
                </a:cubicBezTo>
                <a:cubicBezTo>
                  <a:pt x="12303" y="6531"/>
                  <a:pt x="12312" y="6556"/>
                  <a:pt x="12353" y="6623"/>
                </a:cubicBezTo>
                <a:cubicBezTo>
                  <a:pt x="12382" y="6671"/>
                  <a:pt x="12412" y="6697"/>
                  <a:pt x="12477" y="6697"/>
                </a:cubicBezTo>
                <a:cubicBezTo>
                  <a:pt x="12537" y="6697"/>
                  <a:pt x="12611" y="6635"/>
                  <a:pt x="12650" y="6598"/>
                </a:cubicBezTo>
                <a:cubicBezTo>
                  <a:pt x="12711" y="6541"/>
                  <a:pt x="12784" y="6469"/>
                  <a:pt x="12824" y="6400"/>
                </a:cubicBezTo>
                <a:cubicBezTo>
                  <a:pt x="12852" y="6353"/>
                  <a:pt x="12886" y="6255"/>
                  <a:pt x="12898" y="6201"/>
                </a:cubicBezTo>
                <a:cubicBezTo>
                  <a:pt x="12906" y="6164"/>
                  <a:pt x="12898" y="6115"/>
                  <a:pt x="12898" y="6077"/>
                </a:cubicBezTo>
                <a:cubicBezTo>
                  <a:pt x="12870" y="6125"/>
                  <a:pt x="12874" y="6140"/>
                  <a:pt x="12874" y="6201"/>
                </a:cubicBezTo>
                <a:cubicBezTo>
                  <a:pt x="12874" y="6259"/>
                  <a:pt x="12880" y="6322"/>
                  <a:pt x="12898" y="6375"/>
                </a:cubicBezTo>
                <a:cubicBezTo>
                  <a:pt x="12916" y="6428"/>
                  <a:pt x="12977" y="6494"/>
                  <a:pt x="13022" y="6524"/>
                </a:cubicBezTo>
                <a:cubicBezTo>
                  <a:pt x="13094" y="6571"/>
                  <a:pt x="13157" y="6608"/>
                  <a:pt x="13246" y="6623"/>
                </a:cubicBezTo>
                <a:cubicBezTo>
                  <a:pt x="13311" y="6634"/>
                  <a:pt x="13371" y="6684"/>
                  <a:pt x="13395" y="6623"/>
                </a:cubicBezTo>
                <a:cubicBezTo>
                  <a:pt x="13395" y="6615"/>
                  <a:pt x="13395" y="6606"/>
                  <a:pt x="13395" y="65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2000" y="2071800"/>
            <a:ext cx="374760" cy="250560"/>
          </a:xfrm>
          <a:custGeom>
            <a:avLst/>
            <a:gdLst/>
            <a:ahLst/>
            <a:rect l="l" t="t" r="r" b="b"/>
            <a:pathLst>
              <a:path w="1043" h="695">
                <a:moveTo>
                  <a:pt x="15949" y="5904"/>
                </a:moveTo>
                <a:cubicBezTo>
                  <a:pt x="15978" y="5955"/>
                  <a:pt x="16001" y="6002"/>
                  <a:pt x="16024" y="6052"/>
                </a:cubicBezTo>
                <a:cubicBezTo>
                  <a:pt x="16048" y="6105"/>
                  <a:pt x="16088" y="6181"/>
                  <a:pt x="16123" y="6226"/>
                </a:cubicBezTo>
                <a:cubicBezTo>
                  <a:pt x="16161" y="6275"/>
                  <a:pt x="16206" y="6329"/>
                  <a:pt x="16247" y="6375"/>
                </a:cubicBezTo>
                <a:cubicBezTo>
                  <a:pt x="16274" y="6405"/>
                  <a:pt x="16305" y="6433"/>
                  <a:pt x="16321" y="6449"/>
                </a:cubicBezTo>
                <a:cubicBezTo>
                  <a:pt x="16339" y="6414"/>
                  <a:pt x="16342" y="6382"/>
                  <a:pt x="16371" y="6350"/>
                </a:cubicBezTo>
                <a:cubicBezTo>
                  <a:pt x="16424" y="6291"/>
                  <a:pt x="16464" y="6234"/>
                  <a:pt x="16520" y="6176"/>
                </a:cubicBezTo>
                <a:cubicBezTo>
                  <a:pt x="16578" y="6115"/>
                  <a:pt x="16655" y="6081"/>
                  <a:pt x="16718" y="6028"/>
                </a:cubicBezTo>
                <a:cubicBezTo>
                  <a:pt x="16768" y="5987"/>
                  <a:pt x="16820" y="5946"/>
                  <a:pt x="16867" y="5904"/>
                </a:cubicBezTo>
                <a:cubicBezTo>
                  <a:pt x="16906" y="5870"/>
                  <a:pt x="16911" y="5839"/>
                  <a:pt x="16942" y="5804"/>
                </a:cubicBezTo>
                <a:cubicBezTo>
                  <a:pt x="16981" y="5760"/>
                  <a:pt x="16983" y="5764"/>
                  <a:pt x="16966" y="5755"/>
                </a:cubicBezTo>
                <a:cubicBezTo>
                  <a:pt x="16958" y="5755"/>
                  <a:pt x="16950" y="5755"/>
                  <a:pt x="16942" y="57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8200" y="2830680"/>
            <a:ext cx="2044800" cy="598320"/>
          </a:xfrm>
          <a:custGeom>
            <a:avLst/>
            <a:gdLst/>
            <a:ahLst/>
            <a:rect l="l" t="t" r="r" b="b"/>
            <a:pathLst>
              <a:path w="5681" h="1663">
                <a:moveTo>
                  <a:pt x="7615" y="8334"/>
                </a:moveTo>
                <a:cubicBezTo>
                  <a:pt x="7577" y="8307"/>
                  <a:pt x="7563" y="8310"/>
                  <a:pt x="7516" y="8310"/>
                </a:cubicBezTo>
                <a:cubicBezTo>
                  <a:pt x="7460" y="8310"/>
                  <a:pt x="7438" y="8319"/>
                  <a:pt x="7392" y="8334"/>
                </a:cubicBezTo>
                <a:cubicBezTo>
                  <a:pt x="7358" y="8345"/>
                  <a:pt x="7323" y="8349"/>
                  <a:pt x="7293" y="8359"/>
                </a:cubicBezTo>
                <a:cubicBezTo>
                  <a:pt x="7266" y="8368"/>
                  <a:pt x="7247" y="8377"/>
                  <a:pt x="7243" y="8409"/>
                </a:cubicBezTo>
                <a:cubicBezTo>
                  <a:pt x="7239" y="8439"/>
                  <a:pt x="7290" y="8496"/>
                  <a:pt x="7317" y="8508"/>
                </a:cubicBezTo>
                <a:cubicBezTo>
                  <a:pt x="7377" y="8535"/>
                  <a:pt x="7458" y="8547"/>
                  <a:pt x="7516" y="8582"/>
                </a:cubicBezTo>
                <a:cubicBezTo>
                  <a:pt x="7568" y="8613"/>
                  <a:pt x="7614" y="8650"/>
                  <a:pt x="7665" y="8682"/>
                </a:cubicBezTo>
                <a:cubicBezTo>
                  <a:pt x="7709" y="8710"/>
                  <a:pt x="7733" y="8726"/>
                  <a:pt x="7739" y="8781"/>
                </a:cubicBezTo>
                <a:cubicBezTo>
                  <a:pt x="7743" y="8814"/>
                  <a:pt x="7749" y="8863"/>
                  <a:pt x="7714" y="8880"/>
                </a:cubicBezTo>
                <a:cubicBezTo>
                  <a:pt x="7674" y="8900"/>
                  <a:pt x="7631" y="8888"/>
                  <a:pt x="7590" y="8905"/>
                </a:cubicBezTo>
                <a:cubicBezTo>
                  <a:pt x="7537" y="8927"/>
                  <a:pt x="7505" y="8930"/>
                  <a:pt x="7441" y="8930"/>
                </a:cubicBezTo>
                <a:cubicBezTo>
                  <a:pt x="7382" y="8930"/>
                  <a:pt x="7365" y="8916"/>
                  <a:pt x="7342" y="8905"/>
                </a:cubicBezTo>
                <a:cubicBezTo>
                  <a:pt x="7298" y="8883"/>
                  <a:pt x="7286" y="8933"/>
                  <a:pt x="7268" y="8880"/>
                </a:cubicBezTo>
              </a:path>
              <a:path w="5681" h="1663">
                <a:moveTo>
                  <a:pt x="8012" y="8334"/>
                </a:moveTo>
                <a:cubicBezTo>
                  <a:pt x="8012" y="8442"/>
                  <a:pt x="8003" y="8532"/>
                  <a:pt x="7987" y="8632"/>
                </a:cubicBezTo>
                <a:cubicBezTo>
                  <a:pt x="7977" y="8692"/>
                  <a:pt x="7977" y="8722"/>
                  <a:pt x="7962" y="8781"/>
                </a:cubicBezTo>
                <a:cubicBezTo>
                  <a:pt x="7950" y="8828"/>
                  <a:pt x="7962" y="8840"/>
                  <a:pt x="7962" y="8781"/>
                </a:cubicBezTo>
                <a:cubicBezTo>
                  <a:pt x="7962" y="8764"/>
                  <a:pt x="7962" y="8748"/>
                  <a:pt x="7962" y="8731"/>
                </a:cubicBezTo>
              </a:path>
              <a:path w="5681" h="1663">
                <a:moveTo>
                  <a:pt x="7962" y="7913"/>
                </a:moveTo>
                <a:cubicBezTo>
                  <a:pt x="7982" y="7872"/>
                  <a:pt x="7991" y="7845"/>
                  <a:pt x="7987" y="7888"/>
                </a:cubicBezTo>
              </a:path>
              <a:path w="5681" h="1663">
                <a:moveTo>
                  <a:pt x="8210" y="8409"/>
                </a:moveTo>
                <a:cubicBezTo>
                  <a:pt x="8235" y="8527"/>
                  <a:pt x="8218" y="8534"/>
                  <a:pt x="8210" y="8632"/>
                </a:cubicBezTo>
                <a:cubicBezTo>
                  <a:pt x="8204" y="8707"/>
                  <a:pt x="8207" y="8764"/>
                  <a:pt x="8186" y="8806"/>
                </a:cubicBezTo>
                <a:cubicBezTo>
                  <a:pt x="8186" y="8830"/>
                  <a:pt x="8186" y="8838"/>
                  <a:pt x="8210" y="8830"/>
                </a:cubicBezTo>
                <a:cubicBezTo>
                  <a:pt x="8161" y="8814"/>
                  <a:pt x="8205" y="8801"/>
                  <a:pt x="8210" y="8756"/>
                </a:cubicBezTo>
                <a:cubicBezTo>
                  <a:pt x="8218" y="8677"/>
                  <a:pt x="8222" y="8607"/>
                  <a:pt x="8235" y="8533"/>
                </a:cubicBezTo>
                <a:cubicBezTo>
                  <a:pt x="8247" y="8467"/>
                  <a:pt x="8272" y="8399"/>
                  <a:pt x="8334" y="8359"/>
                </a:cubicBezTo>
                <a:cubicBezTo>
                  <a:pt x="8408" y="8311"/>
                  <a:pt x="8411" y="8346"/>
                  <a:pt x="8483" y="8359"/>
                </a:cubicBezTo>
                <a:cubicBezTo>
                  <a:pt x="8564" y="8373"/>
                  <a:pt x="8558" y="8418"/>
                  <a:pt x="8607" y="8483"/>
                </a:cubicBezTo>
                <a:cubicBezTo>
                  <a:pt x="8641" y="8529"/>
                  <a:pt x="8672" y="8607"/>
                  <a:pt x="8682" y="8657"/>
                </a:cubicBezTo>
                <a:cubicBezTo>
                  <a:pt x="8693" y="8710"/>
                  <a:pt x="8682" y="8775"/>
                  <a:pt x="8682" y="8830"/>
                </a:cubicBezTo>
                <a:cubicBezTo>
                  <a:pt x="8691" y="8793"/>
                  <a:pt x="8710" y="8768"/>
                  <a:pt x="8731" y="8731"/>
                </a:cubicBezTo>
              </a:path>
              <a:path w="5681" h="1663">
                <a:moveTo>
                  <a:pt x="9227" y="7987"/>
                </a:moveTo>
                <a:cubicBezTo>
                  <a:pt x="9296" y="7987"/>
                  <a:pt x="9336" y="7997"/>
                  <a:pt x="9401" y="8012"/>
                </a:cubicBezTo>
                <a:cubicBezTo>
                  <a:pt x="9473" y="8029"/>
                  <a:pt x="9552" y="8020"/>
                  <a:pt x="9624" y="8037"/>
                </a:cubicBezTo>
                <a:cubicBezTo>
                  <a:pt x="9661" y="8046"/>
                  <a:pt x="9709" y="8037"/>
                  <a:pt x="9748" y="8037"/>
                </a:cubicBezTo>
                <a:cubicBezTo>
                  <a:pt x="9736" y="8001"/>
                  <a:pt x="9725" y="8009"/>
                  <a:pt x="9674" y="7987"/>
                </a:cubicBezTo>
              </a:path>
              <a:path w="5681" h="1663">
                <a:moveTo>
                  <a:pt x="9376" y="8037"/>
                </a:moveTo>
                <a:cubicBezTo>
                  <a:pt x="9328" y="8102"/>
                  <a:pt x="9307" y="8150"/>
                  <a:pt x="9302" y="8235"/>
                </a:cubicBezTo>
                <a:cubicBezTo>
                  <a:pt x="9298" y="8299"/>
                  <a:pt x="9283" y="8349"/>
                  <a:pt x="9277" y="8409"/>
                </a:cubicBezTo>
                <a:cubicBezTo>
                  <a:pt x="9275" y="8429"/>
                  <a:pt x="9270" y="8559"/>
                  <a:pt x="9302" y="8483"/>
                </a:cubicBezTo>
                <a:cubicBezTo>
                  <a:pt x="9302" y="8475"/>
                  <a:pt x="9302" y="8466"/>
                  <a:pt x="9302" y="8458"/>
                </a:cubicBezTo>
              </a:path>
              <a:path w="5681" h="1663">
                <a:moveTo>
                  <a:pt x="9525" y="8062"/>
                </a:moveTo>
                <a:cubicBezTo>
                  <a:pt x="9525" y="8136"/>
                  <a:pt x="9505" y="8190"/>
                  <a:pt x="9500" y="8260"/>
                </a:cubicBezTo>
                <a:cubicBezTo>
                  <a:pt x="9498" y="8281"/>
                  <a:pt x="9514" y="8364"/>
                  <a:pt x="9525" y="8384"/>
                </a:cubicBezTo>
                <a:cubicBezTo>
                  <a:pt x="9539" y="8410"/>
                  <a:pt x="9578" y="8437"/>
                  <a:pt x="9599" y="8458"/>
                </a:cubicBezTo>
              </a:path>
              <a:path w="5681" h="1663">
                <a:moveTo>
                  <a:pt x="9103" y="8533"/>
                </a:moveTo>
                <a:cubicBezTo>
                  <a:pt x="9193" y="8552"/>
                  <a:pt x="9260" y="8558"/>
                  <a:pt x="9351" y="8558"/>
                </a:cubicBezTo>
                <a:cubicBezTo>
                  <a:pt x="9442" y="8558"/>
                  <a:pt x="9533" y="8558"/>
                  <a:pt x="9624" y="8558"/>
                </a:cubicBezTo>
              </a:path>
              <a:path w="5681" h="1663">
                <a:moveTo>
                  <a:pt x="9302" y="8781"/>
                </a:moveTo>
                <a:cubicBezTo>
                  <a:pt x="9320" y="8836"/>
                  <a:pt x="9337" y="8794"/>
                  <a:pt x="9376" y="8781"/>
                </a:cubicBezTo>
                <a:cubicBezTo>
                  <a:pt x="9416" y="8768"/>
                  <a:pt x="9463" y="8768"/>
                  <a:pt x="9500" y="8756"/>
                </a:cubicBezTo>
                <a:cubicBezTo>
                  <a:pt x="9527" y="8747"/>
                  <a:pt x="9563" y="8781"/>
                  <a:pt x="9599" y="8781"/>
                </a:cubicBezTo>
                <a:cubicBezTo>
                  <a:pt x="9599" y="8833"/>
                  <a:pt x="9592" y="8831"/>
                  <a:pt x="9575" y="8855"/>
                </a:cubicBezTo>
                <a:cubicBezTo>
                  <a:pt x="9533" y="8914"/>
                  <a:pt x="9507" y="8940"/>
                  <a:pt x="9451" y="8979"/>
                </a:cubicBezTo>
                <a:cubicBezTo>
                  <a:pt x="9429" y="8995"/>
                  <a:pt x="9383" y="9026"/>
                  <a:pt x="9376" y="9029"/>
                </a:cubicBezTo>
                <a:cubicBezTo>
                  <a:pt x="9368" y="9029"/>
                  <a:pt x="9359" y="9029"/>
                  <a:pt x="9351" y="9029"/>
                </a:cubicBezTo>
                <a:cubicBezTo>
                  <a:pt x="9389" y="9000"/>
                  <a:pt x="9402" y="9004"/>
                  <a:pt x="9451" y="9004"/>
                </a:cubicBezTo>
                <a:cubicBezTo>
                  <a:pt x="9474" y="9004"/>
                  <a:pt x="9500" y="9031"/>
                  <a:pt x="9525" y="9054"/>
                </a:cubicBezTo>
                <a:cubicBezTo>
                  <a:pt x="9561" y="9086"/>
                  <a:pt x="9571" y="9157"/>
                  <a:pt x="9575" y="9203"/>
                </a:cubicBezTo>
                <a:cubicBezTo>
                  <a:pt x="9580" y="9267"/>
                  <a:pt x="9563" y="9320"/>
                  <a:pt x="9500" y="9351"/>
                </a:cubicBezTo>
                <a:cubicBezTo>
                  <a:pt x="9441" y="9380"/>
                  <a:pt x="9325" y="9341"/>
                  <a:pt x="9277" y="9327"/>
                </a:cubicBezTo>
                <a:cubicBezTo>
                  <a:pt x="9239" y="9316"/>
                  <a:pt x="9214" y="9289"/>
                  <a:pt x="9178" y="9277"/>
                </a:cubicBezTo>
                <a:cubicBezTo>
                  <a:pt x="9136" y="9263"/>
                  <a:pt x="9150" y="9264"/>
                  <a:pt x="9178" y="9227"/>
                </a:cubicBezTo>
              </a:path>
              <a:path w="5681" h="1663">
                <a:moveTo>
                  <a:pt x="10319" y="8458"/>
                </a:moveTo>
                <a:cubicBezTo>
                  <a:pt x="10311" y="8475"/>
                  <a:pt x="10302" y="8491"/>
                  <a:pt x="10294" y="8508"/>
                </a:cubicBezTo>
                <a:cubicBezTo>
                  <a:pt x="10294" y="8476"/>
                  <a:pt x="10286" y="8442"/>
                  <a:pt x="10269" y="8434"/>
                </a:cubicBezTo>
                <a:cubicBezTo>
                  <a:pt x="10246" y="8423"/>
                  <a:pt x="10221" y="8416"/>
                  <a:pt x="10195" y="8409"/>
                </a:cubicBezTo>
                <a:cubicBezTo>
                  <a:pt x="10165" y="8448"/>
                  <a:pt x="10145" y="8486"/>
                  <a:pt x="10120" y="8533"/>
                </a:cubicBezTo>
                <a:cubicBezTo>
                  <a:pt x="10085" y="8599"/>
                  <a:pt x="10050" y="8657"/>
                  <a:pt x="10046" y="8731"/>
                </a:cubicBezTo>
                <a:cubicBezTo>
                  <a:pt x="10043" y="8786"/>
                  <a:pt x="10043" y="8859"/>
                  <a:pt x="10071" y="8905"/>
                </a:cubicBezTo>
                <a:cubicBezTo>
                  <a:pt x="10097" y="8948"/>
                  <a:pt x="10157" y="8968"/>
                  <a:pt x="10195" y="8979"/>
                </a:cubicBezTo>
                <a:cubicBezTo>
                  <a:pt x="10233" y="8991"/>
                  <a:pt x="10313" y="8946"/>
                  <a:pt x="10344" y="8930"/>
                </a:cubicBezTo>
                <a:cubicBezTo>
                  <a:pt x="10406" y="8897"/>
                  <a:pt x="10408" y="8891"/>
                  <a:pt x="10443" y="8830"/>
                </a:cubicBezTo>
              </a:path>
              <a:path w="5681" h="1663">
                <a:moveTo>
                  <a:pt x="10641" y="8483"/>
                </a:moveTo>
                <a:cubicBezTo>
                  <a:pt x="10623" y="8554"/>
                  <a:pt x="10560" y="8628"/>
                  <a:pt x="10542" y="8706"/>
                </a:cubicBezTo>
                <a:cubicBezTo>
                  <a:pt x="10527" y="8768"/>
                  <a:pt x="10500" y="8828"/>
                  <a:pt x="10542" y="8880"/>
                </a:cubicBezTo>
                <a:cubicBezTo>
                  <a:pt x="10563" y="8906"/>
                  <a:pt x="10608" y="8917"/>
                  <a:pt x="10641" y="8905"/>
                </a:cubicBezTo>
                <a:cubicBezTo>
                  <a:pt x="10704" y="8883"/>
                  <a:pt x="10758" y="8835"/>
                  <a:pt x="10790" y="8781"/>
                </a:cubicBezTo>
                <a:cubicBezTo>
                  <a:pt x="10823" y="8726"/>
                  <a:pt x="10836" y="8645"/>
                  <a:pt x="10840" y="8582"/>
                </a:cubicBezTo>
                <a:cubicBezTo>
                  <a:pt x="10842" y="8549"/>
                  <a:pt x="10824" y="8475"/>
                  <a:pt x="10790" y="8458"/>
                </a:cubicBezTo>
                <a:cubicBezTo>
                  <a:pt x="10749" y="8437"/>
                  <a:pt x="10671" y="8457"/>
                  <a:pt x="10641" y="8483"/>
                </a:cubicBezTo>
                <a:cubicBezTo>
                  <a:pt x="10605" y="8515"/>
                  <a:pt x="10603" y="8545"/>
                  <a:pt x="10641" y="8558"/>
                </a:cubicBezTo>
              </a:path>
              <a:path w="5681" h="1663">
                <a:moveTo>
                  <a:pt x="11063" y="8384"/>
                </a:moveTo>
                <a:cubicBezTo>
                  <a:pt x="11020" y="8416"/>
                  <a:pt x="11013" y="8403"/>
                  <a:pt x="11013" y="8458"/>
                </a:cubicBezTo>
                <a:cubicBezTo>
                  <a:pt x="11013" y="8499"/>
                  <a:pt x="11068" y="8543"/>
                  <a:pt x="11088" y="8582"/>
                </a:cubicBezTo>
                <a:cubicBezTo>
                  <a:pt x="11121" y="8645"/>
                  <a:pt x="11195" y="8743"/>
                  <a:pt x="11212" y="8806"/>
                </a:cubicBezTo>
                <a:cubicBezTo>
                  <a:pt x="11226" y="8858"/>
                  <a:pt x="11184" y="8902"/>
                  <a:pt x="11137" y="8905"/>
                </a:cubicBezTo>
                <a:cubicBezTo>
                  <a:pt x="11074" y="8910"/>
                  <a:pt x="11039" y="8895"/>
                  <a:pt x="10988" y="8880"/>
                </a:cubicBezTo>
                <a:cubicBezTo>
                  <a:pt x="10953" y="8869"/>
                  <a:pt x="10978" y="8870"/>
                  <a:pt x="10988" y="8830"/>
                </a:cubicBezTo>
              </a:path>
              <a:path w="5681" h="1663">
                <a:moveTo>
                  <a:pt x="11534" y="8161"/>
                </a:moveTo>
                <a:cubicBezTo>
                  <a:pt x="11646" y="8137"/>
                  <a:pt x="11741" y="8136"/>
                  <a:pt x="11857" y="8136"/>
                </a:cubicBezTo>
                <a:cubicBezTo>
                  <a:pt x="11915" y="8136"/>
                  <a:pt x="11972" y="8136"/>
                  <a:pt x="12030" y="8136"/>
                </a:cubicBezTo>
              </a:path>
              <a:path w="5681" h="1663">
                <a:moveTo>
                  <a:pt x="11584" y="8186"/>
                </a:moveTo>
                <a:cubicBezTo>
                  <a:pt x="11584" y="8246"/>
                  <a:pt x="11615" y="8539"/>
                  <a:pt x="11609" y="8558"/>
                </a:cubicBezTo>
                <a:cubicBezTo>
                  <a:pt x="11586" y="8580"/>
                  <a:pt x="11575" y="8588"/>
                  <a:pt x="11609" y="8582"/>
                </a:cubicBezTo>
              </a:path>
              <a:path w="5681" h="1663">
                <a:moveTo>
                  <a:pt x="11782" y="8186"/>
                </a:moveTo>
                <a:cubicBezTo>
                  <a:pt x="11782" y="8260"/>
                  <a:pt x="11761" y="8314"/>
                  <a:pt x="11757" y="8384"/>
                </a:cubicBezTo>
                <a:cubicBezTo>
                  <a:pt x="11754" y="8446"/>
                  <a:pt x="11781" y="8509"/>
                  <a:pt x="11807" y="8558"/>
                </a:cubicBezTo>
                <a:cubicBezTo>
                  <a:pt x="11832" y="8603"/>
                  <a:pt x="11870" y="8636"/>
                  <a:pt x="11881" y="8682"/>
                </a:cubicBezTo>
              </a:path>
              <a:path w="5681" h="1663">
                <a:moveTo>
                  <a:pt x="11460" y="8682"/>
                </a:moveTo>
                <a:cubicBezTo>
                  <a:pt x="11435" y="8682"/>
                  <a:pt x="11427" y="8682"/>
                  <a:pt x="11435" y="8706"/>
                </a:cubicBezTo>
                <a:cubicBezTo>
                  <a:pt x="11540" y="8706"/>
                  <a:pt x="11634" y="8714"/>
                  <a:pt x="11733" y="8731"/>
                </a:cubicBezTo>
                <a:cubicBezTo>
                  <a:pt x="11780" y="8739"/>
                  <a:pt x="11833" y="8731"/>
                  <a:pt x="11881" y="8731"/>
                </a:cubicBezTo>
              </a:path>
              <a:path w="5681" h="1663">
                <a:moveTo>
                  <a:pt x="11584" y="8855"/>
                </a:moveTo>
                <a:cubicBezTo>
                  <a:pt x="11565" y="8913"/>
                  <a:pt x="11574" y="8938"/>
                  <a:pt x="11534" y="8930"/>
                </a:cubicBezTo>
                <a:cubicBezTo>
                  <a:pt x="11534" y="8963"/>
                  <a:pt x="11534" y="8996"/>
                  <a:pt x="11534" y="9029"/>
                </a:cubicBezTo>
                <a:cubicBezTo>
                  <a:pt x="11558" y="9037"/>
                  <a:pt x="11581" y="9061"/>
                  <a:pt x="11609" y="9079"/>
                </a:cubicBezTo>
                <a:cubicBezTo>
                  <a:pt x="11629" y="9092"/>
                  <a:pt x="11681" y="9140"/>
                  <a:pt x="11708" y="9128"/>
                </a:cubicBezTo>
                <a:cubicBezTo>
                  <a:pt x="11734" y="9116"/>
                  <a:pt x="11758" y="9096"/>
                  <a:pt x="11782" y="9079"/>
                </a:cubicBezTo>
              </a:path>
              <a:path w="5681" h="1663">
                <a:moveTo>
                  <a:pt x="11832" y="8830"/>
                </a:moveTo>
                <a:cubicBezTo>
                  <a:pt x="11803" y="8917"/>
                  <a:pt x="11767" y="9013"/>
                  <a:pt x="11757" y="9103"/>
                </a:cubicBezTo>
                <a:cubicBezTo>
                  <a:pt x="11746" y="9196"/>
                  <a:pt x="11698" y="9265"/>
                  <a:pt x="11683" y="9351"/>
                </a:cubicBezTo>
                <a:cubicBezTo>
                  <a:pt x="11673" y="9408"/>
                  <a:pt x="11658" y="9446"/>
                  <a:pt x="11658" y="9500"/>
                </a:cubicBezTo>
                <a:cubicBezTo>
                  <a:pt x="11658" y="9528"/>
                  <a:pt x="11660" y="9534"/>
                  <a:pt x="11683" y="9500"/>
                </a:cubicBezTo>
              </a:path>
              <a:path w="5681" h="1663">
                <a:moveTo>
                  <a:pt x="12725" y="8508"/>
                </a:moveTo>
                <a:cubicBezTo>
                  <a:pt x="12725" y="8629"/>
                  <a:pt x="12716" y="8738"/>
                  <a:pt x="12700" y="8855"/>
                </a:cubicBezTo>
                <a:cubicBezTo>
                  <a:pt x="12694" y="8902"/>
                  <a:pt x="12700" y="9088"/>
                  <a:pt x="12700" y="9054"/>
                </a:cubicBezTo>
              </a:path>
              <a:path w="5681" h="1663">
                <a:moveTo>
                  <a:pt x="12402" y="8682"/>
                </a:moveTo>
                <a:cubicBezTo>
                  <a:pt x="12483" y="8703"/>
                  <a:pt x="12543" y="8706"/>
                  <a:pt x="12626" y="8706"/>
                </a:cubicBezTo>
                <a:cubicBezTo>
                  <a:pt x="12703" y="8706"/>
                  <a:pt x="12753" y="8699"/>
                  <a:pt x="12824" y="8682"/>
                </a:cubicBezTo>
                <a:cubicBezTo>
                  <a:pt x="12873" y="8670"/>
                  <a:pt x="12907" y="8705"/>
                  <a:pt x="12923" y="86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29120" y="2919240"/>
            <a:ext cx="1544760" cy="590760"/>
          </a:xfrm>
          <a:custGeom>
            <a:avLst/>
            <a:gdLst/>
            <a:ahLst/>
            <a:rect l="l" t="t" r="r" b="b"/>
            <a:pathLst>
              <a:path w="4292" h="1638">
                <a:moveTo>
                  <a:pt x="14064" y="8434"/>
                </a:moveTo>
                <a:cubicBezTo>
                  <a:pt x="14064" y="8450"/>
                  <a:pt x="14064" y="8467"/>
                  <a:pt x="14064" y="8483"/>
                </a:cubicBezTo>
                <a:cubicBezTo>
                  <a:pt x="14064" y="8433"/>
                  <a:pt x="14053" y="8425"/>
                  <a:pt x="14039" y="8384"/>
                </a:cubicBezTo>
                <a:cubicBezTo>
                  <a:pt x="14022" y="8334"/>
                  <a:pt x="14001" y="8316"/>
                  <a:pt x="13940" y="8310"/>
                </a:cubicBezTo>
                <a:cubicBezTo>
                  <a:pt x="13885" y="8305"/>
                  <a:pt x="13851" y="8349"/>
                  <a:pt x="13816" y="8384"/>
                </a:cubicBezTo>
                <a:cubicBezTo>
                  <a:pt x="13751" y="8449"/>
                  <a:pt x="13739" y="8476"/>
                  <a:pt x="13717" y="8558"/>
                </a:cubicBezTo>
                <a:cubicBezTo>
                  <a:pt x="13698" y="8630"/>
                  <a:pt x="13685" y="8686"/>
                  <a:pt x="13717" y="8756"/>
                </a:cubicBezTo>
                <a:cubicBezTo>
                  <a:pt x="13740" y="8806"/>
                  <a:pt x="13800" y="8814"/>
                  <a:pt x="13841" y="8830"/>
                </a:cubicBezTo>
                <a:cubicBezTo>
                  <a:pt x="13907" y="8856"/>
                  <a:pt x="13922" y="8856"/>
                  <a:pt x="13990" y="8830"/>
                </a:cubicBezTo>
                <a:cubicBezTo>
                  <a:pt x="14006" y="8822"/>
                  <a:pt x="14023" y="8814"/>
                  <a:pt x="14039" y="8806"/>
                </a:cubicBezTo>
              </a:path>
              <a:path w="4292" h="1638">
                <a:moveTo>
                  <a:pt x="14312" y="8409"/>
                </a:moveTo>
                <a:cubicBezTo>
                  <a:pt x="14264" y="8527"/>
                  <a:pt x="14238" y="8583"/>
                  <a:pt x="14238" y="8706"/>
                </a:cubicBezTo>
                <a:cubicBezTo>
                  <a:pt x="14238" y="8736"/>
                  <a:pt x="14237" y="8813"/>
                  <a:pt x="14263" y="8830"/>
                </a:cubicBezTo>
                <a:cubicBezTo>
                  <a:pt x="14288" y="8830"/>
                  <a:pt x="14296" y="8830"/>
                  <a:pt x="14288" y="8855"/>
                </a:cubicBezTo>
                <a:cubicBezTo>
                  <a:pt x="14338" y="8848"/>
                  <a:pt x="14390" y="8836"/>
                  <a:pt x="14436" y="8806"/>
                </a:cubicBezTo>
                <a:cubicBezTo>
                  <a:pt x="14480" y="8777"/>
                  <a:pt x="14525" y="8706"/>
                  <a:pt x="14536" y="8657"/>
                </a:cubicBezTo>
                <a:cubicBezTo>
                  <a:pt x="14547" y="8610"/>
                  <a:pt x="14579" y="8535"/>
                  <a:pt x="14560" y="8483"/>
                </a:cubicBezTo>
                <a:cubicBezTo>
                  <a:pt x="14548" y="8450"/>
                  <a:pt x="14491" y="8412"/>
                  <a:pt x="14461" y="8409"/>
                </a:cubicBezTo>
                <a:cubicBezTo>
                  <a:pt x="14440" y="8407"/>
                  <a:pt x="14358" y="8423"/>
                  <a:pt x="14337" y="8434"/>
                </a:cubicBezTo>
                <a:cubicBezTo>
                  <a:pt x="14282" y="8463"/>
                  <a:pt x="14265" y="8471"/>
                  <a:pt x="14337" y="8483"/>
                </a:cubicBezTo>
              </a:path>
              <a:path w="4292" h="1638">
                <a:moveTo>
                  <a:pt x="14858" y="8285"/>
                </a:moveTo>
                <a:cubicBezTo>
                  <a:pt x="14781" y="8293"/>
                  <a:pt x="14750" y="8315"/>
                  <a:pt x="14684" y="8334"/>
                </a:cubicBezTo>
                <a:cubicBezTo>
                  <a:pt x="14642" y="8346"/>
                  <a:pt x="14655" y="8376"/>
                  <a:pt x="14684" y="8409"/>
                </a:cubicBezTo>
                <a:cubicBezTo>
                  <a:pt x="14732" y="8464"/>
                  <a:pt x="14789" y="8500"/>
                  <a:pt x="14833" y="8558"/>
                </a:cubicBezTo>
                <a:cubicBezTo>
                  <a:pt x="14876" y="8614"/>
                  <a:pt x="14957" y="8702"/>
                  <a:pt x="14932" y="8781"/>
                </a:cubicBezTo>
                <a:cubicBezTo>
                  <a:pt x="14920" y="8820"/>
                  <a:pt x="14860" y="8843"/>
                  <a:pt x="14833" y="8855"/>
                </a:cubicBezTo>
                <a:cubicBezTo>
                  <a:pt x="14778" y="8879"/>
                  <a:pt x="14739" y="8889"/>
                  <a:pt x="14684" y="8855"/>
                </a:cubicBezTo>
                <a:cubicBezTo>
                  <a:pt x="14622" y="8817"/>
                  <a:pt x="14642" y="8835"/>
                  <a:pt x="14660" y="8781"/>
                </a:cubicBezTo>
                <a:cubicBezTo>
                  <a:pt x="14660" y="8773"/>
                  <a:pt x="14660" y="8764"/>
                  <a:pt x="14660" y="8756"/>
                </a:cubicBezTo>
              </a:path>
              <a:path w="4292" h="1638">
                <a:moveTo>
                  <a:pt x="15280" y="8161"/>
                </a:moveTo>
                <a:cubicBezTo>
                  <a:pt x="15374" y="8161"/>
                  <a:pt x="15443" y="8147"/>
                  <a:pt x="15528" y="8136"/>
                </a:cubicBezTo>
                <a:cubicBezTo>
                  <a:pt x="15581" y="8129"/>
                  <a:pt x="15714" y="8169"/>
                  <a:pt x="15677" y="8111"/>
                </a:cubicBezTo>
              </a:path>
              <a:path w="4292" h="1638">
                <a:moveTo>
                  <a:pt x="15329" y="8235"/>
                </a:moveTo>
                <a:cubicBezTo>
                  <a:pt x="15315" y="8344"/>
                  <a:pt x="15304" y="8428"/>
                  <a:pt x="15304" y="8533"/>
                </a:cubicBezTo>
                <a:cubicBezTo>
                  <a:pt x="15304" y="8574"/>
                  <a:pt x="15304" y="8648"/>
                  <a:pt x="15304" y="8607"/>
                </a:cubicBezTo>
              </a:path>
              <a:path w="4292" h="1638">
                <a:moveTo>
                  <a:pt x="15528" y="8111"/>
                </a:moveTo>
                <a:cubicBezTo>
                  <a:pt x="15528" y="8211"/>
                  <a:pt x="15512" y="8289"/>
                  <a:pt x="15503" y="8384"/>
                </a:cubicBezTo>
                <a:cubicBezTo>
                  <a:pt x="15491" y="8508"/>
                  <a:pt x="15520" y="8509"/>
                  <a:pt x="15553" y="8607"/>
                </a:cubicBezTo>
                <a:cubicBezTo>
                  <a:pt x="15567" y="8648"/>
                  <a:pt x="15593" y="8684"/>
                  <a:pt x="15602" y="8731"/>
                </a:cubicBezTo>
              </a:path>
              <a:path w="4292" h="1638">
                <a:moveTo>
                  <a:pt x="15131" y="8781"/>
                </a:moveTo>
                <a:cubicBezTo>
                  <a:pt x="15236" y="8804"/>
                  <a:pt x="15321" y="8806"/>
                  <a:pt x="15429" y="8806"/>
                </a:cubicBezTo>
                <a:cubicBezTo>
                  <a:pt x="15520" y="8806"/>
                  <a:pt x="15610" y="8806"/>
                  <a:pt x="15701" y="8806"/>
                </a:cubicBezTo>
              </a:path>
              <a:path w="4292" h="1638">
                <a:moveTo>
                  <a:pt x="15280" y="9004"/>
                </a:moveTo>
                <a:cubicBezTo>
                  <a:pt x="15335" y="9004"/>
                  <a:pt x="15351" y="8992"/>
                  <a:pt x="15404" y="8979"/>
                </a:cubicBezTo>
                <a:cubicBezTo>
                  <a:pt x="15469" y="8963"/>
                  <a:pt x="15575" y="8973"/>
                  <a:pt x="15602" y="9004"/>
                </a:cubicBezTo>
                <a:cubicBezTo>
                  <a:pt x="15645" y="9054"/>
                  <a:pt x="15619" y="9061"/>
                  <a:pt x="15577" y="9103"/>
                </a:cubicBezTo>
                <a:cubicBezTo>
                  <a:pt x="15542" y="9138"/>
                  <a:pt x="15527" y="9206"/>
                  <a:pt x="15478" y="9227"/>
                </a:cubicBezTo>
                <a:cubicBezTo>
                  <a:pt x="15420" y="9252"/>
                  <a:pt x="15419" y="9234"/>
                  <a:pt x="15478" y="9227"/>
                </a:cubicBezTo>
                <a:cubicBezTo>
                  <a:pt x="15511" y="9223"/>
                  <a:pt x="15555" y="9235"/>
                  <a:pt x="15577" y="9252"/>
                </a:cubicBezTo>
                <a:cubicBezTo>
                  <a:pt x="15609" y="9277"/>
                  <a:pt x="15667" y="9358"/>
                  <a:pt x="15677" y="9401"/>
                </a:cubicBezTo>
                <a:cubicBezTo>
                  <a:pt x="15688" y="9448"/>
                  <a:pt x="15655" y="9543"/>
                  <a:pt x="15627" y="9575"/>
                </a:cubicBezTo>
                <a:cubicBezTo>
                  <a:pt x="15598" y="9607"/>
                  <a:pt x="15495" y="9599"/>
                  <a:pt x="15453" y="9599"/>
                </a:cubicBezTo>
                <a:cubicBezTo>
                  <a:pt x="15376" y="9599"/>
                  <a:pt x="15321" y="9596"/>
                  <a:pt x="15255" y="9550"/>
                </a:cubicBezTo>
                <a:cubicBezTo>
                  <a:pt x="15232" y="9534"/>
                  <a:pt x="15147" y="9518"/>
                  <a:pt x="15156" y="9475"/>
                </a:cubicBezTo>
                <a:cubicBezTo>
                  <a:pt x="15178" y="9453"/>
                  <a:pt x="15186" y="9448"/>
                  <a:pt x="15180" y="9426"/>
                </a:cubicBezTo>
              </a:path>
              <a:path w="4292" h="1638">
                <a:moveTo>
                  <a:pt x="16321" y="8384"/>
                </a:moveTo>
                <a:cubicBezTo>
                  <a:pt x="16344" y="8407"/>
                  <a:pt x="16352" y="8411"/>
                  <a:pt x="16346" y="8434"/>
                </a:cubicBezTo>
                <a:cubicBezTo>
                  <a:pt x="16346" y="8381"/>
                  <a:pt x="16350" y="8382"/>
                  <a:pt x="16321" y="8359"/>
                </a:cubicBezTo>
                <a:cubicBezTo>
                  <a:pt x="16289" y="8334"/>
                  <a:pt x="16248" y="8264"/>
                  <a:pt x="16197" y="8285"/>
                </a:cubicBezTo>
                <a:cubicBezTo>
                  <a:pt x="16157" y="8301"/>
                  <a:pt x="16119" y="8332"/>
                  <a:pt x="16098" y="8359"/>
                </a:cubicBezTo>
                <a:cubicBezTo>
                  <a:pt x="16072" y="8392"/>
                  <a:pt x="16052" y="8427"/>
                  <a:pt x="16098" y="8458"/>
                </a:cubicBezTo>
                <a:cubicBezTo>
                  <a:pt x="16165" y="8503"/>
                  <a:pt x="16213" y="8523"/>
                  <a:pt x="16272" y="8582"/>
                </a:cubicBezTo>
                <a:cubicBezTo>
                  <a:pt x="16323" y="8633"/>
                  <a:pt x="16383" y="8711"/>
                  <a:pt x="16396" y="8781"/>
                </a:cubicBezTo>
                <a:cubicBezTo>
                  <a:pt x="16410" y="8858"/>
                  <a:pt x="16366" y="8832"/>
                  <a:pt x="16321" y="8855"/>
                </a:cubicBezTo>
                <a:cubicBezTo>
                  <a:pt x="16247" y="8892"/>
                  <a:pt x="16249" y="8869"/>
                  <a:pt x="16173" y="8855"/>
                </a:cubicBezTo>
                <a:cubicBezTo>
                  <a:pt x="16161" y="8853"/>
                  <a:pt x="16044" y="8871"/>
                  <a:pt x="16049" y="8830"/>
                </a:cubicBezTo>
                <a:cubicBezTo>
                  <a:pt x="16057" y="8822"/>
                  <a:pt x="16065" y="8814"/>
                  <a:pt x="16073" y="8806"/>
                </a:cubicBezTo>
              </a:path>
              <a:path w="4292" h="1638">
                <a:moveTo>
                  <a:pt x="16644" y="8458"/>
                </a:moveTo>
                <a:cubicBezTo>
                  <a:pt x="16644" y="8566"/>
                  <a:pt x="16636" y="8656"/>
                  <a:pt x="16619" y="8756"/>
                </a:cubicBezTo>
                <a:cubicBezTo>
                  <a:pt x="16612" y="8797"/>
                  <a:pt x="16619" y="8871"/>
                  <a:pt x="16619" y="8830"/>
                </a:cubicBezTo>
              </a:path>
              <a:path w="4292" h="1638">
                <a:moveTo>
                  <a:pt x="16694" y="8210"/>
                </a:moveTo>
                <a:cubicBezTo>
                  <a:pt x="16710" y="8210"/>
                  <a:pt x="16727" y="8210"/>
                  <a:pt x="16743" y="8210"/>
                </a:cubicBezTo>
              </a:path>
              <a:path w="4292" h="1638">
                <a:moveTo>
                  <a:pt x="16768" y="8706"/>
                </a:moveTo>
                <a:cubicBezTo>
                  <a:pt x="16764" y="8766"/>
                  <a:pt x="16731" y="8868"/>
                  <a:pt x="16768" y="8880"/>
                </a:cubicBezTo>
                <a:cubicBezTo>
                  <a:pt x="16768" y="8787"/>
                  <a:pt x="16753" y="8691"/>
                  <a:pt x="16793" y="8607"/>
                </a:cubicBezTo>
                <a:cubicBezTo>
                  <a:pt x="16811" y="8569"/>
                  <a:pt x="16843" y="8472"/>
                  <a:pt x="16892" y="8458"/>
                </a:cubicBezTo>
                <a:cubicBezTo>
                  <a:pt x="17021" y="8421"/>
                  <a:pt x="17046" y="8540"/>
                  <a:pt x="17090" y="8632"/>
                </a:cubicBezTo>
                <a:cubicBezTo>
                  <a:pt x="17122" y="8699"/>
                  <a:pt x="17115" y="8757"/>
                  <a:pt x="17115" y="8830"/>
                </a:cubicBezTo>
                <a:cubicBezTo>
                  <a:pt x="17115" y="8875"/>
                  <a:pt x="17090" y="8999"/>
                  <a:pt x="17090" y="8954"/>
                </a:cubicBezTo>
                <a:cubicBezTo>
                  <a:pt x="17090" y="8930"/>
                  <a:pt x="17090" y="8921"/>
                  <a:pt x="17090" y="8905"/>
                </a:cubicBezTo>
              </a:path>
              <a:path w="4292" h="1638">
                <a:moveTo>
                  <a:pt x="17413" y="8260"/>
                </a:moveTo>
                <a:cubicBezTo>
                  <a:pt x="17501" y="8266"/>
                  <a:pt x="17600" y="8267"/>
                  <a:pt x="17686" y="8285"/>
                </a:cubicBezTo>
                <a:cubicBezTo>
                  <a:pt x="17765" y="8302"/>
                  <a:pt x="17828" y="8310"/>
                  <a:pt x="17909" y="8310"/>
                </a:cubicBezTo>
                <a:cubicBezTo>
                  <a:pt x="17950" y="8310"/>
                  <a:pt x="17958" y="8310"/>
                  <a:pt x="17983" y="8310"/>
                </a:cubicBezTo>
              </a:path>
              <a:path w="4292" h="1638">
                <a:moveTo>
                  <a:pt x="17636" y="8334"/>
                </a:moveTo>
                <a:cubicBezTo>
                  <a:pt x="17561" y="8448"/>
                  <a:pt x="17518" y="8520"/>
                  <a:pt x="17512" y="8657"/>
                </a:cubicBezTo>
                <a:cubicBezTo>
                  <a:pt x="17509" y="8717"/>
                  <a:pt x="17506" y="8784"/>
                  <a:pt x="17537" y="8830"/>
                </a:cubicBezTo>
                <a:cubicBezTo>
                  <a:pt x="17560" y="8865"/>
                  <a:pt x="17570" y="8906"/>
                  <a:pt x="17587" y="8855"/>
                </a:cubicBezTo>
              </a:path>
              <a:path w="4292" h="1638">
                <a:moveTo>
                  <a:pt x="17735" y="8384"/>
                </a:moveTo>
                <a:cubicBezTo>
                  <a:pt x="17763" y="8475"/>
                  <a:pt x="17760" y="8560"/>
                  <a:pt x="17760" y="8657"/>
                </a:cubicBezTo>
                <a:cubicBezTo>
                  <a:pt x="17760" y="8734"/>
                  <a:pt x="17790" y="8795"/>
                  <a:pt x="17835" y="8855"/>
                </a:cubicBezTo>
                <a:cubicBezTo>
                  <a:pt x="17866" y="8897"/>
                  <a:pt x="17885" y="8905"/>
                  <a:pt x="17934" y="8905"/>
                </a:cubicBezTo>
              </a:path>
              <a:path w="4292" h="1638">
                <a:moveTo>
                  <a:pt x="17289" y="8930"/>
                </a:moveTo>
                <a:cubicBezTo>
                  <a:pt x="17314" y="8967"/>
                  <a:pt x="17378" y="8954"/>
                  <a:pt x="17438" y="8954"/>
                </a:cubicBezTo>
                <a:cubicBezTo>
                  <a:pt x="17543" y="8954"/>
                  <a:pt x="17635" y="8941"/>
                  <a:pt x="17735" y="8930"/>
                </a:cubicBezTo>
                <a:cubicBezTo>
                  <a:pt x="17815" y="8930"/>
                  <a:pt x="17844" y="8927"/>
                  <a:pt x="17884" y="8880"/>
                </a:cubicBezTo>
              </a:path>
              <a:path w="4292" h="1638">
                <a:moveTo>
                  <a:pt x="17487" y="9103"/>
                </a:moveTo>
                <a:cubicBezTo>
                  <a:pt x="17456" y="9207"/>
                  <a:pt x="17462" y="9176"/>
                  <a:pt x="17487" y="9252"/>
                </a:cubicBezTo>
                <a:cubicBezTo>
                  <a:pt x="17501" y="9295"/>
                  <a:pt x="17511" y="9340"/>
                  <a:pt x="17562" y="9351"/>
                </a:cubicBezTo>
                <a:cubicBezTo>
                  <a:pt x="17662" y="9372"/>
                  <a:pt x="17701" y="9374"/>
                  <a:pt x="17785" y="9327"/>
                </a:cubicBezTo>
              </a:path>
              <a:path w="4292" h="1638">
                <a:moveTo>
                  <a:pt x="17810" y="9054"/>
                </a:moveTo>
                <a:cubicBezTo>
                  <a:pt x="17784" y="9171"/>
                  <a:pt x="17740" y="9283"/>
                  <a:pt x="17735" y="9401"/>
                </a:cubicBezTo>
                <a:cubicBezTo>
                  <a:pt x="17732" y="9469"/>
                  <a:pt x="17760" y="9527"/>
                  <a:pt x="17760" y="9599"/>
                </a:cubicBezTo>
                <a:cubicBezTo>
                  <a:pt x="17760" y="9658"/>
                  <a:pt x="17785" y="9685"/>
                  <a:pt x="17785" y="97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87760" y="3500280"/>
            <a:ext cx="519120" cy="1081080"/>
          </a:xfrm>
          <a:custGeom>
            <a:avLst/>
            <a:gdLst/>
            <a:ahLst/>
            <a:rect l="l" t="t" r="r" b="b"/>
            <a:pathLst>
              <a:path w="1440" h="3003">
                <a:moveTo>
                  <a:pt x="8186" y="9723"/>
                </a:moveTo>
                <a:cubicBezTo>
                  <a:pt x="8186" y="9821"/>
                  <a:pt x="8173" y="9905"/>
                  <a:pt x="8161" y="9996"/>
                </a:cubicBezTo>
                <a:cubicBezTo>
                  <a:pt x="8150" y="10080"/>
                  <a:pt x="8148" y="10162"/>
                  <a:pt x="8136" y="10244"/>
                </a:cubicBezTo>
                <a:cubicBezTo>
                  <a:pt x="8125" y="10317"/>
                  <a:pt x="8115" y="10395"/>
                  <a:pt x="8111" y="10468"/>
                </a:cubicBezTo>
                <a:cubicBezTo>
                  <a:pt x="8108" y="10524"/>
                  <a:pt x="8091" y="10563"/>
                  <a:pt x="8086" y="10616"/>
                </a:cubicBezTo>
                <a:cubicBezTo>
                  <a:pt x="8084" y="10640"/>
                  <a:pt x="8086" y="10667"/>
                  <a:pt x="8086" y="10691"/>
                </a:cubicBezTo>
              </a:path>
              <a:path w="1440" h="3003">
                <a:moveTo>
                  <a:pt x="7714" y="10567"/>
                </a:moveTo>
                <a:cubicBezTo>
                  <a:pt x="7761" y="10579"/>
                  <a:pt x="7771" y="10622"/>
                  <a:pt x="7813" y="10641"/>
                </a:cubicBezTo>
                <a:cubicBezTo>
                  <a:pt x="7854" y="10659"/>
                  <a:pt x="7877" y="10681"/>
                  <a:pt x="7913" y="10716"/>
                </a:cubicBezTo>
                <a:cubicBezTo>
                  <a:pt x="7928" y="10730"/>
                  <a:pt x="7994" y="10785"/>
                  <a:pt x="8012" y="10790"/>
                </a:cubicBezTo>
                <a:cubicBezTo>
                  <a:pt x="8048" y="10800"/>
                  <a:pt x="8137" y="10839"/>
                  <a:pt x="8161" y="10790"/>
                </a:cubicBezTo>
                <a:cubicBezTo>
                  <a:pt x="8161" y="10782"/>
                  <a:pt x="8161" y="10773"/>
                  <a:pt x="8161" y="10765"/>
                </a:cubicBezTo>
                <a:cubicBezTo>
                  <a:pt x="8201" y="10752"/>
                  <a:pt x="8186" y="10726"/>
                  <a:pt x="8210" y="10691"/>
                </a:cubicBezTo>
                <a:cubicBezTo>
                  <a:pt x="8232" y="10658"/>
                  <a:pt x="8266" y="10620"/>
                  <a:pt x="8285" y="10592"/>
                </a:cubicBezTo>
                <a:cubicBezTo>
                  <a:pt x="8313" y="10551"/>
                  <a:pt x="8347" y="10540"/>
                  <a:pt x="8359" y="10492"/>
                </a:cubicBezTo>
                <a:cubicBezTo>
                  <a:pt x="8391" y="10482"/>
                  <a:pt x="8398" y="10475"/>
                  <a:pt x="8409" y="10443"/>
                </a:cubicBezTo>
                <a:cubicBezTo>
                  <a:pt x="8409" y="10451"/>
                  <a:pt x="8409" y="10460"/>
                  <a:pt x="8409" y="10468"/>
                </a:cubicBezTo>
              </a:path>
              <a:path w="1440" h="3003">
                <a:moveTo>
                  <a:pt x="7590" y="11286"/>
                </a:moveTo>
                <a:cubicBezTo>
                  <a:pt x="7611" y="11356"/>
                  <a:pt x="7615" y="11389"/>
                  <a:pt x="7615" y="11460"/>
                </a:cubicBezTo>
                <a:cubicBezTo>
                  <a:pt x="7615" y="11543"/>
                  <a:pt x="7641" y="11690"/>
                  <a:pt x="7590" y="11757"/>
                </a:cubicBezTo>
                <a:cubicBezTo>
                  <a:pt x="7590" y="11683"/>
                  <a:pt x="7603" y="11627"/>
                  <a:pt x="7615" y="11559"/>
                </a:cubicBezTo>
                <a:cubicBezTo>
                  <a:pt x="7627" y="11493"/>
                  <a:pt x="7629" y="11417"/>
                  <a:pt x="7640" y="11361"/>
                </a:cubicBezTo>
                <a:cubicBezTo>
                  <a:pt x="7650" y="11313"/>
                  <a:pt x="7657" y="11251"/>
                  <a:pt x="7665" y="11212"/>
                </a:cubicBezTo>
                <a:cubicBezTo>
                  <a:pt x="7677" y="11153"/>
                  <a:pt x="7674" y="11119"/>
                  <a:pt x="7689" y="11088"/>
                </a:cubicBezTo>
                <a:cubicBezTo>
                  <a:pt x="7711" y="11042"/>
                  <a:pt x="7715" y="11081"/>
                  <a:pt x="7764" y="11063"/>
                </a:cubicBezTo>
                <a:cubicBezTo>
                  <a:pt x="7829" y="11039"/>
                  <a:pt x="7866" y="11038"/>
                  <a:pt x="7938" y="11038"/>
                </a:cubicBezTo>
                <a:cubicBezTo>
                  <a:pt x="7997" y="11038"/>
                  <a:pt x="8041" y="11054"/>
                  <a:pt x="8086" y="11063"/>
                </a:cubicBezTo>
                <a:cubicBezTo>
                  <a:pt x="8128" y="11063"/>
                  <a:pt x="8136" y="11063"/>
                  <a:pt x="8161" y="11063"/>
                </a:cubicBezTo>
              </a:path>
              <a:path w="1440" h="3003">
                <a:moveTo>
                  <a:pt x="7764" y="11261"/>
                </a:moveTo>
                <a:cubicBezTo>
                  <a:pt x="7808" y="11252"/>
                  <a:pt x="7842" y="11237"/>
                  <a:pt x="7888" y="11237"/>
                </a:cubicBezTo>
                <a:cubicBezTo>
                  <a:pt x="7937" y="11237"/>
                  <a:pt x="7947" y="11248"/>
                  <a:pt x="7987" y="11261"/>
                </a:cubicBezTo>
                <a:cubicBezTo>
                  <a:pt x="8009" y="11268"/>
                  <a:pt x="8032" y="11300"/>
                  <a:pt x="8012" y="11336"/>
                </a:cubicBezTo>
                <a:cubicBezTo>
                  <a:pt x="7985" y="11385"/>
                  <a:pt x="7951" y="11410"/>
                  <a:pt x="7913" y="11435"/>
                </a:cubicBezTo>
                <a:cubicBezTo>
                  <a:pt x="7886" y="11453"/>
                  <a:pt x="7818" y="11460"/>
                  <a:pt x="7863" y="11460"/>
                </a:cubicBezTo>
                <a:cubicBezTo>
                  <a:pt x="7915" y="11460"/>
                  <a:pt x="7945" y="11472"/>
                  <a:pt x="7987" y="11485"/>
                </a:cubicBezTo>
                <a:cubicBezTo>
                  <a:pt x="8043" y="11502"/>
                  <a:pt x="8069" y="11517"/>
                  <a:pt x="8111" y="11559"/>
                </a:cubicBezTo>
                <a:cubicBezTo>
                  <a:pt x="8144" y="11592"/>
                  <a:pt x="8136" y="11614"/>
                  <a:pt x="8136" y="11658"/>
                </a:cubicBezTo>
                <a:cubicBezTo>
                  <a:pt x="8136" y="11672"/>
                  <a:pt x="8086" y="11726"/>
                  <a:pt x="8062" y="11733"/>
                </a:cubicBezTo>
                <a:cubicBezTo>
                  <a:pt x="7993" y="11753"/>
                  <a:pt x="7885" y="11733"/>
                  <a:pt x="7813" y="11733"/>
                </a:cubicBezTo>
              </a:path>
              <a:path w="1440" h="3003">
                <a:moveTo>
                  <a:pt x="7466" y="11931"/>
                </a:moveTo>
                <a:cubicBezTo>
                  <a:pt x="7714" y="11931"/>
                  <a:pt x="8409" y="11931"/>
                  <a:pt x="8161" y="11931"/>
                </a:cubicBezTo>
              </a:path>
              <a:path w="1440" h="3003">
                <a:moveTo>
                  <a:pt x="7739" y="12129"/>
                </a:moveTo>
                <a:cubicBezTo>
                  <a:pt x="7784" y="12129"/>
                  <a:pt x="7798" y="12109"/>
                  <a:pt x="7838" y="12105"/>
                </a:cubicBezTo>
                <a:cubicBezTo>
                  <a:pt x="7888" y="12100"/>
                  <a:pt x="7902" y="12080"/>
                  <a:pt x="7962" y="12080"/>
                </a:cubicBezTo>
                <a:cubicBezTo>
                  <a:pt x="8013" y="12080"/>
                  <a:pt x="8021" y="12091"/>
                  <a:pt x="8062" y="12105"/>
                </a:cubicBezTo>
                <a:cubicBezTo>
                  <a:pt x="8076" y="12110"/>
                  <a:pt x="8151" y="12147"/>
                  <a:pt x="8111" y="12179"/>
                </a:cubicBezTo>
                <a:cubicBezTo>
                  <a:pt x="8085" y="12200"/>
                  <a:pt x="8085" y="12220"/>
                  <a:pt x="8062" y="12254"/>
                </a:cubicBezTo>
                <a:cubicBezTo>
                  <a:pt x="8025" y="12308"/>
                  <a:pt x="7977" y="12333"/>
                  <a:pt x="7938" y="12378"/>
                </a:cubicBezTo>
                <a:cubicBezTo>
                  <a:pt x="7895" y="12428"/>
                  <a:pt x="7862" y="12477"/>
                  <a:pt x="7813" y="12526"/>
                </a:cubicBezTo>
                <a:cubicBezTo>
                  <a:pt x="7781" y="12558"/>
                  <a:pt x="7755" y="12554"/>
                  <a:pt x="7739" y="12601"/>
                </a:cubicBezTo>
                <a:cubicBezTo>
                  <a:pt x="7739" y="12609"/>
                  <a:pt x="7739" y="12618"/>
                  <a:pt x="7739" y="12626"/>
                </a:cubicBezTo>
                <a:cubicBezTo>
                  <a:pt x="7783" y="12657"/>
                  <a:pt x="7806" y="12670"/>
                  <a:pt x="7863" y="12675"/>
                </a:cubicBezTo>
                <a:cubicBezTo>
                  <a:pt x="7921" y="12680"/>
                  <a:pt x="7958" y="12690"/>
                  <a:pt x="8012" y="12700"/>
                </a:cubicBezTo>
                <a:cubicBezTo>
                  <a:pt x="8077" y="12712"/>
                  <a:pt x="8155" y="12714"/>
                  <a:pt x="8210" y="12725"/>
                </a:cubicBezTo>
                <a:cubicBezTo>
                  <a:pt x="8267" y="12737"/>
                  <a:pt x="8290" y="12728"/>
                  <a:pt x="8310" y="12700"/>
                </a:cubicBezTo>
                <a:cubicBezTo>
                  <a:pt x="8318" y="12692"/>
                  <a:pt x="8326" y="12683"/>
                  <a:pt x="8334" y="12675"/>
                </a:cubicBezTo>
              </a:path>
              <a:path w="1440" h="3003">
                <a:moveTo>
                  <a:pt x="8905" y="11807"/>
                </a:moveTo>
                <a:cubicBezTo>
                  <a:pt x="8880" y="11807"/>
                  <a:pt x="8872" y="11807"/>
                  <a:pt x="8855" y="118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63920" y="3938760"/>
            <a:ext cx="295200" cy="669600"/>
          </a:xfrm>
          <a:custGeom>
            <a:avLst/>
            <a:gdLst/>
            <a:ahLst/>
            <a:rect l="l" t="t" r="r" b="b"/>
            <a:pathLst>
              <a:path w="820" h="1861">
                <a:moveTo>
                  <a:pt x="9723" y="11212"/>
                </a:moveTo>
                <a:cubicBezTo>
                  <a:pt x="9723" y="11261"/>
                  <a:pt x="9740" y="11298"/>
                  <a:pt x="9748" y="11336"/>
                </a:cubicBezTo>
                <a:cubicBezTo>
                  <a:pt x="9763" y="11408"/>
                  <a:pt x="9727" y="11466"/>
                  <a:pt x="9723" y="11534"/>
                </a:cubicBezTo>
                <a:cubicBezTo>
                  <a:pt x="9719" y="11611"/>
                  <a:pt x="9735" y="11670"/>
                  <a:pt x="9748" y="11733"/>
                </a:cubicBezTo>
                <a:cubicBezTo>
                  <a:pt x="9748" y="11777"/>
                  <a:pt x="9745" y="11791"/>
                  <a:pt x="9773" y="11807"/>
                </a:cubicBezTo>
                <a:cubicBezTo>
                  <a:pt x="9773" y="11685"/>
                  <a:pt x="9767" y="11574"/>
                  <a:pt x="9748" y="11460"/>
                </a:cubicBezTo>
                <a:cubicBezTo>
                  <a:pt x="9737" y="11394"/>
                  <a:pt x="9728" y="11326"/>
                  <a:pt x="9723" y="11261"/>
                </a:cubicBezTo>
                <a:cubicBezTo>
                  <a:pt x="9717" y="11183"/>
                  <a:pt x="9703" y="11055"/>
                  <a:pt x="9748" y="10988"/>
                </a:cubicBezTo>
                <a:cubicBezTo>
                  <a:pt x="9777" y="10945"/>
                  <a:pt x="9852" y="10964"/>
                  <a:pt x="9897" y="10964"/>
                </a:cubicBezTo>
                <a:cubicBezTo>
                  <a:pt x="9967" y="10964"/>
                  <a:pt x="10023" y="10939"/>
                  <a:pt x="10096" y="10939"/>
                </a:cubicBezTo>
                <a:cubicBezTo>
                  <a:pt x="10174" y="10939"/>
                  <a:pt x="10229" y="10944"/>
                  <a:pt x="10294" y="10964"/>
                </a:cubicBezTo>
                <a:cubicBezTo>
                  <a:pt x="10301" y="10966"/>
                  <a:pt x="10387" y="10964"/>
                  <a:pt x="10319" y="10964"/>
                </a:cubicBezTo>
              </a:path>
              <a:path w="820" h="1861">
                <a:moveTo>
                  <a:pt x="9922" y="11261"/>
                </a:moveTo>
                <a:cubicBezTo>
                  <a:pt x="9962" y="11251"/>
                  <a:pt x="9985" y="11224"/>
                  <a:pt x="10021" y="11212"/>
                </a:cubicBezTo>
                <a:cubicBezTo>
                  <a:pt x="10046" y="11204"/>
                  <a:pt x="10147" y="11179"/>
                  <a:pt x="10170" y="11187"/>
                </a:cubicBezTo>
                <a:cubicBezTo>
                  <a:pt x="10204" y="11198"/>
                  <a:pt x="10240" y="11224"/>
                  <a:pt x="10244" y="11261"/>
                </a:cubicBezTo>
                <a:cubicBezTo>
                  <a:pt x="10250" y="11319"/>
                  <a:pt x="10207" y="11341"/>
                  <a:pt x="10195" y="11385"/>
                </a:cubicBezTo>
                <a:cubicBezTo>
                  <a:pt x="10182" y="11433"/>
                  <a:pt x="10164" y="11496"/>
                  <a:pt x="10120" y="11534"/>
                </a:cubicBezTo>
                <a:cubicBezTo>
                  <a:pt x="10077" y="11571"/>
                  <a:pt x="10064" y="11591"/>
                  <a:pt x="10021" y="11633"/>
                </a:cubicBezTo>
                <a:cubicBezTo>
                  <a:pt x="10000" y="11654"/>
                  <a:pt x="9969" y="11717"/>
                  <a:pt x="10021" y="11733"/>
                </a:cubicBezTo>
                <a:cubicBezTo>
                  <a:pt x="10073" y="11749"/>
                  <a:pt x="10172" y="11748"/>
                  <a:pt x="10220" y="11757"/>
                </a:cubicBezTo>
                <a:cubicBezTo>
                  <a:pt x="10286" y="11770"/>
                  <a:pt x="10391" y="11770"/>
                  <a:pt x="10443" y="11733"/>
                </a:cubicBezTo>
                <a:cubicBezTo>
                  <a:pt x="10410" y="11733"/>
                  <a:pt x="10393" y="11733"/>
                  <a:pt x="10368" y="11733"/>
                </a:cubicBezTo>
              </a:path>
              <a:path w="820" h="1861">
                <a:moveTo>
                  <a:pt x="9624" y="11881"/>
                </a:moveTo>
                <a:cubicBezTo>
                  <a:pt x="9815" y="11881"/>
                  <a:pt x="10020" y="11873"/>
                  <a:pt x="10195" y="11906"/>
                </a:cubicBezTo>
                <a:cubicBezTo>
                  <a:pt x="10263" y="11919"/>
                  <a:pt x="10345" y="11909"/>
                  <a:pt x="10344" y="11906"/>
                </a:cubicBezTo>
                <a:cubicBezTo>
                  <a:pt x="10344" y="11878"/>
                  <a:pt x="10342" y="11872"/>
                  <a:pt x="10319" y="11906"/>
                </a:cubicBezTo>
              </a:path>
              <a:path w="820" h="1861">
                <a:moveTo>
                  <a:pt x="9823" y="12105"/>
                </a:moveTo>
                <a:cubicBezTo>
                  <a:pt x="9841" y="12158"/>
                  <a:pt x="9859" y="12117"/>
                  <a:pt x="9897" y="12105"/>
                </a:cubicBezTo>
                <a:cubicBezTo>
                  <a:pt x="9976" y="12080"/>
                  <a:pt x="10104" y="12108"/>
                  <a:pt x="10170" y="12129"/>
                </a:cubicBezTo>
                <a:cubicBezTo>
                  <a:pt x="10186" y="12134"/>
                  <a:pt x="10235" y="12170"/>
                  <a:pt x="10220" y="12204"/>
                </a:cubicBezTo>
                <a:cubicBezTo>
                  <a:pt x="10198" y="12254"/>
                  <a:pt x="10180" y="12281"/>
                  <a:pt x="10145" y="12328"/>
                </a:cubicBezTo>
                <a:cubicBezTo>
                  <a:pt x="10103" y="12385"/>
                  <a:pt x="10058" y="12462"/>
                  <a:pt x="9996" y="12502"/>
                </a:cubicBezTo>
                <a:cubicBezTo>
                  <a:pt x="9938" y="12539"/>
                  <a:pt x="9920" y="12589"/>
                  <a:pt x="9872" y="12626"/>
                </a:cubicBezTo>
                <a:cubicBezTo>
                  <a:pt x="9848" y="12645"/>
                  <a:pt x="9816" y="12661"/>
                  <a:pt x="9798" y="12675"/>
                </a:cubicBezTo>
                <a:cubicBezTo>
                  <a:pt x="9790" y="12683"/>
                  <a:pt x="9781" y="12692"/>
                  <a:pt x="9773" y="12700"/>
                </a:cubicBezTo>
                <a:cubicBezTo>
                  <a:pt x="9788" y="12760"/>
                  <a:pt x="9811" y="12750"/>
                  <a:pt x="9872" y="12750"/>
                </a:cubicBezTo>
                <a:cubicBezTo>
                  <a:pt x="9926" y="12750"/>
                  <a:pt x="9941" y="12739"/>
                  <a:pt x="9996" y="12750"/>
                </a:cubicBezTo>
                <a:cubicBezTo>
                  <a:pt x="10059" y="12763"/>
                  <a:pt x="10139" y="12763"/>
                  <a:pt x="10195" y="12774"/>
                </a:cubicBezTo>
                <a:cubicBezTo>
                  <a:pt x="10239" y="12783"/>
                  <a:pt x="10280" y="12795"/>
                  <a:pt x="10319" y="12799"/>
                </a:cubicBezTo>
                <a:cubicBezTo>
                  <a:pt x="10372" y="12805"/>
                  <a:pt x="10372" y="12780"/>
                  <a:pt x="10418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44960" y="4133880"/>
            <a:ext cx="268200" cy="223920"/>
          </a:xfrm>
          <a:custGeom>
            <a:avLst/>
            <a:gdLst/>
            <a:ahLst/>
            <a:rect l="l" t="t" r="r" b="b"/>
            <a:pathLst>
              <a:path w="745" h="621">
                <a:moveTo>
                  <a:pt x="11584" y="11485"/>
                </a:moveTo>
                <a:cubicBezTo>
                  <a:pt x="11584" y="11537"/>
                  <a:pt x="11589" y="11571"/>
                  <a:pt x="11584" y="11609"/>
                </a:cubicBezTo>
                <a:cubicBezTo>
                  <a:pt x="11570" y="11709"/>
                  <a:pt x="11576" y="11810"/>
                  <a:pt x="11559" y="11906"/>
                </a:cubicBezTo>
                <a:cubicBezTo>
                  <a:pt x="11546" y="11977"/>
                  <a:pt x="11579" y="12017"/>
                  <a:pt x="11584" y="12080"/>
                </a:cubicBezTo>
                <a:cubicBezTo>
                  <a:pt x="11584" y="12105"/>
                  <a:pt x="11584" y="12113"/>
                  <a:pt x="11584" y="12080"/>
                </a:cubicBezTo>
              </a:path>
              <a:path w="745" h="621">
                <a:moveTo>
                  <a:pt x="11237" y="11782"/>
                </a:moveTo>
                <a:cubicBezTo>
                  <a:pt x="11342" y="11782"/>
                  <a:pt x="11432" y="11792"/>
                  <a:pt x="11534" y="11807"/>
                </a:cubicBezTo>
                <a:cubicBezTo>
                  <a:pt x="11623" y="11820"/>
                  <a:pt x="11718" y="11826"/>
                  <a:pt x="11807" y="11832"/>
                </a:cubicBezTo>
                <a:cubicBezTo>
                  <a:pt x="11859" y="11835"/>
                  <a:pt x="11903" y="11857"/>
                  <a:pt x="11956" y="11857"/>
                </a:cubicBezTo>
                <a:cubicBezTo>
                  <a:pt x="12023" y="11857"/>
                  <a:pt x="11917" y="11857"/>
                  <a:pt x="11906" y="118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41920" y="3286080"/>
            <a:ext cx="1204920" cy="1401840"/>
          </a:xfrm>
          <a:custGeom>
            <a:avLst/>
            <a:gdLst/>
            <a:ahLst/>
            <a:rect l="l" t="t" r="r" b="b"/>
            <a:pathLst>
              <a:path w="3350" h="3895">
                <a:moveTo>
                  <a:pt x="13568" y="10889"/>
                </a:moveTo>
                <a:cubicBezTo>
                  <a:pt x="13601" y="10933"/>
                  <a:pt x="13593" y="10955"/>
                  <a:pt x="13593" y="11013"/>
                </a:cubicBezTo>
                <a:cubicBezTo>
                  <a:pt x="13593" y="11111"/>
                  <a:pt x="13568" y="11187"/>
                  <a:pt x="13568" y="11286"/>
                </a:cubicBezTo>
                <a:cubicBezTo>
                  <a:pt x="13568" y="11402"/>
                  <a:pt x="13568" y="11517"/>
                  <a:pt x="13568" y="11633"/>
                </a:cubicBezTo>
              </a:path>
              <a:path w="3350" h="3895">
                <a:moveTo>
                  <a:pt x="13171" y="11708"/>
                </a:moveTo>
                <a:cubicBezTo>
                  <a:pt x="13223" y="11747"/>
                  <a:pt x="13234" y="11716"/>
                  <a:pt x="13295" y="11733"/>
                </a:cubicBezTo>
                <a:cubicBezTo>
                  <a:pt x="13386" y="11759"/>
                  <a:pt x="13471" y="11757"/>
                  <a:pt x="13568" y="11757"/>
                </a:cubicBezTo>
                <a:cubicBezTo>
                  <a:pt x="13655" y="11757"/>
                  <a:pt x="13712" y="11763"/>
                  <a:pt x="13791" y="11782"/>
                </a:cubicBezTo>
                <a:cubicBezTo>
                  <a:pt x="13839" y="11793"/>
                  <a:pt x="13869" y="11798"/>
                  <a:pt x="13841" y="11757"/>
                </a:cubicBezTo>
              </a:path>
              <a:path w="3350" h="3895">
                <a:moveTo>
                  <a:pt x="13271" y="12080"/>
                </a:moveTo>
                <a:cubicBezTo>
                  <a:pt x="13271" y="12096"/>
                  <a:pt x="13271" y="12113"/>
                  <a:pt x="13271" y="12129"/>
                </a:cubicBezTo>
                <a:cubicBezTo>
                  <a:pt x="13323" y="12129"/>
                  <a:pt x="13342" y="12109"/>
                  <a:pt x="13395" y="12105"/>
                </a:cubicBezTo>
                <a:cubicBezTo>
                  <a:pt x="13457" y="12100"/>
                  <a:pt x="13545" y="12091"/>
                  <a:pt x="13593" y="12129"/>
                </a:cubicBezTo>
                <a:cubicBezTo>
                  <a:pt x="13634" y="12161"/>
                  <a:pt x="13643" y="12180"/>
                  <a:pt x="13643" y="12229"/>
                </a:cubicBezTo>
                <a:cubicBezTo>
                  <a:pt x="13643" y="12278"/>
                  <a:pt x="13598" y="12363"/>
                  <a:pt x="13568" y="12402"/>
                </a:cubicBezTo>
                <a:cubicBezTo>
                  <a:pt x="13521" y="12463"/>
                  <a:pt x="13474" y="12520"/>
                  <a:pt x="13419" y="12576"/>
                </a:cubicBezTo>
                <a:cubicBezTo>
                  <a:pt x="13355" y="12640"/>
                  <a:pt x="13292" y="12706"/>
                  <a:pt x="13246" y="12774"/>
                </a:cubicBezTo>
                <a:cubicBezTo>
                  <a:pt x="13219" y="12815"/>
                  <a:pt x="13241" y="12843"/>
                  <a:pt x="13295" y="12849"/>
                </a:cubicBezTo>
                <a:cubicBezTo>
                  <a:pt x="13356" y="12856"/>
                  <a:pt x="13411" y="12859"/>
                  <a:pt x="13469" y="12874"/>
                </a:cubicBezTo>
                <a:cubicBezTo>
                  <a:pt x="13542" y="12893"/>
                  <a:pt x="13621" y="12911"/>
                  <a:pt x="13692" y="12923"/>
                </a:cubicBezTo>
                <a:cubicBezTo>
                  <a:pt x="13752" y="12933"/>
                  <a:pt x="13790" y="12931"/>
                  <a:pt x="13841" y="12948"/>
                </a:cubicBezTo>
                <a:cubicBezTo>
                  <a:pt x="13884" y="12962"/>
                  <a:pt x="13908" y="12901"/>
                  <a:pt x="13915" y="12874"/>
                </a:cubicBezTo>
              </a:path>
              <a:path w="3350" h="3895">
                <a:moveTo>
                  <a:pt x="14288" y="11981"/>
                </a:moveTo>
                <a:cubicBezTo>
                  <a:pt x="14288" y="11953"/>
                  <a:pt x="14290" y="11942"/>
                  <a:pt x="14312" y="11931"/>
                </a:cubicBezTo>
              </a:path>
              <a:path w="3350" h="3895">
                <a:moveTo>
                  <a:pt x="14734" y="11485"/>
                </a:moveTo>
                <a:cubicBezTo>
                  <a:pt x="14775" y="11538"/>
                  <a:pt x="14739" y="11566"/>
                  <a:pt x="14734" y="11633"/>
                </a:cubicBezTo>
                <a:cubicBezTo>
                  <a:pt x="14730" y="11686"/>
                  <a:pt x="14709" y="11725"/>
                  <a:pt x="14709" y="11782"/>
                </a:cubicBezTo>
                <a:cubicBezTo>
                  <a:pt x="14709" y="11832"/>
                  <a:pt x="14695" y="11849"/>
                  <a:pt x="14684" y="11832"/>
                </a:cubicBezTo>
                <a:cubicBezTo>
                  <a:pt x="14653" y="11787"/>
                  <a:pt x="14660" y="11766"/>
                  <a:pt x="14660" y="11708"/>
                </a:cubicBezTo>
                <a:cubicBezTo>
                  <a:pt x="14660" y="11478"/>
                  <a:pt x="14622" y="11198"/>
                  <a:pt x="14684" y="10988"/>
                </a:cubicBezTo>
                <a:cubicBezTo>
                  <a:pt x="14696" y="10948"/>
                  <a:pt x="14734" y="10943"/>
                  <a:pt x="14784" y="10939"/>
                </a:cubicBezTo>
                <a:cubicBezTo>
                  <a:pt x="14888" y="10930"/>
                  <a:pt x="14992" y="10946"/>
                  <a:pt x="15081" y="10964"/>
                </a:cubicBezTo>
                <a:cubicBezTo>
                  <a:pt x="15130" y="10974"/>
                  <a:pt x="15186" y="10983"/>
                  <a:pt x="15230" y="10988"/>
                </a:cubicBezTo>
                <a:cubicBezTo>
                  <a:pt x="15238" y="10988"/>
                  <a:pt x="15247" y="10988"/>
                  <a:pt x="15255" y="10988"/>
                </a:cubicBezTo>
              </a:path>
              <a:path w="3350" h="3895">
                <a:moveTo>
                  <a:pt x="14982" y="11311"/>
                </a:moveTo>
                <a:cubicBezTo>
                  <a:pt x="14989" y="11333"/>
                  <a:pt x="15021" y="11356"/>
                  <a:pt x="15056" y="11336"/>
                </a:cubicBezTo>
                <a:cubicBezTo>
                  <a:pt x="15108" y="11307"/>
                  <a:pt x="15150" y="11332"/>
                  <a:pt x="15205" y="11311"/>
                </a:cubicBezTo>
                <a:cubicBezTo>
                  <a:pt x="15250" y="11293"/>
                  <a:pt x="15258" y="11300"/>
                  <a:pt x="15304" y="11336"/>
                </a:cubicBezTo>
                <a:cubicBezTo>
                  <a:pt x="15294" y="11386"/>
                  <a:pt x="15264" y="11444"/>
                  <a:pt x="15230" y="11485"/>
                </a:cubicBezTo>
                <a:cubicBezTo>
                  <a:pt x="15168" y="11559"/>
                  <a:pt x="15086" y="11629"/>
                  <a:pt x="15032" y="11708"/>
                </a:cubicBezTo>
                <a:cubicBezTo>
                  <a:pt x="15008" y="11742"/>
                  <a:pt x="14961" y="11793"/>
                  <a:pt x="14957" y="11832"/>
                </a:cubicBezTo>
                <a:cubicBezTo>
                  <a:pt x="14957" y="11840"/>
                  <a:pt x="14957" y="11849"/>
                  <a:pt x="14957" y="11857"/>
                </a:cubicBezTo>
                <a:cubicBezTo>
                  <a:pt x="15002" y="11857"/>
                  <a:pt x="15016" y="11878"/>
                  <a:pt x="15056" y="11881"/>
                </a:cubicBezTo>
                <a:cubicBezTo>
                  <a:pt x="15143" y="11887"/>
                  <a:pt x="15253" y="11881"/>
                  <a:pt x="15304" y="11857"/>
                </a:cubicBezTo>
                <a:cubicBezTo>
                  <a:pt x="15312" y="11857"/>
                  <a:pt x="15321" y="11857"/>
                  <a:pt x="15329" y="11857"/>
                </a:cubicBezTo>
              </a:path>
              <a:path w="3350" h="3895">
                <a:moveTo>
                  <a:pt x="14585" y="12005"/>
                </a:moveTo>
                <a:cubicBezTo>
                  <a:pt x="14715" y="12005"/>
                  <a:pt x="14836" y="12014"/>
                  <a:pt x="14957" y="12030"/>
                </a:cubicBezTo>
                <a:cubicBezTo>
                  <a:pt x="15009" y="12037"/>
                  <a:pt x="15286" y="12010"/>
                  <a:pt x="15280" y="12005"/>
                </a:cubicBezTo>
                <a:cubicBezTo>
                  <a:pt x="15272" y="12005"/>
                  <a:pt x="15263" y="12005"/>
                  <a:pt x="15255" y="12005"/>
                </a:cubicBezTo>
              </a:path>
              <a:path w="3350" h="3895">
                <a:moveTo>
                  <a:pt x="14883" y="12378"/>
                </a:moveTo>
                <a:cubicBezTo>
                  <a:pt x="14965" y="12412"/>
                  <a:pt x="14936" y="12383"/>
                  <a:pt x="15007" y="12378"/>
                </a:cubicBezTo>
                <a:cubicBezTo>
                  <a:pt x="15095" y="12372"/>
                  <a:pt x="15180" y="12380"/>
                  <a:pt x="15255" y="12402"/>
                </a:cubicBezTo>
                <a:cubicBezTo>
                  <a:pt x="15283" y="12402"/>
                  <a:pt x="15294" y="12404"/>
                  <a:pt x="15304" y="12427"/>
                </a:cubicBezTo>
                <a:cubicBezTo>
                  <a:pt x="15297" y="12457"/>
                  <a:pt x="15255" y="12530"/>
                  <a:pt x="15230" y="12551"/>
                </a:cubicBezTo>
                <a:cubicBezTo>
                  <a:pt x="15167" y="12605"/>
                  <a:pt x="15072" y="12624"/>
                  <a:pt x="15007" y="12675"/>
                </a:cubicBezTo>
                <a:cubicBezTo>
                  <a:pt x="14957" y="12714"/>
                  <a:pt x="14870" y="12763"/>
                  <a:pt x="14858" y="12824"/>
                </a:cubicBezTo>
                <a:cubicBezTo>
                  <a:pt x="14851" y="12859"/>
                  <a:pt x="14852" y="12902"/>
                  <a:pt x="14883" y="12923"/>
                </a:cubicBezTo>
                <a:cubicBezTo>
                  <a:pt x="14946" y="12967"/>
                  <a:pt x="15014" y="12976"/>
                  <a:pt x="15081" y="12998"/>
                </a:cubicBezTo>
                <a:cubicBezTo>
                  <a:pt x="15141" y="13017"/>
                  <a:pt x="15179" y="13043"/>
                  <a:pt x="15230" y="12998"/>
                </a:cubicBezTo>
                <a:cubicBezTo>
                  <a:pt x="15238" y="12990"/>
                  <a:pt x="15247" y="12981"/>
                  <a:pt x="15255" y="12973"/>
                </a:cubicBezTo>
              </a:path>
              <a:path w="3350" h="3895">
                <a:moveTo>
                  <a:pt x="16520" y="9649"/>
                </a:moveTo>
                <a:cubicBezTo>
                  <a:pt x="16492" y="9677"/>
                  <a:pt x="16493" y="9666"/>
                  <a:pt x="16470" y="9699"/>
                </a:cubicBezTo>
                <a:cubicBezTo>
                  <a:pt x="16386" y="9820"/>
                  <a:pt x="16308" y="9950"/>
                  <a:pt x="16222" y="10071"/>
                </a:cubicBezTo>
                <a:cubicBezTo>
                  <a:pt x="16142" y="10182"/>
                  <a:pt x="16054" y="10282"/>
                  <a:pt x="15974" y="10393"/>
                </a:cubicBezTo>
                <a:cubicBezTo>
                  <a:pt x="15881" y="10522"/>
                  <a:pt x="15785" y="10654"/>
                  <a:pt x="15701" y="10790"/>
                </a:cubicBezTo>
                <a:cubicBezTo>
                  <a:pt x="15665" y="10849"/>
                  <a:pt x="15642" y="10890"/>
                  <a:pt x="15602" y="10939"/>
                </a:cubicBezTo>
                <a:cubicBezTo>
                  <a:pt x="15579" y="10967"/>
                  <a:pt x="15576" y="11041"/>
                  <a:pt x="15553" y="11013"/>
                </a:cubicBezTo>
                <a:cubicBezTo>
                  <a:pt x="15553" y="10988"/>
                  <a:pt x="15553" y="10980"/>
                  <a:pt x="15553" y="10964"/>
                </a:cubicBezTo>
              </a:path>
              <a:path w="3350" h="3895">
                <a:moveTo>
                  <a:pt x="15429" y="10716"/>
                </a:moveTo>
                <a:cubicBezTo>
                  <a:pt x="15396" y="10759"/>
                  <a:pt x="15404" y="10782"/>
                  <a:pt x="15404" y="10840"/>
                </a:cubicBezTo>
                <a:cubicBezTo>
                  <a:pt x="15404" y="10910"/>
                  <a:pt x="15410" y="10955"/>
                  <a:pt x="15429" y="11013"/>
                </a:cubicBezTo>
                <a:cubicBezTo>
                  <a:pt x="15429" y="11038"/>
                  <a:pt x="15429" y="11046"/>
                  <a:pt x="15453" y="11038"/>
                </a:cubicBezTo>
                <a:cubicBezTo>
                  <a:pt x="15493" y="11008"/>
                  <a:pt x="15527" y="11011"/>
                  <a:pt x="15577" y="10988"/>
                </a:cubicBezTo>
                <a:cubicBezTo>
                  <a:pt x="15686" y="10937"/>
                  <a:pt x="15782" y="10943"/>
                  <a:pt x="15875" y="10864"/>
                </a:cubicBezTo>
                <a:cubicBezTo>
                  <a:pt x="15900" y="10840"/>
                  <a:pt x="15909" y="10832"/>
                  <a:pt x="15925" y="10815"/>
                </a:cubicBezTo>
              </a:path>
              <a:path w="3350" h="3895">
                <a:moveTo>
                  <a:pt x="14288" y="9128"/>
                </a:moveTo>
                <a:cubicBezTo>
                  <a:pt x="14262" y="9206"/>
                  <a:pt x="14241" y="9270"/>
                  <a:pt x="14238" y="9351"/>
                </a:cubicBezTo>
                <a:cubicBezTo>
                  <a:pt x="14234" y="9462"/>
                  <a:pt x="14195" y="9567"/>
                  <a:pt x="14163" y="9674"/>
                </a:cubicBezTo>
                <a:cubicBezTo>
                  <a:pt x="14127" y="9795"/>
                  <a:pt x="14080" y="9907"/>
                  <a:pt x="14039" y="10021"/>
                </a:cubicBezTo>
                <a:cubicBezTo>
                  <a:pt x="13998" y="10134"/>
                  <a:pt x="13963" y="10235"/>
                  <a:pt x="13915" y="10344"/>
                </a:cubicBezTo>
                <a:cubicBezTo>
                  <a:pt x="13885" y="10413"/>
                  <a:pt x="13870" y="10505"/>
                  <a:pt x="13841" y="10567"/>
                </a:cubicBezTo>
                <a:cubicBezTo>
                  <a:pt x="13821" y="10611"/>
                  <a:pt x="13809" y="10648"/>
                  <a:pt x="13767" y="10616"/>
                </a:cubicBezTo>
                <a:cubicBezTo>
                  <a:pt x="13759" y="10608"/>
                  <a:pt x="13750" y="10600"/>
                  <a:pt x="13742" y="10592"/>
                </a:cubicBezTo>
              </a:path>
              <a:path w="3350" h="3895">
                <a:moveTo>
                  <a:pt x="13519" y="10344"/>
                </a:moveTo>
                <a:cubicBezTo>
                  <a:pt x="13519" y="10433"/>
                  <a:pt x="13528" y="10516"/>
                  <a:pt x="13543" y="10592"/>
                </a:cubicBezTo>
                <a:cubicBezTo>
                  <a:pt x="13552" y="10640"/>
                  <a:pt x="13541" y="10677"/>
                  <a:pt x="13568" y="10716"/>
                </a:cubicBezTo>
                <a:cubicBezTo>
                  <a:pt x="13597" y="10759"/>
                  <a:pt x="13637" y="10743"/>
                  <a:pt x="13667" y="10716"/>
                </a:cubicBezTo>
                <a:cubicBezTo>
                  <a:pt x="13710" y="10678"/>
                  <a:pt x="13780" y="10654"/>
                  <a:pt x="13816" y="10616"/>
                </a:cubicBezTo>
                <a:cubicBezTo>
                  <a:pt x="13865" y="10564"/>
                  <a:pt x="13950" y="10508"/>
                  <a:pt x="13990" y="10443"/>
                </a:cubicBezTo>
                <a:cubicBezTo>
                  <a:pt x="13990" y="10435"/>
                  <a:pt x="13990" y="10426"/>
                  <a:pt x="13990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43160" y="4919760"/>
            <a:ext cx="1411200" cy="1814400"/>
          </a:xfrm>
          <a:custGeom>
            <a:avLst/>
            <a:gdLst/>
            <a:ahLst/>
            <a:rect l="l" t="t" r="r" b="b"/>
            <a:pathLst>
              <a:path w="3920" h="5037">
                <a:moveTo>
                  <a:pt x="10592" y="14486"/>
                </a:moveTo>
                <a:cubicBezTo>
                  <a:pt x="10600" y="14478"/>
                  <a:pt x="10608" y="14469"/>
                  <a:pt x="10616" y="14461"/>
                </a:cubicBezTo>
                <a:cubicBezTo>
                  <a:pt x="10604" y="14523"/>
                  <a:pt x="10592" y="14569"/>
                  <a:pt x="10592" y="14635"/>
                </a:cubicBezTo>
                <a:cubicBezTo>
                  <a:pt x="10592" y="14728"/>
                  <a:pt x="10612" y="14796"/>
                  <a:pt x="10616" y="14883"/>
                </a:cubicBezTo>
                <a:cubicBezTo>
                  <a:pt x="10619" y="14964"/>
                  <a:pt x="10641" y="15024"/>
                  <a:pt x="10641" y="15106"/>
                </a:cubicBezTo>
                <a:cubicBezTo>
                  <a:pt x="10641" y="15151"/>
                  <a:pt x="10654" y="15168"/>
                  <a:pt x="10616" y="15180"/>
                </a:cubicBezTo>
              </a:path>
              <a:path w="3920" h="5037">
                <a:moveTo>
                  <a:pt x="10319" y="14833"/>
                </a:moveTo>
                <a:cubicBezTo>
                  <a:pt x="10403" y="14761"/>
                  <a:pt x="10413" y="14792"/>
                  <a:pt x="10517" y="14808"/>
                </a:cubicBezTo>
                <a:cubicBezTo>
                  <a:pt x="10594" y="14820"/>
                  <a:pt x="10665" y="14842"/>
                  <a:pt x="10740" y="14858"/>
                </a:cubicBezTo>
                <a:cubicBezTo>
                  <a:pt x="10758" y="14862"/>
                  <a:pt x="10876" y="14874"/>
                  <a:pt x="10889" y="14883"/>
                </a:cubicBezTo>
                <a:cubicBezTo>
                  <a:pt x="10913" y="14900"/>
                  <a:pt x="10887" y="14908"/>
                  <a:pt x="10939" y="14908"/>
                </a:cubicBezTo>
              </a:path>
              <a:path w="3920" h="5037">
                <a:moveTo>
                  <a:pt x="11609" y="14039"/>
                </a:moveTo>
                <a:cubicBezTo>
                  <a:pt x="11609" y="14105"/>
                  <a:pt x="11623" y="14152"/>
                  <a:pt x="11633" y="14213"/>
                </a:cubicBezTo>
                <a:cubicBezTo>
                  <a:pt x="11642" y="14272"/>
                  <a:pt x="11655" y="14329"/>
                  <a:pt x="11658" y="14387"/>
                </a:cubicBezTo>
                <a:cubicBezTo>
                  <a:pt x="11662" y="14453"/>
                  <a:pt x="11658" y="14519"/>
                  <a:pt x="11658" y="14585"/>
                </a:cubicBezTo>
                <a:cubicBezTo>
                  <a:pt x="11636" y="14571"/>
                  <a:pt x="11620" y="14506"/>
                  <a:pt x="11609" y="14461"/>
                </a:cubicBezTo>
                <a:cubicBezTo>
                  <a:pt x="11590" y="14383"/>
                  <a:pt x="11574" y="14290"/>
                  <a:pt x="11559" y="14213"/>
                </a:cubicBezTo>
                <a:cubicBezTo>
                  <a:pt x="11545" y="14140"/>
                  <a:pt x="11521" y="14061"/>
                  <a:pt x="11509" y="13990"/>
                </a:cubicBezTo>
                <a:cubicBezTo>
                  <a:pt x="11499" y="13929"/>
                  <a:pt x="11485" y="13880"/>
                  <a:pt x="11485" y="13816"/>
                </a:cubicBezTo>
                <a:cubicBezTo>
                  <a:pt x="11485" y="13781"/>
                  <a:pt x="11492" y="13743"/>
                  <a:pt x="11509" y="13717"/>
                </a:cubicBezTo>
                <a:cubicBezTo>
                  <a:pt x="11549" y="13657"/>
                  <a:pt x="11593" y="13667"/>
                  <a:pt x="11658" y="13667"/>
                </a:cubicBezTo>
                <a:cubicBezTo>
                  <a:pt x="11764" y="13667"/>
                  <a:pt x="11854" y="13673"/>
                  <a:pt x="11956" y="13692"/>
                </a:cubicBezTo>
                <a:cubicBezTo>
                  <a:pt x="12005" y="13701"/>
                  <a:pt x="12057" y="13712"/>
                  <a:pt x="12105" y="13717"/>
                </a:cubicBezTo>
                <a:cubicBezTo>
                  <a:pt x="12129" y="13717"/>
                  <a:pt x="12138" y="13717"/>
                  <a:pt x="12154" y="13717"/>
                </a:cubicBezTo>
              </a:path>
              <a:path w="3920" h="5037">
                <a:moveTo>
                  <a:pt x="11832" y="13990"/>
                </a:moveTo>
                <a:cubicBezTo>
                  <a:pt x="11857" y="14023"/>
                  <a:pt x="11865" y="14050"/>
                  <a:pt x="11906" y="14064"/>
                </a:cubicBezTo>
                <a:cubicBezTo>
                  <a:pt x="11953" y="14080"/>
                  <a:pt x="12011" y="14074"/>
                  <a:pt x="12055" y="14089"/>
                </a:cubicBezTo>
                <a:cubicBezTo>
                  <a:pt x="12103" y="14105"/>
                  <a:pt x="12105" y="14110"/>
                  <a:pt x="12105" y="14163"/>
                </a:cubicBezTo>
                <a:cubicBezTo>
                  <a:pt x="12105" y="14212"/>
                  <a:pt x="12059" y="14274"/>
                  <a:pt x="12030" y="14312"/>
                </a:cubicBezTo>
                <a:cubicBezTo>
                  <a:pt x="11997" y="14355"/>
                  <a:pt x="11949" y="14408"/>
                  <a:pt x="11931" y="14461"/>
                </a:cubicBezTo>
                <a:cubicBezTo>
                  <a:pt x="11919" y="14496"/>
                  <a:pt x="11911" y="14506"/>
                  <a:pt x="11881" y="14536"/>
                </a:cubicBezTo>
                <a:cubicBezTo>
                  <a:pt x="11886" y="14551"/>
                  <a:pt x="11905" y="14597"/>
                  <a:pt x="11931" y="14610"/>
                </a:cubicBezTo>
                <a:cubicBezTo>
                  <a:pt x="11984" y="14636"/>
                  <a:pt x="12068" y="14653"/>
                  <a:pt x="12129" y="14660"/>
                </a:cubicBezTo>
                <a:cubicBezTo>
                  <a:pt x="12207" y="14669"/>
                  <a:pt x="12273" y="14684"/>
                  <a:pt x="12353" y="14684"/>
                </a:cubicBezTo>
                <a:cubicBezTo>
                  <a:pt x="12384" y="14684"/>
                  <a:pt x="12394" y="14660"/>
                  <a:pt x="12402" y="14635"/>
                </a:cubicBezTo>
              </a:path>
              <a:path w="3920" h="5037">
                <a:moveTo>
                  <a:pt x="11460" y="14660"/>
                </a:moveTo>
                <a:cubicBezTo>
                  <a:pt x="11475" y="14703"/>
                  <a:pt x="11532" y="14684"/>
                  <a:pt x="11584" y="14684"/>
                </a:cubicBezTo>
                <a:cubicBezTo>
                  <a:pt x="11720" y="14684"/>
                  <a:pt x="11873" y="14706"/>
                  <a:pt x="12005" y="14734"/>
                </a:cubicBezTo>
                <a:cubicBezTo>
                  <a:pt x="12105" y="14756"/>
                  <a:pt x="12207" y="14786"/>
                  <a:pt x="12303" y="14808"/>
                </a:cubicBezTo>
                <a:cubicBezTo>
                  <a:pt x="12353" y="14819"/>
                  <a:pt x="12420" y="14873"/>
                  <a:pt x="12452" y="14833"/>
                </a:cubicBezTo>
                <a:cubicBezTo>
                  <a:pt x="12452" y="14825"/>
                  <a:pt x="12452" y="14816"/>
                  <a:pt x="12452" y="14808"/>
                </a:cubicBezTo>
              </a:path>
              <a:path w="3920" h="5037">
                <a:moveTo>
                  <a:pt x="12055" y="14908"/>
                </a:moveTo>
                <a:cubicBezTo>
                  <a:pt x="12019" y="14955"/>
                  <a:pt x="11927" y="15042"/>
                  <a:pt x="11906" y="15106"/>
                </a:cubicBezTo>
                <a:cubicBezTo>
                  <a:pt x="11893" y="15144"/>
                  <a:pt x="11882" y="15171"/>
                  <a:pt x="11857" y="15205"/>
                </a:cubicBezTo>
                <a:cubicBezTo>
                  <a:pt x="11869" y="15222"/>
                  <a:pt x="11896" y="15298"/>
                  <a:pt x="11906" y="15304"/>
                </a:cubicBezTo>
                <a:cubicBezTo>
                  <a:pt x="11937" y="15324"/>
                  <a:pt x="11996" y="15334"/>
                  <a:pt x="12030" y="15354"/>
                </a:cubicBezTo>
                <a:cubicBezTo>
                  <a:pt x="12092" y="15390"/>
                  <a:pt x="12133" y="15404"/>
                  <a:pt x="12204" y="15404"/>
                </a:cubicBezTo>
                <a:cubicBezTo>
                  <a:pt x="12264" y="15404"/>
                  <a:pt x="12260" y="15411"/>
                  <a:pt x="12303" y="15379"/>
                </a:cubicBezTo>
              </a:path>
              <a:path w="3920" h="5037">
                <a:moveTo>
                  <a:pt x="12278" y="14957"/>
                </a:moveTo>
                <a:cubicBezTo>
                  <a:pt x="12266" y="15020"/>
                  <a:pt x="12232" y="15065"/>
                  <a:pt x="12229" y="15131"/>
                </a:cubicBezTo>
                <a:cubicBezTo>
                  <a:pt x="12224" y="15253"/>
                  <a:pt x="12241" y="15362"/>
                  <a:pt x="12254" y="15478"/>
                </a:cubicBezTo>
                <a:cubicBezTo>
                  <a:pt x="12266" y="15586"/>
                  <a:pt x="12291" y="15695"/>
                  <a:pt x="12303" y="15801"/>
                </a:cubicBezTo>
                <a:cubicBezTo>
                  <a:pt x="12303" y="15867"/>
                  <a:pt x="12303" y="15884"/>
                  <a:pt x="12303" y="15925"/>
                </a:cubicBezTo>
              </a:path>
              <a:path w="3920" h="5037">
                <a:moveTo>
                  <a:pt x="9773" y="16619"/>
                </a:moveTo>
                <a:cubicBezTo>
                  <a:pt x="9773" y="16684"/>
                  <a:pt x="9795" y="16730"/>
                  <a:pt x="9798" y="16793"/>
                </a:cubicBezTo>
                <a:cubicBezTo>
                  <a:pt x="9802" y="16882"/>
                  <a:pt x="9823" y="16949"/>
                  <a:pt x="9823" y="17041"/>
                </a:cubicBezTo>
                <a:cubicBezTo>
                  <a:pt x="9823" y="17091"/>
                  <a:pt x="9823" y="17140"/>
                  <a:pt x="9823" y="17190"/>
                </a:cubicBezTo>
                <a:cubicBezTo>
                  <a:pt x="9793" y="17170"/>
                  <a:pt x="9776" y="17119"/>
                  <a:pt x="9773" y="17066"/>
                </a:cubicBezTo>
                <a:cubicBezTo>
                  <a:pt x="9767" y="16966"/>
                  <a:pt x="9752" y="16868"/>
                  <a:pt x="9748" y="16768"/>
                </a:cubicBezTo>
                <a:cubicBezTo>
                  <a:pt x="9745" y="16692"/>
                  <a:pt x="9761" y="16639"/>
                  <a:pt x="9773" y="16570"/>
                </a:cubicBezTo>
                <a:cubicBezTo>
                  <a:pt x="9785" y="16501"/>
                  <a:pt x="9772" y="16479"/>
                  <a:pt x="9823" y="16421"/>
                </a:cubicBezTo>
                <a:cubicBezTo>
                  <a:pt x="9857" y="16383"/>
                  <a:pt x="9904" y="16355"/>
                  <a:pt x="9947" y="16346"/>
                </a:cubicBezTo>
                <a:cubicBezTo>
                  <a:pt x="10018" y="16332"/>
                  <a:pt x="10077" y="16366"/>
                  <a:pt x="10145" y="16371"/>
                </a:cubicBezTo>
                <a:cubicBezTo>
                  <a:pt x="10180" y="16371"/>
                  <a:pt x="10198" y="16366"/>
                  <a:pt x="10220" y="16346"/>
                </a:cubicBezTo>
              </a:path>
              <a:path w="3920" h="5037">
                <a:moveTo>
                  <a:pt x="10269" y="16495"/>
                </a:moveTo>
                <a:cubicBezTo>
                  <a:pt x="10230" y="16557"/>
                  <a:pt x="10161" y="16644"/>
                  <a:pt x="10145" y="16718"/>
                </a:cubicBezTo>
                <a:cubicBezTo>
                  <a:pt x="10128" y="16794"/>
                  <a:pt x="10120" y="16860"/>
                  <a:pt x="10120" y="16942"/>
                </a:cubicBezTo>
                <a:cubicBezTo>
                  <a:pt x="10120" y="16981"/>
                  <a:pt x="10122" y="17089"/>
                  <a:pt x="10145" y="17115"/>
                </a:cubicBezTo>
                <a:cubicBezTo>
                  <a:pt x="10177" y="17153"/>
                  <a:pt x="10252" y="17174"/>
                  <a:pt x="10294" y="17190"/>
                </a:cubicBezTo>
                <a:cubicBezTo>
                  <a:pt x="10372" y="17220"/>
                  <a:pt x="10364" y="17185"/>
                  <a:pt x="10443" y="17165"/>
                </a:cubicBezTo>
                <a:cubicBezTo>
                  <a:pt x="10484" y="17155"/>
                  <a:pt x="10488" y="17115"/>
                  <a:pt x="10492" y="17066"/>
                </a:cubicBezTo>
                <a:cubicBezTo>
                  <a:pt x="10496" y="17011"/>
                  <a:pt x="10479" y="16989"/>
                  <a:pt x="10468" y="16966"/>
                </a:cubicBezTo>
                <a:cubicBezTo>
                  <a:pt x="10452" y="16934"/>
                  <a:pt x="10430" y="16942"/>
                  <a:pt x="10393" y="16966"/>
                </a:cubicBezTo>
                <a:cubicBezTo>
                  <a:pt x="10347" y="16996"/>
                  <a:pt x="10328" y="17089"/>
                  <a:pt x="10344" y="17140"/>
                </a:cubicBezTo>
                <a:cubicBezTo>
                  <a:pt x="10359" y="17187"/>
                  <a:pt x="10385" y="17207"/>
                  <a:pt x="10418" y="17239"/>
                </a:cubicBezTo>
              </a:path>
              <a:path w="3920" h="5037">
                <a:moveTo>
                  <a:pt x="10790" y="16570"/>
                </a:moveTo>
                <a:cubicBezTo>
                  <a:pt x="10790" y="16683"/>
                  <a:pt x="10799" y="16783"/>
                  <a:pt x="10815" y="16892"/>
                </a:cubicBezTo>
                <a:cubicBezTo>
                  <a:pt x="10825" y="16961"/>
                  <a:pt x="10835" y="17032"/>
                  <a:pt x="10864" y="17090"/>
                </a:cubicBezTo>
              </a:path>
              <a:path w="3920" h="5037">
                <a:moveTo>
                  <a:pt x="10641" y="16694"/>
                </a:moveTo>
                <a:cubicBezTo>
                  <a:pt x="10718" y="16703"/>
                  <a:pt x="10786" y="16732"/>
                  <a:pt x="10864" y="16743"/>
                </a:cubicBezTo>
                <a:cubicBezTo>
                  <a:pt x="10929" y="16752"/>
                  <a:pt x="10976" y="16735"/>
                  <a:pt x="11038" y="16718"/>
                </a:cubicBezTo>
              </a:path>
              <a:path w="3920" h="5037">
                <a:moveTo>
                  <a:pt x="11187" y="16619"/>
                </a:moveTo>
                <a:cubicBezTo>
                  <a:pt x="11187" y="16750"/>
                  <a:pt x="11191" y="16868"/>
                  <a:pt x="11212" y="16991"/>
                </a:cubicBezTo>
                <a:cubicBezTo>
                  <a:pt x="11221" y="17045"/>
                  <a:pt x="11212" y="17109"/>
                  <a:pt x="11212" y="17165"/>
                </a:cubicBezTo>
                <a:cubicBezTo>
                  <a:pt x="11190" y="17136"/>
                  <a:pt x="11169" y="17079"/>
                  <a:pt x="11162" y="17041"/>
                </a:cubicBezTo>
                <a:cubicBezTo>
                  <a:pt x="11151" y="16977"/>
                  <a:pt x="11141" y="16906"/>
                  <a:pt x="11137" y="16842"/>
                </a:cubicBezTo>
                <a:cubicBezTo>
                  <a:pt x="11132" y="16754"/>
                  <a:pt x="11123" y="16681"/>
                  <a:pt x="11112" y="16594"/>
                </a:cubicBezTo>
                <a:cubicBezTo>
                  <a:pt x="11103" y="16522"/>
                  <a:pt x="11126" y="16484"/>
                  <a:pt x="11137" y="16421"/>
                </a:cubicBezTo>
                <a:cubicBezTo>
                  <a:pt x="11143" y="16390"/>
                  <a:pt x="11133" y="16316"/>
                  <a:pt x="11162" y="16297"/>
                </a:cubicBezTo>
                <a:cubicBezTo>
                  <a:pt x="11193" y="16277"/>
                  <a:pt x="11194" y="16287"/>
                  <a:pt x="11237" y="16272"/>
                </a:cubicBezTo>
                <a:cubicBezTo>
                  <a:pt x="11315" y="16244"/>
                  <a:pt x="11314" y="16250"/>
                  <a:pt x="11385" y="16272"/>
                </a:cubicBezTo>
                <a:cubicBezTo>
                  <a:pt x="11433" y="16287"/>
                  <a:pt x="11485" y="16290"/>
                  <a:pt x="11534" y="16297"/>
                </a:cubicBezTo>
              </a:path>
              <a:path w="3920" h="5037">
                <a:moveTo>
                  <a:pt x="11385" y="16520"/>
                </a:moveTo>
                <a:cubicBezTo>
                  <a:pt x="11407" y="16537"/>
                  <a:pt x="11452" y="16564"/>
                  <a:pt x="11485" y="16545"/>
                </a:cubicBezTo>
                <a:cubicBezTo>
                  <a:pt x="11526" y="16522"/>
                  <a:pt x="11533" y="16520"/>
                  <a:pt x="11584" y="16520"/>
                </a:cubicBezTo>
                <a:cubicBezTo>
                  <a:pt x="11634" y="16520"/>
                  <a:pt x="11642" y="16531"/>
                  <a:pt x="11683" y="16545"/>
                </a:cubicBezTo>
                <a:cubicBezTo>
                  <a:pt x="11731" y="16561"/>
                  <a:pt x="11733" y="16566"/>
                  <a:pt x="11733" y="16619"/>
                </a:cubicBezTo>
                <a:cubicBezTo>
                  <a:pt x="11733" y="16712"/>
                  <a:pt x="11692" y="16743"/>
                  <a:pt x="11633" y="16793"/>
                </a:cubicBezTo>
                <a:cubicBezTo>
                  <a:pt x="11585" y="16834"/>
                  <a:pt x="11555" y="16878"/>
                  <a:pt x="11509" y="16917"/>
                </a:cubicBezTo>
                <a:cubicBezTo>
                  <a:pt x="11475" y="16946"/>
                  <a:pt x="11441" y="16940"/>
                  <a:pt x="11435" y="16991"/>
                </a:cubicBezTo>
                <a:cubicBezTo>
                  <a:pt x="11428" y="17050"/>
                  <a:pt x="11448" y="17042"/>
                  <a:pt x="11485" y="17066"/>
                </a:cubicBezTo>
                <a:cubicBezTo>
                  <a:pt x="11534" y="17098"/>
                  <a:pt x="11547" y="17124"/>
                  <a:pt x="11609" y="17140"/>
                </a:cubicBezTo>
                <a:cubicBezTo>
                  <a:pt x="11627" y="17145"/>
                  <a:pt x="11708" y="17121"/>
                  <a:pt x="11733" y="17115"/>
                </a:cubicBezTo>
                <a:cubicBezTo>
                  <a:pt x="11758" y="17107"/>
                  <a:pt x="11782" y="17098"/>
                  <a:pt x="11807" y="17090"/>
                </a:cubicBezTo>
              </a:path>
              <a:path w="3920" h="5037">
                <a:moveTo>
                  <a:pt x="12105" y="17214"/>
                </a:moveTo>
                <a:cubicBezTo>
                  <a:pt x="12054" y="17240"/>
                  <a:pt x="11987" y="17280"/>
                  <a:pt x="11931" y="17289"/>
                </a:cubicBezTo>
                <a:cubicBezTo>
                  <a:pt x="11850" y="17303"/>
                  <a:pt x="11763" y="17328"/>
                  <a:pt x="11683" y="17338"/>
                </a:cubicBezTo>
                <a:cubicBezTo>
                  <a:pt x="11585" y="17350"/>
                  <a:pt x="11482" y="17359"/>
                  <a:pt x="11385" y="17363"/>
                </a:cubicBezTo>
                <a:cubicBezTo>
                  <a:pt x="11274" y="17367"/>
                  <a:pt x="11170" y="17378"/>
                  <a:pt x="11063" y="17388"/>
                </a:cubicBezTo>
                <a:cubicBezTo>
                  <a:pt x="10883" y="17405"/>
                  <a:pt x="10697" y="17399"/>
                  <a:pt x="10517" y="17413"/>
                </a:cubicBezTo>
                <a:cubicBezTo>
                  <a:pt x="10408" y="17421"/>
                  <a:pt x="10302" y="17433"/>
                  <a:pt x="10195" y="17438"/>
                </a:cubicBezTo>
                <a:cubicBezTo>
                  <a:pt x="10126" y="17441"/>
                  <a:pt x="10068" y="17459"/>
                  <a:pt x="9996" y="17462"/>
                </a:cubicBezTo>
                <a:cubicBezTo>
                  <a:pt x="9959" y="17464"/>
                  <a:pt x="9907" y="17490"/>
                  <a:pt x="9897" y="17487"/>
                </a:cubicBezTo>
                <a:cubicBezTo>
                  <a:pt x="9897" y="17479"/>
                  <a:pt x="9897" y="17470"/>
                  <a:pt x="9897" y="17462"/>
                </a:cubicBezTo>
              </a:path>
              <a:path w="3920" h="5037">
                <a:moveTo>
                  <a:pt x="10517" y="17413"/>
                </a:moveTo>
                <a:cubicBezTo>
                  <a:pt x="10517" y="17464"/>
                  <a:pt x="10526" y="17498"/>
                  <a:pt x="10492" y="17537"/>
                </a:cubicBezTo>
                <a:cubicBezTo>
                  <a:pt x="10465" y="17568"/>
                  <a:pt x="10430" y="17600"/>
                  <a:pt x="10418" y="17636"/>
                </a:cubicBezTo>
                <a:cubicBezTo>
                  <a:pt x="10403" y="17682"/>
                  <a:pt x="10432" y="17702"/>
                  <a:pt x="10443" y="17735"/>
                </a:cubicBezTo>
                <a:cubicBezTo>
                  <a:pt x="10460" y="17786"/>
                  <a:pt x="10479" y="17784"/>
                  <a:pt x="10517" y="17810"/>
                </a:cubicBezTo>
                <a:cubicBezTo>
                  <a:pt x="10561" y="17840"/>
                  <a:pt x="10619" y="17875"/>
                  <a:pt x="10666" y="17884"/>
                </a:cubicBezTo>
                <a:cubicBezTo>
                  <a:pt x="10721" y="17895"/>
                  <a:pt x="10742" y="17915"/>
                  <a:pt x="10790" y="17934"/>
                </a:cubicBezTo>
              </a:path>
              <a:path w="3920" h="5037">
                <a:moveTo>
                  <a:pt x="10988" y="17611"/>
                </a:moveTo>
                <a:cubicBezTo>
                  <a:pt x="10977" y="17658"/>
                  <a:pt x="10946" y="17709"/>
                  <a:pt x="10939" y="17760"/>
                </a:cubicBezTo>
                <a:cubicBezTo>
                  <a:pt x="10927" y="17849"/>
                  <a:pt x="10924" y="17946"/>
                  <a:pt x="10914" y="18033"/>
                </a:cubicBezTo>
                <a:cubicBezTo>
                  <a:pt x="10898" y="18172"/>
                  <a:pt x="10935" y="18316"/>
                  <a:pt x="10939" y="18455"/>
                </a:cubicBezTo>
                <a:cubicBezTo>
                  <a:pt x="10940" y="18496"/>
                  <a:pt x="10939" y="18538"/>
                  <a:pt x="10939" y="18579"/>
                </a:cubicBezTo>
              </a:path>
              <a:path w="3920" h="5037">
                <a:moveTo>
                  <a:pt x="9302" y="15999"/>
                </a:moveTo>
                <a:cubicBezTo>
                  <a:pt x="9210" y="15995"/>
                  <a:pt x="9181" y="15974"/>
                  <a:pt x="9079" y="15999"/>
                </a:cubicBezTo>
                <a:cubicBezTo>
                  <a:pt x="8971" y="16026"/>
                  <a:pt x="8913" y="16032"/>
                  <a:pt x="8880" y="16123"/>
                </a:cubicBezTo>
                <a:cubicBezTo>
                  <a:pt x="8860" y="16180"/>
                  <a:pt x="8902" y="16251"/>
                  <a:pt x="8930" y="16297"/>
                </a:cubicBezTo>
                <a:cubicBezTo>
                  <a:pt x="8971" y="16364"/>
                  <a:pt x="9068" y="16437"/>
                  <a:pt x="9079" y="16520"/>
                </a:cubicBezTo>
                <a:cubicBezTo>
                  <a:pt x="9089" y="16591"/>
                  <a:pt x="9094" y="16590"/>
                  <a:pt x="9029" y="16644"/>
                </a:cubicBezTo>
                <a:cubicBezTo>
                  <a:pt x="8984" y="16681"/>
                  <a:pt x="8885" y="16685"/>
                  <a:pt x="8830" y="16718"/>
                </a:cubicBezTo>
                <a:cubicBezTo>
                  <a:pt x="8750" y="16765"/>
                  <a:pt x="8712" y="16781"/>
                  <a:pt x="8731" y="16892"/>
                </a:cubicBezTo>
                <a:cubicBezTo>
                  <a:pt x="8748" y="16993"/>
                  <a:pt x="8802" y="17025"/>
                  <a:pt x="8855" y="17115"/>
                </a:cubicBezTo>
                <a:cubicBezTo>
                  <a:pt x="8899" y="17189"/>
                  <a:pt x="9011" y="17280"/>
                  <a:pt x="9029" y="17363"/>
                </a:cubicBezTo>
                <a:cubicBezTo>
                  <a:pt x="9055" y="17480"/>
                  <a:pt x="8972" y="17457"/>
                  <a:pt x="8930" y="17537"/>
                </a:cubicBezTo>
                <a:cubicBezTo>
                  <a:pt x="8905" y="17584"/>
                  <a:pt x="8873" y="17650"/>
                  <a:pt x="8880" y="17711"/>
                </a:cubicBezTo>
                <a:cubicBezTo>
                  <a:pt x="8893" y="17818"/>
                  <a:pt x="8968" y="17882"/>
                  <a:pt x="9029" y="17959"/>
                </a:cubicBezTo>
                <a:cubicBezTo>
                  <a:pt x="9111" y="18063"/>
                  <a:pt x="9194" y="18155"/>
                  <a:pt x="9302" y="18231"/>
                </a:cubicBezTo>
                <a:cubicBezTo>
                  <a:pt x="9361" y="18273"/>
                  <a:pt x="9421" y="18256"/>
                  <a:pt x="9475" y="18281"/>
                </a:cubicBezTo>
                <a:cubicBezTo>
                  <a:pt x="9530" y="18307"/>
                  <a:pt x="9431" y="18268"/>
                  <a:pt x="9550" y="18331"/>
                </a:cubicBezTo>
                <a:cubicBezTo>
                  <a:pt x="9629" y="18373"/>
                  <a:pt x="9692" y="18420"/>
                  <a:pt x="9773" y="18455"/>
                </a:cubicBezTo>
                <a:cubicBezTo>
                  <a:pt x="9854" y="18490"/>
                  <a:pt x="9956" y="18521"/>
                  <a:pt x="10046" y="18504"/>
                </a:cubicBezTo>
                <a:cubicBezTo>
                  <a:pt x="10163" y="18481"/>
                  <a:pt x="10141" y="18433"/>
                  <a:pt x="10220" y="18455"/>
                </a:cubicBezTo>
                <a:cubicBezTo>
                  <a:pt x="10274" y="18470"/>
                  <a:pt x="10343" y="18574"/>
                  <a:pt x="10393" y="18604"/>
                </a:cubicBezTo>
                <a:cubicBezTo>
                  <a:pt x="10506" y="18673"/>
                  <a:pt x="10601" y="18724"/>
                  <a:pt x="10740" y="18703"/>
                </a:cubicBezTo>
                <a:cubicBezTo>
                  <a:pt x="10821" y="18691"/>
                  <a:pt x="10954" y="18630"/>
                  <a:pt x="11013" y="18579"/>
                </a:cubicBezTo>
                <a:cubicBezTo>
                  <a:pt x="11062" y="18536"/>
                  <a:pt x="11081" y="18463"/>
                  <a:pt x="11137" y="18430"/>
                </a:cubicBezTo>
                <a:cubicBezTo>
                  <a:pt x="11180" y="18405"/>
                  <a:pt x="11229" y="18390"/>
                  <a:pt x="11286" y="18405"/>
                </a:cubicBezTo>
                <a:cubicBezTo>
                  <a:pt x="11373" y="18427"/>
                  <a:pt x="11446" y="18522"/>
                  <a:pt x="11534" y="18554"/>
                </a:cubicBezTo>
                <a:cubicBezTo>
                  <a:pt x="11613" y="18583"/>
                  <a:pt x="11685" y="18597"/>
                  <a:pt x="11757" y="18554"/>
                </a:cubicBezTo>
                <a:cubicBezTo>
                  <a:pt x="11837" y="18506"/>
                  <a:pt x="11898" y="18412"/>
                  <a:pt x="11931" y="18331"/>
                </a:cubicBezTo>
                <a:cubicBezTo>
                  <a:pt x="11954" y="18274"/>
                  <a:pt x="11943" y="18140"/>
                  <a:pt x="12005" y="18107"/>
                </a:cubicBezTo>
                <a:cubicBezTo>
                  <a:pt x="12074" y="18070"/>
                  <a:pt x="12110" y="18119"/>
                  <a:pt x="12179" y="18107"/>
                </a:cubicBezTo>
                <a:cubicBezTo>
                  <a:pt x="12298" y="18086"/>
                  <a:pt x="12322" y="18088"/>
                  <a:pt x="12402" y="18008"/>
                </a:cubicBezTo>
                <a:cubicBezTo>
                  <a:pt x="12491" y="17920"/>
                  <a:pt x="12543" y="17831"/>
                  <a:pt x="12576" y="17711"/>
                </a:cubicBezTo>
                <a:cubicBezTo>
                  <a:pt x="12616" y="17566"/>
                  <a:pt x="12603" y="17434"/>
                  <a:pt x="12576" y="17289"/>
                </a:cubicBezTo>
                <a:cubicBezTo>
                  <a:pt x="12564" y="17223"/>
                  <a:pt x="12542" y="17153"/>
                  <a:pt x="12526" y="17090"/>
                </a:cubicBezTo>
                <a:cubicBezTo>
                  <a:pt x="12557" y="17071"/>
                  <a:pt x="12584" y="17122"/>
                  <a:pt x="12601" y="17090"/>
                </a:cubicBezTo>
                <a:cubicBezTo>
                  <a:pt x="12656" y="16988"/>
                  <a:pt x="12651" y="16889"/>
                  <a:pt x="12626" y="16768"/>
                </a:cubicBezTo>
                <a:cubicBezTo>
                  <a:pt x="12595" y="16618"/>
                  <a:pt x="12538" y="16528"/>
                  <a:pt x="12427" y="16421"/>
                </a:cubicBezTo>
                <a:cubicBezTo>
                  <a:pt x="12349" y="16346"/>
                  <a:pt x="12223" y="16241"/>
                  <a:pt x="12105" y="16247"/>
                </a:cubicBezTo>
                <a:cubicBezTo>
                  <a:pt x="12022" y="16251"/>
                  <a:pt x="12028" y="16311"/>
                  <a:pt x="11956" y="16272"/>
                </a:cubicBezTo>
                <a:cubicBezTo>
                  <a:pt x="11890" y="16236"/>
                  <a:pt x="11830" y="16107"/>
                  <a:pt x="11782" y="16049"/>
                </a:cubicBezTo>
                <a:cubicBezTo>
                  <a:pt x="11644" y="15884"/>
                  <a:pt x="11554" y="15800"/>
                  <a:pt x="11361" y="15726"/>
                </a:cubicBezTo>
                <a:cubicBezTo>
                  <a:pt x="11281" y="15695"/>
                  <a:pt x="11139" y="15674"/>
                  <a:pt x="11063" y="15726"/>
                </a:cubicBezTo>
                <a:cubicBezTo>
                  <a:pt x="11007" y="15764"/>
                  <a:pt x="11023" y="15792"/>
                  <a:pt x="11013" y="15850"/>
                </a:cubicBezTo>
                <a:cubicBezTo>
                  <a:pt x="11021" y="15867"/>
                  <a:pt x="11030" y="15883"/>
                  <a:pt x="11038" y="15900"/>
                </a:cubicBezTo>
                <a:cubicBezTo>
                  <a:pt x="10999" y="15868"/>
                  <a:pt x="10957" y="15843"/>
                  <a:pt x="10914" y="15801"/>
                </a:cubicBezTo>
                <a:cubicBezTo>
                  <a:pt x="10829" y="15718"/>
                  <a:pt x="10757" y="15612"/>
                  <a:pt x="10641" y="15577"/>
                </a:cubicBezTo>
                <a:cubicBezTo>
                  <a:pt x="10580" y="15559"/>
                  <a:pt x="10445" y="15568"/>
                  <a:pt x="10393" y="15602"/>
                </a:cubicBezTo>
                <a:cubicBezTo>
                  <a:pt x="10323" y="15648"/>
                  <a:pt x="10332" y="15706"/>
                  <a:pt x="10319" y="15776"/>
                </a:cubicBezTo>
                <a:cubicBezTo>
                  <a:pt x="10313" y="15808"/>
                  <a:pt x="10322" y="15843"/>
                  <a:pt x="10319" y="15875"/>
                </a:cubicBezTo>
                <a:cubicBezTo>
                  <a:pt x="10269" y="15845"/>
                  <a:pt x="10225" y="15807"/>
                  <a:pt x="10170" y="15776"/>
                </a:cubicBezTo>
                <a:cubicBezTo>
                  <a:pt x="10112" y="15744"/>
                  <a:pt x="10012" y="15681"/>
                  <a:pt x="9947" y="15677"/>
                </a:cubicBezTo>
                <a:cubicBezTo>
                  <a:pt x="9873" y="15673"/>
                  <a:pt x="9761" y="15672"/>
                  <a:pt x="9723" y="15751"/>
                </a:cubicBezTo>
                <a:cubicBezTo>
                  <a:pt x="9696" y="15807"/>
                  <a:pt x="9753" y="15828"/>
                  <a:pt x="9748" y="15875"/>
                </a:cubicBezTo>
                <a:cubicBezTo>
                  <a:pt x="9698" y="15843"/>
                  <a:pt x="9624" y="15771"/>
                  <a:pt x="9575" y="15751"/>
                </a:cubicBezTo>
                <a:cubicBezTo>
                  <a:pt x="9503" y="15722"/>
                  <a:pt x="9407" y="15699"/>
                  <a:pt x="9327" y="15701"/>
                </a:cubicBezTo>
                <a:cubicBezTo>
                  <a:pt x="9234" y="15703"/>
                  <a:pt x="9140" y="15714"/>
                  <a:pt x="9103" y="15801"/>
                </a:cubicBezTo>
                <a:cubicBezTo>
                  <a:pt x="9065" y="15890"/>
                  <a:pt x="9091" y="15915"/>
                  <a:pt x="9128" y="15999"/>
                </a:cubicBezTo>
                <a:cubicBezTo>
                  <a:pt x="9150" y="16043"/>
                  <a:pt x="9153" y="16054"/>
                  <a:pt x="9178" y="16073"/>
                </a:cubicBezTo>
                <a:cubicBezTo>
                  <a:pt x="9131" y="16065"/>
                  <a:pt x="9127" y="16055"/>
                  <a:pt x="9079" y="16049"/>
                </a:cubicBezTo>
                <a:cubicBezTo>
                  <a:pt x="8975" y="16035"/>
                  <a:pt x="8901" y="16061"/>
                  <a:pt x="8806" y="160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70200" y="3276720"/>
            <a:ext cx="277920" cy="581040"/>
          </a:xfrm>
          <a:custGeom>
            <a:avLst/>
            <a:gdLst/>
            <a:ahLst/>
            <a:rect l="l" t="t" r="r" b="b"/>
            <a:pathLst>
              <a:path w="770" h="1614">
                <a:moveTo>
                  <a:pt x="10964" y="9103"/>
                </a:moveTo>
                <a:cubicBezTo>
                  <a:pt x="10957" y="9153"/>
                  <a:pt x="10941" y="9176"/>
                  <a:pt x="10939" y="9227"/>
                </a:cubicBezTo>
                <a:cubicBezTo>
                  <a:pt x="10934" y="9334"/>
                  <a:pt x="10898" y="9423"/>
                  <a:pt x="10864" y="9525"/>
                </a:cubicBezTo>
                <a:cubicBezTo>
                  <a:pt x="10800" y="9719"/>
                  <a:pt x="10768" y="9931"/>
                  <a:pt x="10691" y="10120"/>
                </a:cubicBezTo>
                <a:cubicBezTo>
                  <a:pt x="10658" y="10202"/>
                  <a:pt x="10631" y="10285"/>
                  <a:pt x="10592" y="10368"/>
                </a:cubicBezTo>
                <a:cubicBezTo>
                  <a:pt x="10568" y="10419"/>
                  <a:pt x="10568" y="10475"/>
                  <a:pt x="10542" y="10517"/>
                </a:cubicBezTo>
                <a:cubicBezTo>
                  <a:pt x="10534" y="10525"/>
                  <a:pt x="10525" y="10534"/>
                  <a:pt x="10517" y="10542"/>
                </a:cubicBezTo>
                <a:cubicBezTo>
                  <a:pt x="10501" y="10526"/>
                  <a:pt x="10472" y="10497"/>
                  <a:pt x="10443" y="10468"/>
                </a:cubicBezTo>
              </a:path>
              <a:path w="770" h="1614">
                <a:moveTo>
                  <a:pt x="10195" y="10269"/>
                </a:moveTo>
                <a:cubicBezTo>
                  <a:pt x="10201" y="10348"/>
                  <a:pt x="10202" y="10437"/>
                  <a:pt x="10220" y="10517"/>
                </a:cubicBezTo>
                <a:cubicBezTo>
                  <a:pt x="10231" y="10563"/>
                  <a:pt x="10256" y="10602"/>
                  <a:pt x="10269" y="10641"/>
                </a:cubicBezTo>
                <a:cubicBezTo>
                  <a:pt x="10279" y="10671"/>
                  <a:pt x="10271" y="10705"/>
                  <a:pt x="10294" y="10716"/>
                </a:cubicBezTo>
                <a:cubicBezTo>
                  <a:pt x="10302" y="10716"/>
                  <a:pt x="10311" y="10716"/>
                  <a:pt x="10319" y="10716"/>
                </a:cubicBezTo>
                <a:cubicBezTo>
                  <a:pt x="10332" y="10677"/>
                  <a:pt x="10370" y="10694"/>
                  <a:pt x="10393" y="10666"/>
                </a:cubicBezTo>
                <a:cubicBezTo>
                  <a:pt x="10434" y="10615"/>
                  <a:pt x="10492" y="10557"/>
                  <a:pt x="10542" y="10517"/>
                </a:cubicBezTo>
                <a:cubicBezTo>
                  <a:pt x="10596" y="10473"/>
                  <a:pt x="10626" y="10428"/>
                  <a:pt x="10691" y="10393"/>
                </a:cubicBezTo>
                <a:cubicBezTo>
                  <a:pt x="10731" y="10373"/>
                  <a:pt x="10737" y="10364"/>
                  <a:pt x="10765" y="103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87800" y="4857840"/>
            <a:ext cx="349200" cy="876240"/>
          </a:xfrm>
          <a:custGeom>
            <a:avLst/>
            <a:gdLst/>
            <a:ahLst/>
            <a:rect l="l" t="t" r="r" b="b"/>
            <a:pathLst>
              <a:path w="969" h="2432">
                <a:moveTo>
                  <a:pt x="9029" y="13866"/>
                </a:moveTo>
                <a:cubicBezTo>
                  <a:pt x="9029" y="13938"/>
                  <a:pt x="9016" y="14004"/>
                  <a:pt x="9004" y="14064"/>
                </a:cubicBezTo>
                <a:cubicBezTo>
                  <a:pt x="8986" y="14156"/>
                  <a:pt x="8991" y="14272"/>
                  <a:pt x="8979" y="14362"/>
                </a:cubicBezTo>
                <a:cubicBezTo>
                  <a:pt x="8974" y="14402"/>
                  <a:pt x="8979" y="14445"/>
                  <a:pt x="8979" y="14486"/>
                </a:cubicBezTo>
                <a:cubicBezTo>
                  <a:pt x="8979" y="14235"/>
                  <a:pt x="8981" y="13990"/>
                  <a:pt x="8954" y="13742"/>
                </a:cubicBezTo>
                <a:cubicBezTo>
                  <a:pt x="8947" y="13679"/>
                  <a:pt x="8971" y="13669"/>
                  <a:pt x="8979" y="13618"/>
                </a:cubicBezTo>
                <a:cubicBezTo>
                  <a:pt x="8988" y="13559"/>
                  <a:pt x="8982" y="13572"/>
                  <a:pt x="9029" y="13543"/>
                </a:cubicBezTo>
                <a:cubicBezTo>
                  <a:pt x="9074" y="13515"/>
                  <a:pt x="9178" y="13498"/>
                  <a:pt x="9227" y="13494"/>
                </a:cubicBezTo>
                <a:cubicBezTo>
                  <a:pt x="9352" y="13483"/>
                  <a:pt x="9679" y="13494"/>
                  <a:pt x="9723" y="13494"/>
                </a:cubicBezTo>
              </a:path>
              <a:path w="969" h="2432">
                <a:moveTo>
                  <a:pt x="9575" y="13667"/>
                </a:moveTo>
                <a:cubicBezTo>
                  <a:pt x="9551" y="13730"/>
                  <a:pt x="9546" y="13783"/>
                  <a:pt x="9525" y="13841"/>
                </a:cubicBezTo>
                <a:cubicBezTo>
                  <a:pt x="9500" y="13912"/>
                  <a:pt x="9436" y="13969"/>
                  <a:pt x="9401" y="14039"/>
                </a:cubicBezTo>
                <a:cubicBezTo>
                  <a:pt x="9386" y="14068"/>
                  <a:pt x="9348" y="14191"/>
                  <a:pt x="9351" y="14213"/>
                </a:cubicBezTo>
                <a:cubicBezTo>
                  <a:pt x="9358" y="14262"/>
                  <a:pt x="9394" y="14326"/>
                  <a:pt x="9426" y="14362"/>
                </a:cubicBezTo>
                <a:cubicBezTo>
                  <a:pt x="9454" y="14393"/>
                  <a:pt x="9515" y="14439"/>
                  <a:pt x="9550" y="14436"/>
                </a:cubicBezTo>
                <a:cubicBezTo>
                  <a:pt x="9623" y="14430"/>
                  <a:pt x="9694" y="14410"/>
                  <a:pt x="9748" y="14362"/>
                </a:cubicBezTo>
                <a:cubicBezTo>
                  <a:pt x="9787" y="14327"/>
                  <a:pt x="9798" y="14314"/>
                  <a:pt x="9798" y="14263"/>
                </a:cubicBezTo>
                <a:cubicBezTo>
                  <a:pt x="9798" y="14222"/>
                  <a:pt x="9784" y="14164"/>
                  <a:pt x="9748" y="14139"/>
                </a:cubicBezTo>
                <a:cubicBezTo>
                  <a:pt x="9681" y="14093"/>
                  <a:pt x="9633" y="14120"/>
                  <a:pt x="9575" y="14163"/>
                </a:cubicBezTo>
                <a:cubicBezTo>
                  <a:pt x="9536" y="14192"/>
                  <a:pt x="9516" y="14225"/>
                  <a:pt x="9500" y="14263"/>
                </a:cubicBezTo>
                <a:cubicBezTo>
                  <a:pt x="9479" y="14310"/>
                  <a:pt x="9459" y="14381"/>
                  <a:pt x="9475" y="14436"/>
                </a:cubicBezTo>
                <a:cubicBezTo>
                  <a:pt x="9493" y="14496"/>
                  <a:pt x="9521" y="14553"/>
                  <a:pt x="9550" y="14610"/>
                </a:cubicBezTo>
              </a:path>
              <a:path w="969" h="2432">
                <a:moveTo>
                  <a:pt x="8855" y="14660"/>
                </a:moveTo>
                <a:cubicBezTo>
                  <a:pt x="9032" y="14660"/>
                  <a:pt x="9202" y="14667"/>
                  <a:pt x="9376" y="14684"/>
                </a:cubicBezTo>
                <a:cubicBezTo>
                  <a:pt x="9533" y="14699"/>
                  <a:pt x="9955" y="14684"/>
                  <a:pt x="9798" y="14684"/>
                </a:cubicBezTo>
                <a:cubicBezTo>
                  <a:pt x="9790" y="14684"/>
                  <a:pt x="9781" y="14684"/>
                  <a:pt x="9773" y="14684"/>
                </a:cubicBezTo>
              </a:path>
              <a:path w="969" h="2432">
                <a:moveTo>
                  <a:pt x="9426" y="14833"/>
                </a:moveTo>
                <a:cubicBezTo>
                  <a:pt x="9385" y="14891"/>
                  <a:pt x="9348" y="14955"/>
                  <a:pt x="9302" y="15007"/>
                </a:cubicBezTo>
                <a:cubicBezTo>
                  <a:pt x="9264" y="15049"/>
                  <a:pt x="9274" y="15067"/>
                  <a:pt x="9252" y="15106"/>
                </a:cubicBezTo>
                <a:cubicBezTo>
                  <a:pt x="9228" y="15148"/>
                  <a:pt x="9223" y="15161"/>
                  <a:pt x="9252" y="15205"/>
                </a:cubicBezTo>
                <a:cubicBezTo>
                  <a:pt x="9274" y="15237"/>
                  <a:pt x="9340" y="15251"/>
                  <a:pt x="9376" y="15255"/>
                </a:cubicBezTo>
                <a:cubicBezTo>
                  <a:pt x="9421" y="15260"/>
                  <a:pt x="9456" y="15276"/>
                  <a:pt x="9500" y="15280"/>
                </a:cubicBezTo>
                <a:cubicBezTo>
                  <a:pt x="9556" y="15286"/>
                  <a:pt x="9617" y="15280"/>
                  <a:pt x="9674" y="15280"/>
                </a:cubicBezTo>
              </a:path>
              <a:path w="969" h="2432">
                <a:moveTo>
                  <a:pt x="9748" y="14932"/>
                </a:moveTo>
                <a:cubicBezTo>
                  <a:pt x="9697" y="15059"/>
                  <a:pt x="9678" y="15175"/>
                  <a:pt x="9649" y="15304"/>
                </a:cubicBezTo>
                <a:cubicBezTo>
                  <a:pt x="9626" y="15406"/>
                  <a:pt x="9624" y="15497"/>
                  <a:pt x="9624" y="15602"/>
                </a:cubicBezTo>
                <a:cubicBezTo>
                  <a:pt x="9624" y="15694"/>
                  <a:pt x="9635" y="15766"/>
                  <a:pt x="9649" y="15850"/>
                </a:cubicBezTo>
                <a:cubicBezTo>
                  <a:pt x="9658" y="15906"/>
                  <a:pt x="9623" y="15934"/>
                  <a:pt x="9674" y="159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2.  Cos(</a:t>
            </a:r>
            <a:r>
              <a:rPr b="0" lang="en-US" sz="4400" spc="-1" strike="noStrike" baseline="30000">
                <a:solidFill>
                  <a:srgbClr val="dfd293"/>
                </a:solidFill>
                <a:latin typeface="Arial"/>
              </a:rPr>
              <a:t>5</a:t>
            </a:r>
            <a:r>
              <a:rPr b="0" lang="en-US" sz="4400" spc="-1" strike="noStrike" baseline="30000">
                <a:solidFill>
                  <a:srgbClr val="dfd293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/</a:t>
            </a:r>
            <a:r>
              <a:rPr b="0" lang="en-US" sz="4400" spc="-1" strike="noStrike" baseline="-25000">
                <a:solidFill>
                  <a:srgbClr val="dfd293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- </a:t>
            </a:r>
            <a:r>
              <a:rPr b="0" lang="en-US" sz="4400" spc="-1" strike="noStrike" baseline="30000">
                <a:solidFill>
                  <a:srgbClr val="dfd293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/</a:t>
            </a:r>
            <a:r>
              <a:rPr b="0" lang="en-US" sz="4400" spc="-1" strike="noStrike" baseline="-25000">
                <a:solidFill>
                  <a:srgbClr val="dfd293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3040" y="1704960"/>
            <a:ext cx="1036800" cy="662040"/>
          </a:xfrm>
          <a:custGeom>
            <a:avLst/>
            <a:gdLst/>
            <a:ahLst/>
            <a:rect l="l" t="t" r="r" b="b"/>
            <a:pathLst>
              <a:path w="2879" h="1836">
                <a:moveTo>
                  <a:pt x="8285" y="5060"/>
                </a:moveTo>
                <a:cubicBezTo>
                  <a:pt x="8285" y="5181"/>
                  <a:pt x="8300" y="5097"/>
                  <a:pt x="8285" y="5085"/>
                </a:cubicBezTo>
                <a:cubicBezTo>
                  <a:pt x="8274" y="5076"/>
                  <a:pt x="8246" y="5018"/>
                  <a:pt x="8235" y="5011"/>
                </a:cubicBezTo>
                <a:cubicBezTo>
                  <a:pt x="8202" y="4989"/>
                  <a:pt x="8109" y="5014"/>
                  <a:pt x="8086" y="5035"/>
                </a:cubicBezTo>
                <a:cubicBezTo>
                  <a:pt x="8053" y="5064"/>
                  <a:pt x="7987" y="5106"/>
                  <a:pt x="7962" y="5135"/>
                </a:cubicBezTo>
                <a:cubicBezTo>
                  <a:pt x="7903" y="5204"/>
                  <a:pt x="7830" y="5369"/>
                  <a:pt x="7813" y="5457"/>
                </a:cubicBezTo>
                <a:cubicBezTo>
                  <a:pt x="7795" y="5549"/>
                  <a:pt x="7818" y="5645"/>
                  <a:pt x="7838" y="5730"/>
                </a:cubicBezTo>
                <a:cubicBezTo>
                  <a:pt x="7857" y="5810"/>
                  <a:pt x="7877" y="5808"/>
                  <a:pt x="7938" y="5854"/>
                </a:cubicBezTo>
                <a:cubicBezTo>
                  <a:pt x="7968" y="5877"/>
                  <a:pt x="8043" y="5897"/>
                  <a:pt x="8086" y="5879"/>
                </a:cubicBezTo>
                <a:cubicBezTo>
                  <a:pt x="8161" y="5848"/>
                  <a:pt x="8216" y="5828"/>
                  <a:pt x="8260" y="5755"/>
                </a:cubicBezTo>
                <a:cubicBezTo>
                  <a:pt x="8285" y="5705"/>
                  <a:pt x="8293" y="5688"/>
                  <a:pt x="8310" y="5655"/>
                </a:cubicBezTo>
              </a:path>
              <a:path w="2879" h="1836">
                <a:moveTo>
                  <a:pt x="8483" y="5283"/>
                </a:moveTo>
                <a:cubicBezTo>
                  <a:pt x="8462" y="5358"/>
                  <a:pt x="8438" y="5430"/>
                  <a:pt x="8434" y="5507"/>
                </a:cubicBezTo>
                <a:cubicBezTo>
                  <a:pt x="8429" y="5592"/>
                  <a:pt x="8427" y="5675"/>
                  <a:pt x="8458" y="5755"/>
                </a:cubicBezTo>
                <a:cubicBezTo>
                  <a:pt x="8468" y="5782"/>
                  <a:pt x="8524" y="5859"/>
                  <a:pt x="8558" y="5854"/>
                </a:cubicBezTo>
                <a:cubicBezTo>
                  <a:pt x="8601" y="5848"/>
                  <a:pt x="8673" y="5806"/>
                  <a:pt x="8706" y="5779"/>
                </a:cubicBezTo>
                <a:cubicBezTo>
                  <a:pt x="8789" y="5711"/>
                  <a:pt x="8852" y="5609"/>
                  <a:pt x="8880" y="5507"/>
                </a:cubicBezTo>
                <a:cubicBezTo>
                  <a:pt x="8894" y="5457"/>
                  <a:pt x="8875" y="5350"/>
                  <a:pt x="8855" y="5308"/>
                </a:cubicBezTo>
                <a:cubicBezTo>
                  <a:pt x="8836" y="5268"/>
                  <a:pt x="8765" y="5230"/>
                  <a:pt x="8731" y="5209"/>
                </a:cubicBezTo>
                <a:cubicBezTo>
                  <a:pt x="8656" y="5163"/>
                  <a:pt x="8629" y="5191"/>
                  <a:pt x="8558" y="5209"/>
                </a:cubicBezTo>
                <a:cubicBezTo>
                  <a:pt x="8522" y="5218"/>
                  <a:pt x="8462" y="5254"/>
                  <a:pt x="8458" y="5283"/>
                </a:cubicBezTo>
                <a:cubicBezTo>
                  <a:pt x="8452" y="5329"/>
                  <a:pt x="8448" y="5371"/>
                  <a:pt x="8483" y="5383"/>
                </a:cubicBezTo>
              </a:path>
              <a:path w="2879" h="1836">
                <a:moveTo>
                  <a:pt x="9252" y="5110"/>
                </a:moveTo>
                <a:cubicBezTo>
                  <a:pt x="9185" y="5118"/>
                  <a:pt x="9113" y="5148"/>
                  <a:pt x="9054" y="5184"/>
                </a:cubicBezTo>
                <a:cubicBezTo>
                  <a:pt x="9020" y="5205"/>
                  <a:pt x="9002" y="5226"/>
                  <a:pt x="8979" y="5259"/>
                </a:cubicBezTo>
                <a:cubicBezTo>
                  <a:pt x="8979" y="5267"/>
                  <a:pt x="8979" y="5275"/>
                  <a:pt x="8979" y="5283"/>
                </a:cubicBezTo>
                <a:cubicBezTo>
                  <a:pt x="9015" y="5310"/>
                  <a:pt x="9055" y="5328"/>
                  <a:pt x="9103" y="5333"/>
                </a:cubicBezTo>
                <a:cubicBezTo>
                  <a:pt x="9157" y="5338"/>
                  <a:pt x="9231" y="5376"/>
                  <a:pt x="9277" y="5407"/>
                </a:cubicBezTo>
                <a:cubicBezTo>
                  <a:pt x="9325" y="5440"/>
                  <a:pt x="9349" y="5468"/>
                  <a:pt x="9376" y="5507"/>
                </a:cubicBezTo>
                <a:cubicBezTo>
                  <a:pt x="9424" y="5578"/>
                  <a:pt x="9383" y="5604"/>
                  <a:pt x="9327" y="5655"/>
                </a:cubicBezTo>
                <a:cubicBezTo>
                  <a:pt x="9265" y="5712"/>
                  <a:pt x="9215" y="5679"/>
                  <a:pt x="9153" y="5705"/>
                </a:cubicBezTo>
                <a:cubicBezTo>
                  <a:pt x="9143" y="5709"/>
                  <a:pt x="9072" y="5727"/>
                  <a:pt x="9054" y="5705"/>
                </a:cubicBezTo>
                <a:cubicBezTo>
                  <a:pt x="9047" y="5696"/>
                  <a:pt x="9054" y="5643"/>
                  <a:pt x="9054" y="5631"/>
                </a:cubicBezTo>
              </a:path>
              <a:path w="2879" h="1836">
                <a:moveTo>
                  <a:pt x="9723" y="4762"/>
                </a:moveTo>
                <a:cubicBezTo>
                  <a:pt x="9814" y="4762"/>
                  <a:pt x="9905" y="4762"/>
                  <a:pt x="9996" y="4762"/>
                </a:cubicBezTo>
                <a:cubicBezTo>
                  <a:pt x="9996" y="4738"/>
                  <a:pt x="9996" y="4730"/>
                  <a:pt x="9971" y="4738"/>
                </a:cubicBezTo>
              </a:path>
              <a:path w="2879" h="1836">
                <a:moveTo>
                  <a:pt x="9599" y="4812"/>
                </a:moveTo>
                <a:cubicBezTo>
                  <a:pt x="9576" y="4876"/>
                  <a:pt x="9575" y="4918"/>
                  <a:pt x="9575" y="4986"/>
                </a:cubicBezTo>
                <a:cubicBezTo>
                  <a:pt x="9575" y="4990"/>
                  <a:pt x="9598" y="5084"/>
                  <a:pt x="9599" y="5085"/>
                </a:cubicBezTo>
                <a:cubicBezTo>
                  <a:pt x="9624" y="5085"/>
                  <a:pt x="9632" y="5085"/>
                  <a:pt x="9624" y="5110"/>
                </a:cubicBezTo>
                <a:cubicBezTo>
                  <a:pt x="9662" y="5072"/>
                  <a:pt x="9670" y="5060"/>
                  <a:pt x="9723" y="5060"/>
                </a:cubicBezTo>
                <a:cubicBezTo>
                  <a:pt x="9781" y="5060"/>
                  <a:pt x="9778" y="5077"/>
                  <a:pt x="9823" y="5110"/>
                </a:cubicBezTo>
                <a:cubicBezTo>
                  <a:pt x="9890" y="5159"/>
                  <a:pt x="9952" y="5220"/>
                  <a:pt x="9971" y="5308"/>
                </a:cubicBezTo>
                <a:cubicBezTo>
                  <a:pt x="9986" y="5375"/>
                  <a:pt x="9961" y="5430"/>
                  <a:pt x="9922" y="5482"/>
                </a:cubicBezTo>
                <a:cubicBezTo>
                  <a:pt x="9886" y="5531"/>
                  <a:pt x="9849" y="5576"/>
                  <a:pt x="9798" y="5606"/>
                </a:cubicBezTo>
                <a:cubicBezTo>
                  <a:pt x="9747" y="5636"/>
                  <a:pt x="9705" y="5631"/>
                  <a:pt x="9649" y="5631"/>
                </a:cubicBezTo>
                <a:cubicBezTo>
                  <a:pt x="9649" y="5582"/>
                  <a:pt x="9645" y="5569"/>
                  <a:pt x="9674" y="5531"/>
                </a:cubicBezTo>
              </a:path>
              <a:path w="2879" h="1836">
                <a:moveTo>
                  <a:pt x="10220" y="4936"/>
                </a:moveTo>
                <a:cubicBezTo>
                  <a:pt x="10318" y="4921"/>
                  <a:pt x="10421" y="4892"/>
                  <a:pt x="10517" y="4887"/>
                </a:cubicBezTo>
                <a:cubicBezTo>
                  <a:pt x="10577" y="4884"/>
                  <a:pt x="10616" y="4868"/>
                  <a:pt x="10666" y="4862"/>
                </a:cubicBezTo>
                <a:cubicBezTo>
                  <a:pt x="10691" y="4862"/>
                  <a:pt x="10699" y="4862"/>
                  <a:pt x="10691" y="4837"/>
                </a:cubicBezTo>
              </a:path>
              <a:path w="2879" h="1836">
                <a:moveTo>
                  <a:pt x="10368" y="4961"/>
                </a:moveTo>
                <a:cubicBezTo>
                  <a:pt x="10374" y="5056"/>
                  <a:pt x="10393" y="5139"/>
                  <a:pt x="10393" y="5234"/>
                </a:cubicBezTo>
                <a:cubicBezTo>
                  <a:pt x="10393" y="5297"/>
                  <a:pt x="10412" y="5345"/>
                  <a:pt x="10418" y="5407"/>
                </a:cubicBezTo>
                <a:cubicBezTo>
                  <a:pt x="10422" y="5451"/>
                  <a:pt x="10441" y="5450"/>
                  <a:pt x="10468" y="5432"/>
                </a:cubicBezTo>
              </a:path>
              <a:path w="2879" h="1836">
                <a:moveTo>
                  <a:pt x="10592" y="4986"/>
                </a:moveTo>
                <a:cubicBezTo>
                  <a:pt x="10592" y="5117"/>
                  <a:pt x="10574" y="5260"/>
                  <a:pt x="10616" y="5383"/>
                </a:cubicBezTo>
                <a:cubicBezTo>
                  <a:pt x="10639" y="5450"/>
                  <a:pt x="10640" y="5474"/>
                  <a:pt x="10666" y="5507"/>
                </a:cubicBezTo>
                <a:cubicBezTo>
                  <a:pt x="10689" y="5529"/>
                  <a:pt x="10700" y="5537"/>
                  <a:pt x="10666" y="5531"/>
                </a:cubicBezTo>
              </a:path>
              <a:path w="2879" h="1836">
                <a:moveTo>
                  <a:pt x="9823" y="5680"/>
                </a:moveTo>
                <a:cubicBezTo>
                  <a:pt x="9886" y="5708"/>
                  <a:pt x="9925" y="5705"/>
                  <a:pt x="9996" y="5705"/>
                </a:cubicBezTo>
                <a:cubicBezTo>
                  <a:pt x="10079" y="5705"/>
                  <a:pt x="10156" y="5680"/>
                  <a:pt x="10244" y="5680"/>
                </a:cubicBezTo>
                <a:cubicBezTo>
                  <a:pt x="10270" y="5680"/>
                  <a:pt x="10403" y="5680"/>
                  <a:pt x="10344" y="5680"/>
                </a:cubicBezTo>
                <a:cubicBezTo>
                  <a:pt x="10336" y="5680"/>
                  <a:pt x="10327" y="5680"/>
                  <a:pt x="10319" y="5680"/>
                </a:cubicBezTo>
              </a:path>
              <a:path w="2879" h="1836">
                <a:moveTo>
                  <a:pt x="10046" y="5804"/>
                </a:moveTo>
                <a:cubicBezTo>
                  <a:pt x="10027" y="5848"/>
                  <a:pt x="10006" y="5902"/>
                  <a:pt x="10021" y="5953"/>
                </a:cubicBezTo>
                <a:cubicBezTo>
                  <a:pt x="10032" y="5991"/>
                  <a:pt x="10067" y="6048"/>
                  <a:pt x="10096" y="6052"/>
                </a:cubicBezTo>
                <a:cubicBezTo>
                  <a:pt x="10154" y="6059"/>
                  <a:pt x="10198" y="6042"/>
                  <a:pt x="10244" y="6028"/>
                </a:cubicBezTo>
                <a:cubicBezTo>
                  <a:pt x="10300" y="6012"/>
                  <a:pt x="10314" y="5981"/>
                  <a:pt x="10344" y="5928"/>
                </a:cubicBezTo>
              </a:path>
              <a:path w="2879" h="1836">
                <a:moveTo>
                  <a:pt x="10294" y="5705"/>
                </a:moveTo>
                <a:cubicBezTo>
                  <a:pt x="10294" y="5845"/>
                  <a:pt x="10256" y="6043"/>
                  <a:pt x="10269" y="6176"/>
                </a:cubicBezTo>
                <a:cubicBezTo>
                  <a:pt x="10275" y="6243"/>
                  <a:pt x="10269" y="6297"/>
                  <a:pt x="10269" y="6375"/>
                </a:cubicBezTo>
                <a:cubicBezTo>
                  <a:pt x="10269" y="6416"/>
                  <a:pt x="10269" y="6590"/>
                  <a:pt x="10269" y="65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7040" y="1758960"/>
            <a:ext cx="973080" cy="635040"/>
          </a:xfrm>
          <a:custGeom>
            <a:avLst/>
            <a:gdLst/>
            <a:ahLst/>
            <a:rect l="l" t="t" r="r" b="b"/>
            <a:pathLst>
              <a:path w="2704" h="1762">
                <a:moveTo>
                  <a:pt x="11509" y="5283"/>
                </a:moveTo>
                <a:cubicBezTo>
                  <a:pt x="11501" y="5300"/>
                  <a:pt x="11493" y="5316"/>
                  <a:pt x="11485" y="5333"/>
                </a:cubicBezTo>
                <a:cubicBezTo>
                  <a:pt x="11447" y="5320"/>
                  <a:pt x="11456" y="5311"/>
                  <a:pt x="11435" y="5283"/>
                </a:cubicBezTo>
                <a:cubicBezTo>
                  <a:pt x="11418" y="5260"/>
                  <a:pt x="11369" y="5221"/>
                  <a:pt x="11361" y="5209"/>
                </a:cubicBezTo>
                <a:cubicBezTo>
                  <a:pt x="11361" y="5184"/>
                  <a:pt x="11361" y="5176"/>
                  <a:pt x="11336" y="5184"/>
                </a:cubicBezTo>
                <a:cubicBezTo>
                  <a:pt x="11302" y="5195"/>
                  <a:pt x="11301" y="5203"/>
                  <a:pt x="11286" y="5234"/>
                </a:cubicBezTo>
                <a:cubicBezTo>
                  <a:pt x="11259" y="5292"/>
                  <a:pt x="11256" y="5349"/>
                  <a:pt x="11237" y="5407"/>
                </a:cubicBezTo>
                <a:cubicBezTo>
                  <a:pt x="11209" y="5490"/>
                  <a:pt x="11222" y="5509"/>
                  <a:pt x="11237" y="5581"/>
                </a:cubicBezTo>
                <a:cubicBezTo>
                  <a:pt x="11243" y="5610"/>
                  <a:pt x="11261" y="5688"/>
                  <a:pt x="11286" y="5705"/>
                </a:cubicBezTo>
                <a:cubicBezTo>
                  <a:pt x="11321" y="5728"/>
                  <a:pt x="11406" y="5699"/>
                  <a:pt x="11435" y="5680"/>
                </a:cubicBezTo>
                <a:cubicBezTo>
                  <a:pt x="11468" y="5658"/>
                  <a:pt x="11485" y="5612"/>
                  <a:pt x="11509" y="5581"/>
                </a:cubicBezTo>
              </a:path>
              <a:path w="2704" h="1762">
                <a:moveTo>
                  <a:pt x="11609" y="5283"/>
                </a:moveTo>
                <a:cubicBezTo>
                  <a:pt x="11591" y="5354"/>
                  <a:pt x="11584" y="5392"/>
                  <a:pt x="11584" y="5482"/>
                </a:cubicBezTo>
                <a:cubicBezTo>
                  <a:pt x="11584" y="5524"/>
                  <a:pt x="11573" y="5649"/>
                  <a:pt x="11609" y="5680"/>
                </a:cubicBezTo>
                <a:cubicBezTo>
                  <a:pt x="11653" y="5718"/>
                  <a:pt x="11668" y="5689"/>
                  <a:pt x="11708" y="5680"/>
                </a:cubicBezTo>
                <a:cubicBezTo>
                  <a:pt x="11780" y="5664"/>
                  <a:pt x="11816" y="5652"/>
                  <a:pt x="11857" y="5581"/>
                </a:cubicBezTo>
                <a:cubicBezTo>
                  <a:pt x="11890" y="5524"/>
                  <a:pt x="11881" y="5470"/>
                  <a:pt x="11881" y="5407"/>
                </a:cubicBezTo>
                <a:cubicBezTo>
                  <a:pt x="11881" y="5331"/>
                  <a:pt x="11859" y="5324"/>
                  <a:pt x="11807" y="5283"/>
                </a:cubicBezTo>
                <a:cubicBezTo>
                  <a:pt x="11767" y="5251"/>
                  <a:pt x="11733" y="5259"/>
                  <a:pt x="11683" y="5259"/>
                </a:cubicBezTo>
                <a:cubicBezTo>
                  <a:pt x="11631" y="5259"/>
                  <a:pt x="11665" y="5285"/>
                  <a:pt x="11683" y="5308"/>
                </a:cubicBezTo>
              </a:path>
              <a:path w="2704" h="1762">
                <a:moveTo>
                  <a:pt x="12154" y="5159"/>
                </a:moveTo>
                <a:cubicBezTo>
                  <a:pt x="12142" y="5195"/>
                  <a:pt x="12094" y="5199"/>
                  <a:pt x="12055" y="5234"/>
                </a:cubicBezTo>
                <a:cubicBezTo>
                  <a:pt x="12020" y="5265"/>
                  <a:pt x="11987" y="5255"/>
                  <a:pt x="11981" y="5308"/>
                </a:cubicBezTo>
                <a:cubicBezTo>
                  <a:pt x="11977" y="5344"/>
                  <a:pt x="12028" y="5434"/>
                  <a:pt x="12055" y="5457"/>
                </a:cubicBezTo>
                <a:cubicBezTo>
                  <a:pt x="12112" y="5506"/>
                  <a:pt x="12133" y="5519"/>
                  <a:pt x="12179" y="5581"/>
                </a:cubicBezTo>
                <a:cubicBezTo>
                  <a:pt x="12187" y="5589"/>
                  <a:pt x="12196" y="5598"/>
                  <a:pt x="12204" y="5606"/>
                </a:cubicBezTo>
                <a:cubicBezTo>
                  <a:pt x="12170" y="5650"/>
                  <a:pt x="12171" y="5663"/>
                  <a:pt x="12105" y="5680"/>
                </a:cubicBezTo>
                <a:cubicBezTo>
                  <a:pt x="12060" y="5691"/>
                  <a:pt x="11965" y="5690"/>
                  <a:pt x="11956" y="5655"/>
                </a:cubicBezTo>
                <a:cubicBezTo>
                  <a:pt x="11956" y="5647"/>
                  <a:pt x="11956" y="5639"/>
                  <a:pt x="11956" y="5631"/>
                </a:cubicBezTo>
              </a:path>
              <a:path w="2704" h="1762">
                <a:moveTo>
                  <a:pt x="12502" y="4911"/>
                </a:moveTo>
                <a:cubicBezTo>
                  <a:pt x="12584" y="4905"/>
                  <a:pt x="12645" y="4887"/>
                  <a:pt x="12725" y="4887"/>
                </a:cubicBezTo>
                <a:cubicBezTo>
                  <a:pt x="12762" y="4887"/>
                  <a:pt x="12966" y="4887"/>
                  <a:pt x="12923" y="4887"/>
                </a:cubicBezTo>
              </a:path>
              <a:path w="2704" h="1762">
                <a:moveTo>
                  <a:pt x="12551" y="5060"/>
                </a:moveTo>
                <a:cubicBezTo>
                  <a:pt x="12533" y="5176"/>
                  <a:pt x="12526" y="5268"/>
                  <a:pt x="12526" y="5383"/>
                </a:cubicBezTo>
                <a:cubicBezTo>
                  <a:pt x="12526" y="5421"/>
                  <a:pt x="12508" y="5510"/>
                  <a:pt x="12551" y="5531"/>
                </a:cubicBezTo>
                <a:cubicBezTo>
                  <a:pt x="12576" y="5531"/>
                  <a:pt x="12584" y="5531"/>
                  <a:pt x="12576" y="5507"/>
                </a:cubicBezTo>
              </a:path>
              <a:path w="2704" h="1762">
                <a:moveTo>
                  <a:pt x="12725" y="4961"/>
                </a:moveTo>
                <a:cubicBezTo>
                  <a:pt x="12705" y="5075"/>
                  <a:pt x="12700" y="5168"/>
                  <a:pt x="12700" y="5283"/>
                </a:cubicBezTo>
                <a:cubicBezTo>
                  <a:pt x="12700" y="5367"/>
                  <a:pt x="12703" y="5436"/>
                  <a:pt x="12725" y="5507"/>
                </a:cubicBezTo>
                <a:cubicBezTo>
                  <a:pt x="12740" y="5556"/>
                  <a:pt x="12747" y="5537"/>
                  <a:pt x="12725" y="5581"/>
                </a:cubicBezTo>
              </a:path>
              <a:path w="2704" h="1762">
                <a:moveTo>
                  <a:pt x="12254" y="5680"/>
                </a:moveTo>
                <a:cubicBezTo>
                  <a:pt x="12309" y="5692"/>
                  <a:pt x="12470" y="5699"/>
                  <a:pt x="12551" y="5680"/>
                </a:cubicBezTo>
                <a:cubicBezTo>
                  <a:pt x="12622" y="5663"/>
                  <a:pt x="12673" y="5655"/>
                  <a:pt x="12750" y="5655"/>
                </a:cubicBezTo>
                <a:cubicBezTo>
                  <a:pt x="12774" y="5655"/>
                  <a:pt x="12783" y="5655"/>
                  <a:pt x="12799" y="5655"/>
                </a:cubicBezTo>
              </a:path>
              <a:path w="2704" h="1762">
                <a:moveTo>
                  <a:pt x="12526" y="5904"/>
                </a:moveTo>
                <a:cubicBezTo>
                  <a:pt x="12504" y="5999"/>
                  <a:pt x="12443" y="6107"/>
                  <a:pt x="12427" y="6201"/>
                </a:cubicBezTo>
                <a:cubicBezTo>
                  <a:pt x="12414" y="6277"/>
                  <a:pt x="12401" y="6442"/>
                  <a:pt x="12452" y="6499"/>
                </a:cubicBezTo>
                <a:cubicBezTo>
                  <a:pt x="12481" y="6531"/>
                  <a:pt x="12560" y="6540"/>
                  <a:pt x="12601" y="6524"/>
                </a:cubicBezTo>
                <a:cubicBezTo>
                  <a:pt x="12654" y="6504"/>
                  <a:pt x="12743" y="6417"/>
                  <a:pt x="12774" y="6375"/>
                </a:cubicBezTo>
                <a:cubicBezTo>
                  <a:pt x="12800" y="6341"/>
                  <a:pt x="12847" y="6273"/>
                  <a:pt x="12824" y="6226"/>
                </a:cubicBezTo>
                <a:cubicBezTo>
                  <a:pt x="12790" y="6159"/>
                  <a:pt x="12767" y="6187"/>
                  <a:pt x="12725" y="6201"/>
                </a:cubicBezTo>
                <a:cubicBezTo>
                  <a:pt x="12676" y="6217"/>
                  <a:pt x="12692" y="6273"/>
                  <a:pt x="12675" y="6325"/>
                </a:cubicBezTo>
                <a:cubicBezTo>
                  <a:pt x="12656" y="6383"/>
                  <a:pt x="12644" y="6445"/>
                  <a:pt x="12626" y="6499"/>
                </a:cubicBezTo>
                <a:cubicBezTo>
                  <a:pt x="12617" y="6527"/>
                  <a:pt x="12581" y="6587"/>
                  <a:pt x="12601" y="6623"/>
                </a:cubicBezTo>
                <a:cubicBezTo>
                  <a:pt x="12628" y="6671"/>
                  <a:pt x="12647" y="6644"/>
                  <a:pt x="12675" y="6623"/>
                </a:cubicBezTo>
              </a:path>
              <a:path w="2704" h="1762">
                <a:moveTo>
                  <a:pt x="13717" y="5283"/>
                </a:moveTo>
                <a:cubicBezTo>
                  <a:pt x="13684" y="5327"/>
                  <a:pt x="13676" y="5401"/>
                  <a:pt x="13667" y="5457"/>
                </a:cubicBezTo>
                <a:cubicBezTo>
                  <a:pt x="13653" y="5544"/>
                  <a:pt x="13646" y="5642"/>
                  <a:pt x="13643" y="5730"/>
                </a:cubicBezTo>
                <a:cubicBezTo>
                  <a:pt x="13640" y="5803"/>
                  <a:pt x="13618" y="5855"/>
                  <a:pt x="13618" y="5928"/>
                </a:cubicBezTo>
                <a:cubicBezTo>
                  <a:pt x="13618" y="5958"/>
                  <a:pt x="13636" y="6070"/>
                  <a:pt x="13618" y="6028"/>
                </a:cubicBezTo>
                <a:cubicBezTo>
                  <a:pt x="13610" y="6011"/>
                  <a:pt x="13601" y="5995"/>
                  <a:pt x="13593" y="5978"/>
                </a:cubicBezTo>
              </a:path>
              <a:path w="2704" h="1762">
                <a:moveTo>
                  <a:pt x="13295" y="5631"/>
                </a:moveTo>
                <a:cubicBezTo>
                  <a:pt x="13372" y="5656"/>
                  <a:pt x="13437" y="5655"/>
                  <a:pt x="13519" y="5655"/>
                </a:cubicBezTo>
                <a:cubicBezTo>
                  <a:pt x="13602" y="5655"/>
                  <a:pt x="13666" y="5641"/>
                  <a:pt x="13742" y="5631"/>
                </a:cubicBezTo>
                <a:cubicBezTo>
                  <a:pt x="13807" y="5623"/>
                  <a:pt x="13825" y="5631"/>
                  <a:pt x="13891" y="5631"/>
                </a:cubicBezTo>
                <a:cubicBezTo>
                  <a:pt x="13899" y="5631"/>
                  <a:pt x="13907" y="5631"/>
                  <a:pt x="13915" y="56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86240" y="1724040"/>
            <a:ext cx="1598760" cy="625320"/>
          </a:xfrm>
          <a:custGeom>
            <a:avLst/>
            <a:gdLst/>
            <a:ahLst/>
            <a:rect l="l" t="t" r="r" b="b"/>
            <a:pathLst>
              <a:path w="4441" h="1738">
                <a:moveTo>
                  <a:pt x="15056" y="4887"/>
                </a:moveTo>
                <a:cubicBezTo>
                  <a:pt x="14995" y="4887"/>
                  <a:pt x="14937" y="4875"/>
                  <a:pt x="14883" y="4911"/>
                </a:cubicBezTo>
                <a:cubicBezTo>
                  <a:pt x="14834" y="4943"/>
                  <a:pt x="14781" y="4976"/>
                  <a:pt x="14734" y="5011"/>
                </a:cubicBezTo>
                <a:cubicBezTo>
                  <a:pt x="14705" y="5033"/>
                  <a:pt x="14692" y="5062"/>
                  <a:pt x="14684" y="5085"/>
                </a:cubicBezTo>
                <a:cubicBezTo>
                  <a:pt x="14727" y="5096"/>
                  <a:pt x="14765" y="5120"/>
                  <a:pt x="14808" y="5135"/>
                </a:cubicBezTo>
                <a:cubicBezTo>
                  <a:pt x="14891" y="5164"/>
                  <a:pt x="15009" y="5244"/>
                  <a:pt x="15056" y="5308"/>
                </a:cubicBezTo>
                <a:cubicBezTo>
                  <a:pt x="15075" y="5334"/>
                  <a:pt x="15054" y="5417"/>
                  <a:pt x="15032" y="5432"/>
                </a:cubicBezTo>
                <a:cubicBezTo>
                  <a:pt x="14976" y="5471"/>
                  <a:pt x="14898" y="5479"/>
                  <a:pt x="14833" y="5482"/>
                </a:cubicBezTo>
                <a:cubicBezTo>
                  <a:pt x="14794" y="5484"/>
                  <a:pt x="14706" y="5502"/>
                  <a:pt x="14684" y="5457"/>
                </a:cubicBezTo>
                <a:cubicBezTo>
                  <a:pt x="14684" y="5422"/>
                  <a:pt x="14693" y="5409"/>
                  <a:pt x="14734" y="5407"/>
                </a:cubicBezTo>
              </a:path>
              <a:path w="4441" h="1738">
                <a:moveTo>
                  <a:pt x="15230" y="5035"/>
                </a:moveTo>
                <a:cubicBezTo>
                  <a:pt x="15215" y="5154"/>
                  <a:pt x="15199" y="5271"/>
                  <a:pt x="15180" y="5383"/>
                </a:cubicBezTo>
                <a:cubicBezTo>
                  <a:pt x="15171" y="5435"/>
                  <a:pt x="15178" y="5446"/>
                  <a:pt x="15205" y="5482"/>
                </a:cubicBezTo>
                <a:cubicBezTo>
                  <a:pt x="15218" y="5432"/>
                  <a:pt x="15230" y="5418"/>
                  <a:pt x="15230" y="5358"/>
                </a:cubicBezTo>
                <a:cubicBezTo>
                  <a:pt x="15230" y="5333"/>
                  <a:pt x="15230" y="5308"/>
                  <a:pt x="15230" y="5283"/>
                </a:cubicBezTo>
              </a:path>
              <a:path w="4441" h="1738">
                <a:moveTo>
                  <a:pt x="15255" y="4837"/>
                </a:moveTo>
                <a:cubicBezTo>
                  <a:pt x="15293" y="4798"/>
                  <a:pt x="15295" y="4781"/>
                  <a:pt x="15329" y="4787"/>
                </a:cubicBezTo>
              </a:path>
              <a:path w="4441" h="1738">
                <a:moveTo>
                  <a:pt x="15453" y="5234"/>
                </a:moveTo>
                <a:cubicBezTo>
                  <a:pt x="15453" y="5308"/>
                  <a:pt x="15453" y="5383"/>
                  <a:pt x="15453" y="5457"/>
                </a:cubicBezTo>
                <a:cubicBezTo>
                  <a:pt x="15480" y="5448"/>
                  <a:pt x="15492" y="5400"/>
                  <a:pt x="15503" y="5358"/>
                </a:cubicBezTo>
                <a:cubicBezTo>
                  <a:pt x="15516" y="5307"/>
                  <a:pt x="15520" y="5234"/>
                  <a:pt x="15528" y="5184"/>
                </a:cubicBezTo>
                <a:cubicBezTo>
                  <a:pt x="15537" y="5128"/>
                  <a:pt x="15546" y="5071"/>
                  <a:pt x="15602" y="5035"/>
                </a:cubicBezTo>
                <a:cubicBezTo>
                  <a:pt x="15638" y="5012"/>
                  <a:pt x="15680" y="5011"/>
                  <a:pt x="15726" y="5011"/>
                </a:cubicBezTo>
                <a:cubicBezTo>
                  <a:pt x="15820" y="5011"/>
                  <a:pt x="15808" y="5068"/>
                  <a:pt x="15825" y="5135"/>
                </a:cubicBezTo>
                <a:cubicBezTo>
                  <a:pt x="15854" y="5245"/>
                  <a:pt x="15841" y="5274"/>
                  <a:pt x="15825" y="5383"/>
                </a:cubicBezTo>
                <a:cubicBezTo>
                  <a:pt x="15819" y="5427"/>
                  <a:pt x="15801" y="5552"/>
                  <a:pt x="15801" y="5507"/>
                </a:cubicBezTo>
                <a:cubicBezTo>
                  <a:pt x="15801" y="5482"/>
                  <a:pt x="15801" y="5457"/>
                  <a:pt x="15801" y="5432"/>
                </a:cubicBezTo>
              </a:path>
              <a:path w="4441" h="1738">
                <a:moveTo>
                  <a:pt x="16297" y="4812"/>
                </a:moveTo>
                <a:cubicBezTo>
                  <a:pt x="16406" y="4812"/>
                  <a:pt x="16493" y="4811"/>
                  <a:pt x="16594" y="4787"/>
                </a:cubicBezTo>
                <a:cubicBezTo>
                  <a:pt x="16616" y="4782"/>
                  <a:pt x="16647" y="4787"/>
                  <a:pt x="16669" y="4787"/>
                </a:cubicBezTo>
              </a:path>
              <a:path w="4441" h="1738">
                <a:moveTo>
                  <a:pt x="16173" y="4936"/>
                </a:moveTo>
                <a:cubicBezTo>
                  <a:pt x="16100" y="5040"/>
                  <a:pt x="16098" y="5003"/>
                  <a:pt x="16098" y="5085"/>
                </a:cubicBezTo>
                <a:cubicBezTo>
                  <a:pt x="16134" y="5085"/>
                  <a:pt x="16170" y="5078"/>
                  <a:pt x="16197" y="5060"/>
                </a:cubicBezTo>
                <a:cubicBezTo>
                  <a:pt x="16228" y="5039"/>
                  <a:pt x="16277" y="5016"/>
                  <a:pt x="16321" y="5035"/>
                </a:cubicBezTo>
                <a:cubicBezTo>
                  <a:pt x="16360" y="5052"/>
                  <a:pt x="16437" y="5145"/>
                  <a:pt x="16446" y="5184"/>
                </a:cubicBezTo>
                <a:cubicBezTo>
                  <a:pt x="16457" y="5230"/>
                  <a:pt x="16464" y="5354"/>
                  <a:pt x="16421" y="5383"/>
                </a:cubicBezTo>
                <a:cubicBezTo>
                  <a:pt x="16357" y="5427"/>
                  <a:pt x="16324" y="5432"/>
                  <a:pt x="16247" y="5432"/>
                </a:cubicBezTo>
                <a:cubicBezTo>
                  <a:pt x="16184" y="5432"/>
                  <a:pt x="16129" y="5441"/>
                  <a:pt x="16073" y="5407"/>
                </a:cubicBezTo>
                <a:cubicBezTo>
                  <a:pt x="16044" y="5378"/>
                  <a:pt x="16039" y="5363"/>
                  <a:pt x="16073" y="5333"/>
                </a:cubicBezTo>
              </a:path>
              <a:path w="4441" h="1738">
                <a:moveTo>
                  <a:pt x="16768" y="4936"/>
                </a:moveTo>
                <a:cubicBezTo>
                  <a:pt x="16886" y="4936"/>
                  <a:pt x="16959" y="4919"/>
                  <a:pt x="17066" y="4911"/>
                </a:cubicBezTo>
                <a:cubicBezTo>
                  <a:pt x="17116" y="4907"/>
                  <a:pt x="17127" y="4914"/>
                  <a:pt x="17140" y="4862"/>
                </a:cubicBezTo>
              </a:path>
              <a:path w="4441" h="1738">
                <a:moveTo>
                  <a:pt x="16768" y="5011"/>
                </a:moveTo>
                <a:cubicBezTo>
                  <a:pt x="16740" y="5118"/>
                  <a:pt x="16702" y="5226"/>
                  <a:pt x="16694" y="5333"/>
                </a:cubicBezTo>
                <a:cubicBezTo>
                  <a:pt x="16693" y="5349"/>
                  <a:pt x="16718" y="5439"/>
                  <a:pt x="16718" y="5383"/>
                </a:cubicBezTo>
              </a:path>
              <a:path w="4441" h="1738">
                <a:moveTo>
                  <a:pt x="16917" y="4986"/>
                </a:moveTo>
                <a:cubicBezTo>
                  <a:pt x="16917" y="5100"/>
                  <a:pt x="16917" y="5201"/>
                  <a:pt x="16942" y="5308"/>
                </a:cubicBezTo>
                <a:cubicBezTo>
                  <a:pt x="16954" y="5358"/>
                  <a:pt x="16971" y="5362"/>
                  <a:pt x="16991" y="5407"/>
                </a:cubicBezTo>
                <a:cubicBezTo>
                  <a:pt x="16991" y="5415"/>
                  <a:pt x="16991" y="5424"/>
                  <a:pt x="16991" y="5432"/>
                </a:cubicBezTo>
              </a:path>
              <a:path w="4441" h="1738">
                <a:moveTo>
                  <a:pt x="16073" y="5581"/>
                </a:moveTo>
                <a:cubicBezTo>
                  <a:pt x="16171" y="5602"/>
                  <a:pt x="16247" y="5606"/>
                  <a:pt x="16346" y="5606"/>
                </a:cubicBezTo>
                <a:cubicBezTo>
                  <a:pt x="16503" y="5606"/>
                  <a:pt x="16661" y="5606"/>
                  <a:pt x="16818" y="5606"/>
                </a:cubicBezTo>
              </a:path>
              <a:path w="4441" h="1738">
                <a:moveTo>
                  <a:pt x="16446" y="5804"/>
                </a:moveTo>
                <a:cubicBezTo>
                  <a:pt x="16396" y="5875"/>
                  <a:pt x="16378" y="5914"/>
                  <a:pt x="16346" y="5978"/>
                </a:cubicBezTo>
                <a:cubicBezTo>
                  <a:pt x="16334" y="6003"/>
                  <a:pt x="16301" y="6041"/>
                  <a:pt x="16321" y="6077"/>
                </a:cubicBezTo>
                <a:cubicBezTo>
                  <a:pt x="16352" y="6132"/>
                  <a:pt x="16418" y="6127"/>
                  <a:pt x="16470" y="6127"/>
                </a:cubicBezTo>
                <a:cubicBezTo>
                  <a:pt x="16551" y="6127"/>
                  <a:pt x="16621" y="6131"/>
                  <a:pt x="16694" y="6102"/>
                </a:cubicBezTo>
                <a:cubicBezTo>
                  <a:pt x="16710" y="6094"/>
                  <a:pt x="16727" y="6085"/>
                  <a:pt x="16743" y="6077"/>
                </a:cubicBezTo>
              </a:path>
              <a:path w="4441" h="1738">
                <a:moveTo>
                  <a:pt x="16718" y="5879"/>
                </a:moveTo>
                <a:cubicBezTo>
                  <a:pt x="16695" y="6018"/>
                  <a:pt x="16652" y="6184"/>
                  <a:pt x="16644" y="6325"/>
                </a:cubicBezTo>
                <a:cubicBezTo>
                  <a:pt x="16642" y="6352"/>
                  <a:pt x="16650" y="6572"/>
                  <a:pt x="16619" y="6499"/>
                </a:cubicBezTo>
                <a:cubicBezTo>
                  <a:pt x="16619" y="6474"/>
                  <a:pt x="16619" y="6466"/>
                  <a:pt x="16619" y="6449"/>
                </a:cubicBezTo>
              </a:path>
              <a:path w="4441" h="1738">
                <a:moveTo>
                  <a:pt x="17512" y="5085"/>
                </a:moveTo>
                <a:cubicBezTo>
                  <a:pt x="17462" y="5051"/>
                  <a:pt x="17499" y="5089"/>
                  <a:pt x="17438" y="5110"/>
                </a:cubicBezTo>
                <a:cubicBezTo>
                  <a:pt x="17380" y="5130"/>
                  <a:pt x="17300" y="5149"/>
                  <a:pt x="17264" y="5209"/>
                </a:cubicBezTo>
                <a:cubicBezTo>
                  <a:pt x="17243" y="5244"/>
                  <a:pt x="17287" y="5277"/>
                  <a:pt x="17314" y="5283"/>
                </a:cubicBezTo>
                <a:cubicBezTo>
                  <a:pt x="17383" y="5297"/>
                  <a:pt x="17432" y="5307"/>
                  <a:pt x="17487" y="5358"/>
                </a:cubicBezTo>
                <a:cubicBezTo>
                  <a:pt x="17536" y="5403"/>
                  <a:pt x="17580" y="5439"/>
                  <a:pt x="17587" y="5507"/>
                </a:cubicBezTo>
                <a:cubicBezTo>
                  <a:pt x="17592" y="5556"/>
                  <a:pt x="17543" y="5568"/>
                  <a:pt x="17512" y="5581"/>
                </a:cubicBezTo>
                <a:cubicBezTo>
                  <a:pt x="17459" y="5604"/>
                  <a:pt x="17443" y="5606"/>
                  <a:pt x="17388" y="5606"/>
                </a:cubicBezTo>
                <a:cubicBezTo>
                  <a:pt x="17331" y="5606"/>
                  <a:pt x="17346" y="5590"/>
                  <a:pt x="17363" y="5556"/>
                </a:cubicBezTo>
              </a:path>
              <a:path w="4441" h="1738">
                <a:moveTo>
                  <a:pt x="17785" y="5308"/>
                </a:moveTo>
                <a:cubicBezTo>
                  <a:pt x="17768" y="5417"/>
                  <a:pt x="17735" y="5523"/>
                  <a:pt x="17735" y="5631"/>
                </a:cubicBezTo>
                <a:cubicBezTo>
                  <a:pt x="17735" y="5658"/>
                  <a:pt x="17733" y="5664"/>
                  <a:pt x="17711" y="5631"/>
                </a:cubicBezTo>
              </a:path>
              <a:path w="4441" h="1738">
                <a:moveTo>
                  <a:pt x="17735" y="5035"/>
                </a:moveTo>
                <a:cubicBezTo>
                  <a:pt x="17776" y="4995"/>
                  <a:pt x="17787" y="4973"/>
                  <a:pt x="17835" y="4961"/>
                </a:cubicBezTo>
              </a:path>
              <a:path w="4441" h="1738">
                <a:moveTo>
                  <a:pt x="17884" y="5457"/>
                </a:moveTo>
                <a:cubicBezTo>
                  <a:pt x="17884" y="5515"/>
                  <a:pt x="17884" y="5523"/>
                  <a:pt x="17884" y="5556"/>
                </a:cubicBezTo>
                <a:cubicBezTo>
                  <a:pt x="17906" y="5513"/>
                  <a:pt x="17924" y="5437"/>
                  <a:pt x="17934" y="5383"/>
                </a:cubicBezTo>
                <a:cubicBezTo>
                  <a:pt x="17948" y="5302"/>
                  <a:pt x="17933" y="5236"/>
                  <a:pt x="17983" y="5159"/>
                </a:cubicBezTo>
                <a:cubicBezTo>
                  <a:pt x="18016" y="5108"/>
                  <a:pt x="18052" y="5110"/>
                  <a:pt x="18107" y="5110"/>
                </a:cubicBezTo>
                <a:cubicBezTo>
                  <a:pt x="18191" y="5110"/>
                  <a:pt x="18217" y="5187"/>
                  <a:pt x="18231" y="5259"/>
                </a:cubicBezTo>
                <a:cubicBezTo>
                  <a:pt x="18244" y="5327"/>
                  <a:pt x="18256" y="5385"/>
                  <a:pt x="18256" y="5457"/>
                </a:cubicBezTo>
                <a:cubicBezTo>
                  <a:pt x="18256" y="5513"/>
                  <a:pt x="18271" y="5518"/>
                  <a:pt x="18231" y="5531"/>
                </a:cubicBezTo>
                <a:cubicBezTo>
                  <a:pt x="18231" y="5572"/>
                  <a:pt x="18231" y="5498"/>
                  <a:pt x="18231" y="5457"/>
                </a:cubicBezTo>
              </a:path>
              <a:path w="4441" h="1738">
                <a:moveTo>
                  <a:pt x="18628" y="4887"/>
                </a:moveTo>
                <a:cubicBezTo>
                  <a:pt x="18750" y="4887"/>
                  <a:pt x="19027" y="4937"/>
                  <a:pt x="19124" y="4862"/>
                </a:cubicBezTo>
              </a:path>
              <a:path w="4441" h="1738">
                <a:moveTo>
                  <a:pt x="18728" y="4887"/>
                </a:moveTo>
                <a:cubicBezTo>
                  <a:pt x="18689" y="5031"/>
                  <a:pt x="18653" y="5119"/>
                  <a:pt x="18653" y="5259"/>
                </a:cubicBezTo>
                <a:cubicBezTo>
                  <a:pt x="18653" y="5315"/>
                  <a:pt x="18638" y="5320"/>
                  <a:pt x="18678" y="5333"/>
                </a:cubicBezTo>
              </a:path>
              <a:path w="4441" h="1738">
                <a:moveTo>
                  <a:pt x="18901" y="4862"/>
                </a:moveTo>
                <a:cubicBezTo>
                  <a:pt x="18901" y="4936"/>
                  <a:pt x="18885" y="4993"/>
                  <a:pt x="18876" y="5060"/>
                </a:cubicBezTo>
                <a:cubicBezTo>
                  <a:pt x="18866" y="5140"/>
                  <a:pt x="18866" y="5215"/>
                  <a:pt x="18876" y="5283"/>
                </a:cubicBezTo>
                <a:cubicBezTo>
                  <a:pt x="18880" y="5308"/>
                  <a:pt x="18899" y="5370"/>
                  <a:pt x="18926" y="5383"/>
                </a:cubicBezTo>
                <a:cubicBezTo>
                  <a:pt x="18951" y="5383"/>
                  <a:pt x="18959" y="5383"/>
                  <a:pt x="18951" y="5407"/>
                </a:cubicBezTo>
              </a:path>
              <a:path w="4441" h="1738">
                <a:moveTo>
                  <a:pt x="18405" y="5482"/>
                </a:moveTo>
                <a:cubicBezTo>
                  <a:pt x="18620" y="5482"/>
                  <a:pt x="18835" y="5482"/>
                  <a:pt x="19050" y="5482"/>
                </a:cubicBezTo>
              </a:path>
              <a:path w="4441" h="1738">
                <a:moveTo>
                  <a:pt x="18777" y="5755"/>
                </a:moveTo>
                <a:cubicBezTo>
                  <a:pt x="18732" y="5844"/>
                  <a:pt x="18659" y="5950"/>
                  <a:pt x="18653" y="6052"/>
                </a:cubicBezTo>
                <a:cubicBezTo>
                  <a:pt x="18650" y="6114"/>
                  <a:pt x="18640" y="6179"/>
                  <a:pt x="18678" y="6226"/>
                </a:cubicBezTo>
                <a:cubicBezTo>
                  <a:pt x="18724" y="6283"/>
                  <a:pt x="18757" y="6276"/>
                  <a:pt x="18827" y="6276"/>
                </a:cubicBezTo>
                <a:cubicBezTo>
                  <a:pt x="18904" y="6276"/>
                  <a:pt x="18959" y="6272"/>
                  <a:pt x="19025" y="6226"/>
                </a:cubicBezTo>
                <a:cubicBezTo>
                  <a:pt x="19070" y="6195"/>
                  <a:pt x="19093" y="6104"/>
                  <a:pt x="19075" y="6052"/>
                </a:cubicBezTo>
                <a:cubicBezTo>
                  <a:pt x="19055" y="5993"/>
                  <a:pt x="19016" y="5959"/>
                  <a:pt x="18951" y="5978"/>
                </a:cubicBezTo>
                <a:cubicBezTo>
                  <a:pt x="18879" y="5999"/>
                  <a:pt x="18828" y="6051"/>
                  <a:pt x="18777" y="6102"/>
                </a:cubicBezTo>
                <a:cubicBezTo>
                  <a:pt x="18717" y="6162"/>
                  <a:pt x="18715" y="6186"/>
                  <a:pt x="18728" y="6251"/>
                </a:cubicBezTo>
                <a:cubicBezTo>
                  <a:pt x="18738" y="6299"/>
                  <a:pt x="18771" y="6326"/>
                  <a:pt x="18802" y="6350"/>
                </a:cubicBezTo>
                <a:cubicBezTo>
                  <a:pt x="18841" y="6380"/>
                  <a:pt x="18850" y="6413"/>
                  <a:pt x="18876" y="64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3040" y="2714760"/>
            <a:ext cx="3214800" cy="901440"/>
          </a:xfrm>
          <a:custGeom>
            <a:avLst/>
            <a:gdLst/>
            <a:ahLst/>
            <a:rect l="l" t="t" r="r" b="b"/>
            <a:pathLst>
              <a:path w="8931" h="2506">
                <a:moveTo>
                  <a:pt x="7813" y="8210"/>
                </a:moveTo>
                <a:cubicBezTo>
                  <a:pt x="7851" y="8239"/>
                  <a:pt x="7864" y="8235"/>
                  <a:pt x="7913" y="8235"/>
                </a:cubicBezTo>
                <a:cubicBezTo>
                  <a:pt x="8062" y="8235"/>
                  <a:pt x="8210" y="8235"/>
                  <a:pt x="8359" y="8235"/>
                </a:cubicBezTo>
              </a:path>
              <a:path w="8931" h="2506">
                <a:moveTo>
                  <a:pt x="8731" y="7938"/>
                </a:moveTo>
                <a:cubicBezTo>
                  <a:pt x="8731" y="8100"/>
                  <a:pt x="8732" y="8256"/>
                  <a:pt x="8706" y="8409"/>
                </a:cubicBezTo>
                <a:cubicBezTo>
                  <a:pt x="8695" y="8472"/>
                  <a:pt x="8712" y="8481"/>
                  <a:pt x="8682" y="8533"/>
                </a:cubicBezTo>
                <a:cubicBezTo>
                  <a:pt x="8657" y="8470"/>
                  <a:pt x="8675" y="8500"/>
                  <a:pt x="8682" y="8434"/>
                </a:cubicBezTo>
                <a:cubicBezTo>
                  <a:pt x="8690" y="8366"/>
                  <a:pt x="8704" y="8301"/>
                  <a:pt x="8706" y="8235"/>
                </a:cubicBezTo>
                <a:cubicBezTo>
                  <a:pt x="8710" y="8106"/>
                  <a:pt x="8694" y="7984"/>
                  <a:pt x="8682" y="7863"/>
                </a:cubicBezTo>
                <a:cubicBezTo>
                  <a:pt x="8676" y="7805"/>
                  <a:pt x="8665" y="7763"/>
                  <a:pt x="8657" y="7714"/>
                </a:cubicBezTo>
                <a:cubicBezTo>
                  <a:pt x="8649" y="7666"/>
                  <a:pt x="8663" y="7650"/>
                  <a:pt x="8706" y="7640"/>
                </a:cubicBezTo>
                <a:cubicBezTo>
                  <a:pt x="8887" y="7597"/>
                  <a:pt x="9121" y="7638"/>
                  <a:pt x="9302" y="7615"/>
                </a:cubicBezTo>
                <a:cubicBezTo>
                  <a:pt x="9401" y="7603"/>
                  <a:pt x="9451" y="7615"/>
                  <a:pt x="9550" y="7615"/>
                </a:cubicBezTo>
              </a:path>
              <a:path w="8931" h="2506">
                <a:moveTo>
                  <a:pt x="9004" y="7913"/>
                </a:moveTo>
                <a:cubicBezTo>
                  <a:pt x="9027" y="7905"/>
                  <a:pt x="9052" y="7904"/>
                  <a:pt x="9079" y="7888"/>
                </a:cubicBezTo>
                <a:cubicBezTo>
                  <a:pt x="9120" y="7865"/>
                  <a:pt x="9127" y="7863"/>
                  <a:pt x="9178" y="7863"/>
                </a:cubicBezTo>
                <a:cubicBezTo>
                  <a:pt x="9218" y="7863"/>
                  <a:pt x="9258" y="7869"/>
                  <a:pt x="9277" y="7913"/>
                </a:cubicBezTo>
                <a:cubicBezTo>
                  <a:pt x="9308" y="7983"/>
                  <a:pt x="9243" y="8038"/>
                  <a:pt x="9227" y="8086"/>
                </a:cubicBezTo>
                <a:cubicBezTo>
                  <a:pt x="9210" y="8136"/>
                  <a:pt x="9199" y="8217"/>
                  <a:pt x="9153" y="8260"/>
                </a:cubicBezTo>
                <a:cubicBezTo>
                  <a:pt x="9109" y="8300"/>
                  <a:pt x="9074" y="8339"/>
                  <a:pt x="9029" y="8384"/>
                </a:cubicBezTo>
                <a:cubicBezTo>
                  <a:pt x="9009" y="8404"/>
                  <a:pt x="8994" y="8473"/>
                  <a:pt x="8979" y="8483"/>
                </a:cubicBezTo>
                <a:cubicBezTo>
                  <a:pt x="8946" y="8505"/>
                  <a:pt x="8991" y="8483"/>
                  <a:pt x="9029" y="8483"/>
                </a:cubicBezTo>
                <a:cubicBezTo>
                  <a:pt x="9118" y="8483"/>
                  <a:pt x="9193" y="8472"/>
                  <a:pt x="9277" y="8458"/>
                </a:cubicBezTo>
                <a:cubicBezTo>
                  <a:pt x="9315" y="8452"/>
                  <a:pt x="9362" y="8458"/>
                  <a:pt x="9401" y="8458"/>
                </a:cubicBezTo>
              </a:path>
              <a:path w="8931" h="2506">
                <a:moveTo>
                  <a:pt x="8533" y="8731"/>
                </a:moveTo>
                <a:cubicBezTo>
                  <a:pt x="8622" y="8731"/>
                  <a:pt x="8698" y="8742"/>
                  <a:pt x="8781" y="8756"/>
                </a:cubicBezTo>
                <a:cubicBezTo>
                  <a:pt x="8930" y="8781"/>
                  <a:pt x="9101" y="8765"/>
                  <a:pt x="9252" y="8781"/>
                </a:cubicBezTo>
                <a:cubicBezTo>
                  <a:pt x="9279" y="8784"/>
                  <a:pt x="9545" y="8775"/>
                  <a:pt x="9475" y="8806"/>
                </a:cubicBezTo>
                <a:cubicBezTo>
                  <a:pt x="9467" y="8806"/>
                  <a:pt x="9459" y="8806"/>
                  <a:pt x="9451" y="8806"/>
                </a:cubicBezTo>
              </a:path>
              <a:path w="8931" h="2506">
                <a:moveTo>
                  <a:pt x="8855" y="9153"/>
                </a:moveTo>
                <a:cubicBezTo>
                  <a:pt x="8873" y="9135"/>
                  <a:pt x="8948" y="9088"/>
                  <a:pt x="8954" y="9079"/>
                </a:cubicBezTo>
                <a:cubicBezTo>
                  <a:pt x="8983" y="9035"/>
                  <a:pt x="8983" y="9080"/>
                  <a:pt x="9029" y="9054"/>
                </a:cubicBezTo>
                <a:cubicBezTo>
                  <a:pt x="9070" y="9031"/>
                  <a:pt x="9077" y="9029"/>
                  <a:pt x="9128" y="9029"/>
                </a:cubicBezTo>
                <a:cubicBezTo>
                  <a:pt x="9161" y="9029"/>
                  <a:pt x="9182" y="9028"/>
                  <a:pt x="9203" y="9054"/>
                </a:cubicBezTo>
                <a:cubicBezTo>
                  <a:pt x="9221" y="9077"/>
                  <a:pt x="9227" y="9087"/>
                  <a:pt x="9227" y="9128"/>
                </a:cubicBezTo>
                <a:cubicBezTo>
                  <a:pt x="9227" y="9144"/>
                  <a:pt x="9212" y="9211"/>
                  <a:pt x="9203" y="9227"/>
                </a:cubicBezTo>
                <a:cubicBezTo>
                  <a:pt x="9179" y="9269"/>
                  <a:pt x="9171" y="9308"/>
                  <a:pt x="9153" y="9351"/>
                </a:cubicBezTo>
                <a:cubicBezTo>
                  <a:pt x="9128" y="9408"/>
                  <a:pt x="9085" y="9427"/>
                  <a:pt x="9054" y="9475"/>
                </a:cubicBezTo>
                <a:cubicBezTo>
                  <a:pt x="9029" y="9514"/>
                  <a:pt x="9001" y="9566"/>
                  <a:pt x="8979" y="9599"/>
                </a:cubicBezTo>
                <a:cubicBezTo>
                  <a:pt x="8930" y="9672"/>
                  <a:pt x="8829" y="9710"/>
                  <a:pt x="8781" y="9773"/>
                </a:cubicBezTo>
                <a:cubicBezTo>
                  <a:pt x="8781" y="9801"/>
                  <a:pt x="8779" y="9812"/>
                  <a:pt x="8756" y="9823"/>
                </a:cubicBezTo>
                <a:cubicBezTo>
                  <a:pt x="8812" y="9823"/>
                  <a:pt x="8790" y="9803"/>
                  <a:pt x="8830" y="9798"/>
                </a:cubicBezTo>
                <a:cubicBezTo>
                  <a:pt x="8920" y="9787"/>
                  <a:pt x="9004" y="9808"/>
                  <a:pt x="9079" y="9823"/>
                </a:cubicBezTo>
                <a:cubicBezTo>
                  <a:pt x="9157" y="9839"/>
                  <a:pt x="9231" y="9827"/>
                  <a:pt x="9302" y="9847"/>
                </a:cubicBezTo>
                <a:cubicBezTo>
                  <a:pt x="9329" y="9855"/>
                  <a:pt x="9372" y="9847"/>
                  <a:pt x="9401" y="9847"/>
                </a:cubicBezTo>
              </a:path>
              <a:path w="8931" h="2506">
                <a:moveTo>
                  <a:pt x="10170" y="8657"/>
                </a:moveTo>
                <a:cubicBezTo>
                  <a:pt x="10113" y="8700"/>
                  <a:pt x="10152" y="8682"/>
                  <a:pt x="10120" y="8682"/>
                </a:cubicBezTo>
                <a:cubicBezTo>
                  <a:pt x="10096" y="8682"/>
                  <a:pt x="10088" y="8682"/>
                  <a:pt x="10120" y="8682"/>
                </a:cubicBezTo>
              </a:path>
              <a:path w="8931" h="2506">
                <a:moveTo>
                  <a:pt x="10815" y="7913"/>
                </a:moveTo>
                <a:cubicBezTo>
                  <a:pt x="10815" y="8103"/>
                  <a:pt x="10815" y="8293"/>
                  <a:pt x="10815" y="8483"/>
                </a:cubicBezTo>
                <a:cubicBezTo>
                  <a:pt x="10815" y="8277"/>
                  <a:pt x="10828" y="8053"/>
                  <a:pt x="10790" y="7863"/>
                </a:cubicBezTo>
                <a:cubicBezTo>
                  <a:pt x="10777" y="7799"/>
                  <a:pt x="10776" y="7720"/>
                  <a:pt x="10765" y="7665"/>
                </a:cubicBezTo>
                <a:cubicBezTo>
                  <a:pt x="10765" y="7640"/>
                  <a:pt x="10765" y="7632"/>
                  <a:pt x="10765" y="7615"/>
                </a:cubicBezTo>
                <a:cubicBezTo>
                  <a:pt x="10826" y="7615"/>
                  <a:pt x="10866" y="7600"/>
                  <a:pt x="10914" y="7590"/>
                </a:cubicBezTo>
                <a:cubicBezTo>
                  <a:pt x="11021" y="7569"/>
                  <a:pt x="11159" y="7576"/>
                  <a:pt x="11261" y="7565"/>
                </a:cubicBezTo>
                <a:cubicBezTo>
                  <a:pt x="11383" y="7551"/>
                  <a:pt x="11554" y="7602"/>
                  <a:pt x="11658" y="7541"/>
                </a:cubicBezTo>
                <a:cubicBezTo>
                  <a:pt x="11695" y="7519"/>
                  <a:pt x="11667" y="7549"/>
                  <a:pt x="11633" y="7541"/>
                </a:cubicBezTo>
              </a:path>
              <a:path w="8931" h="2506">
                <a:moveTo>
                  <a:pt x="11112" y="7863"/>
                </a:moveTo>
                <a:cubicBezTo>
                  <a:pt x="11145" y="7839"/>
                  <a:pt x="11181" y="7833"/>
                  <a:pt x="11212" y="7813"/>
                </a:cubicBezTo>
                <a:cubicBezTo>
                  <a:pt x="11256" y="7785"/>
                  <a:pt x="11279" y="7789"/>
                  <a:pt x="11336" y="7789"/>
                </a:cubicBezTo>
                <a:cubicBezTo>
                  <a:pt x="11382" y="7789"/>
                  <a:pt x="11394" y="7830"/>
                  <a:pt x="11410" y="7838"/>
                </a:cubicBezTo>
                <a:cubicBezTo>
                  <a:pt x="11428" y="7847"/>
                  <a:pt x="11412" y="7910"/>
                  <a:pt x="11385" y="7962"/>
                </a:cubicBezTo>
                <a:cubicBezTo>
                  <a:pt x="11360" y="8010"/>
                  <a:pt x="11299" y="8028"/>
                  <a:pt x="11261" y="8062"/>
                </a:cubicBezTo>
                <a:cubicBezTo>
                  <a:pt x="11231" y="8089"/>
                  <a:pt x="11217" y="8146"/>
                  <a:pt x="11187" y="8161"/>
                </a:cubicBezTo>
                <a:cubicBezTo>
                  <a:pt x="11162" y="8161"/>
                  <a:pt x="11154" y="8161"/>
                  <a:pt x="11162" y="8186"/>
                </a:cubicBezTo>
                <a:cubicBezTo>
                  <a:pt x="11211" y="8174"/>
                  <a:pt x="11240" y="8126"/>
                  <a:pt x="11286" y="8111"/>
                </a:cubicBezTo>
                <a:cubicBezTo>
                  <a:pt x="11332" y="8096"/>
                  <a:pt x="11352" y="8125"/>
                  <a:pt x="11385" y="8136"/>
                </a:cubicBezTo>
                <a:cubicBezTo>
                  <a:pt x="11436" y="8153"/>
                  <a:pt x="11411" y="8187"/>
                  <a:pt x="11435" y="8235"/>
                </a:cubicBezTo>
                <a:cubicBezTo>
                  <a:pt x="11461" y="8287"/>
                  <a:pt x="11468" y="8334"/>
                  <a:pt x="11435" y="8384"/>
                </a:cubicBezTo>
                <a:cubicBezTo>
                  <a:pt x="11396" y="8443"/>
                  <a:pt x="11361" y="8433"/>
                  <a:pt x="11311" y="8458"/>
                </a:cubicBezTo>
                <a:cubicBezTo>
                  <a:pt x="11260" y="8483"/>
                  <a:pt x="11222" y="8503"/>
                  <a:pt x="11162" y="8508"/>
                </a:cubicBezTo>
                <a:cubicBezTo>
                  <a:pt x="11130" y="8511"/>
                  <a:pt x="11096" y="8508"/>
                  <a:pt x="11063" y="8508"/>
                </a:cubicBezTo>
              </a:path>
              <a:path w="8931" h="2506">
                <a:moveTo>
                  <a:pt x="10641" y="8657"/>
                </a:moveTo>
                <a:cubicBezTo>
                  <a:pt x="10762" y="8657"/>
                  <a:pt x="10874" y="8646"/>
                  <a:pt x="10988" y="8632"/>
                </a:cubicBezTo>
                <a:cubicBezTo>
                  <a:pt x="11136" y="8613"/>
                  <a:pt x="11296" y="8634"/>
                  <a:pt x="11435" y="8657"/>
                </a:cubicBezTo>
                <a:cubicBezTo>
                  <a:pt x="11496" y="8667"/>
                  <a:pt x="11536" y="8646"/>
                  <a:pt x="11584" y="8632"/>
                </a:cubicBezTo>
                <a:cubicBezTo>
                  <a:pt x="11641" y="8615"/>
                  <a:pt x="11549" y="8653"/>
                  <a:pt x="11534" y="8657"/>
                </a:cubicBezTo>
              </a:path>
              <a:path w="8931" h="2506">
                <a:moveTo>
                  <a:pt x="10939" y="9029"/>
                </a:moveTo>
                <a:cubicBezTo>
                  <a:pt x="10951" y="8994"/>
                  <a:pt x="10987" y="8998"/>
                  <a:pt x="11013" y="8979"/>
                </a:cubicBezTo>
                <a:cubicBezTo>
                  <a:pt x="11051" y="8951"/>
                  <a:pt x="11064" y="8954"/>
                  <a:pt x="11112" y="8954"/>
                </a:cubicBezTo>
                <a:cubicBezTo>
                  <a:pt x="11158" y="8954"/>
                  <a:pt x="11177" y="8948"/>
                  <a:pt x="11212" y="8979"/>
                </a:cubicBezTo>
                <a:cubicBezTo>
                  <a:pt x="11257" y="9019"/>
                  <a:pt x="11283" y="9055"/>
                  <a:pt x="11286" y="9103"/>
                </a:cubicBezTo>
                <a:cubicBezTo>
                  <a:pt x="11290" y="9165"/>
                  <a:pt x="11270" y="9176"/>
                  <a:pt x="11261" y="9227"/>
                </a:cubicBezTo>
                <a:cubicBezTo>
                  <a:pt x="11252" y="9279"/>
                  <a:pt x="11244" y="9328"/>
                  <a:pt x="11212" y="9376"/>
                </a:cubicBezTo>
                <a:cubicBezTo>
                  <a:pt x="11177" y="9427"/>
                  <a:pt x="11125" y="9476"/>
                  <a:pt x="11088" y="9525"/>
                </a:cubicBezTo>
                <a:cubicBezTo>
                  <a:pt x="11058" y="9566"/>
                  <a:pt x="11001" y="9586"/>
                  <a:pt x="10964" y="9624"/>
                </a:cubicBezTo>
                <a:cubicBezTo>
                  <a:pt x="10919" y="9669"/>
                  <a:pt x="10854" y="9714"/>
                  <a:pt x="10840" y="9773"/>
                </a:cubicBezTo>
                <a:cubicBezTo>
                  <a:pt x="10977" y="9773"/>
                  <a:pt x="11104" y="9779"/>
                  <a:pt x="11237" y="9798"/>
                </a:cubicBezTo>
                <a:cubicBezTo>
                  <a:pt x="11316" y="9809"/>
                  <a:pt x="11384" y="9805"/>
                  <a:pt x="11460" y="9823"/>
                </a:cubicBezTo>
                <a:cubicBezTo>
                  <a:pt x="11523" y="9838"/>
                  <a:pt x="11558" y="9817"/>
                  <a:pt x="11584" y="9798"/>
                </a:cubicBezTo>
                <a:cubicBezTo>
                  <a:pt x="11600" y="9790"/>
                  <a:pt x="11617" y="9781"/>
                  <a:pt x="11633" y="9773"/>
                </a:cubicBezTo>
              </a:path>
              <a:path w="8931" h="2506">
                <a:moveTo>
                  <a:pt x="12551" y="8161"/>
                </a:moveTo>
                <a:cubicBezTo>
                  <a:pt x="12580" y="8199"/>
                  <a:pt x="12576" y="8212"/>
                  <a:pt x="12576" y="8260"/>
                </a:cubicBezTo>
                <a:cubicBezTo>
                  <a:pt x="12576" y="8374"/>
                  <a:pt x="12583" y="8475"/>
                  <a:pt x="12601" y="8582"/>
                </a:cubicBezTo>
                <a:cubicBezTo>
                  <a:pt x="12612" y="8645"/>
                  <a:pt x="12621" y="8697"/>
                  <a:pt x="12626" y="8756"/>
                </a:cubicBezTo>
                <a:cubicBezTo>
                  <a:pt x="12630" y="8799"/>
                  <a:pt x="12641" y="8816"/>
                  <a:pt x="12650" y="8855"/>
                </a:cubicBezTo>
                <a:cubicBezTo>
                  <a:pt x="12617" y="8809"/>
                  <a:pt x="12618" y="8818"/>
                  <a:pt x="12576" y="8781"/>
                </a:cubicBezTo>
                <a:cubicBezTo>
                  <a:pt x="12568" y="8773"/>
                  <a:pt x="12559" y="8764"/>
                  <a:pt x="12551" y="8756"/>
                </a:cubicBezTo>
              </a:path>
              <a:path w="8931" h="2506">
                <a:moveTo>
                  <a:pt x="12154" y="8458"/>
                </a:moveTo>
                <a:cubicBezTo>
                  <a:pt x="12227" y="8458"/>
                  <a:pt x="12286" y="8474"/>
                  <a:pt x="12353" y="8483"/>
                </a:cubicBezTo>
                <a:cubicBezTo>
                  <a:pt x="12443" y="8495"/>
                  <a:pt x="12540" y="8497"/>
                  <a:pt x="12626" y="8508"/>
                </a:cubicBezTo>
                <a:cubicBezTo>
                  <a:pt x="12703" y="8518"/>
                  <a:pt x="12776" y="8521"/>
                  <a:pt x="12849" y="8533"/>
                </a:cubicBezTo>
                <a:cubicBezTo>
                  <a:pt x="12909" y="8543"/>
                  <a:pt x="12943" y="8514"/>
                  <a:pt x="12998" y="8508"/>
                </a:cubicBezTo>
                <a:cubicBezTo>
                  <a:pt x="13042" y="8504"/>
                  <a:pt x="13024" y="8492"/>
                  <a:pt x="12998" y="8483"/>
                </a:cubicBezTo>
              </a:path>
              <a:path w="8931" h="2506">
                <a:moveTo>
                  <a:pt x="13816" y="8012"/>
                </a:moveTo>
                <a:cubicBezTo>
                  <a:pt x="13816" y="8020"/>
                  <a:pt x="13816" y="8029"/>
                  <a:pt x="13816" y="8037"/>
                </a:cubicBezTo>
                <a:cubicBezTo>
                  <a:pt x="13929" y="8037"/>
                  <a:pt x="14040" y="8033"/>
                  <a:pt x="14139" y="8012"/>
                </a:cubicBezTo>
                <a:cubicBezTo>
                  <a:pt x="14166" y="8006"/>
                  <a:pt x="14209" y="8012"/>
                  <a:pt x="14238" y="8012"/>
                </a:cubicBezTo>
              </a:path>
              <a:path w="8931" h="2506">
                <a:moveTo>
                  <a:pt x="14312" y="8062"/>
                </a:moveTo>
                <a:cubicBezTo>
                  <a:pt x="14312" y="8219"/>
                  <a:pt x="14312" y="8640"/>
                  <a:pt x="14312" y="8483"/>
                </a:cubicBezTo>
                <a:cubicBezTo>
                  <a:pt x="14312" y="8437"/>
                  <a:pt x="14330" y="8419"/>
                  <a:pt x="14337" y="8384"/>
                </a:cubicBezTo>
                <a:cubicBezTo>
                  <a:pt x="14372" y="8208"/>
                  <a:pt x="14331" y="7986"/>
                  <a:pt x="14312" y="7813"/>
                </a:cubicBezTo>
                <a:cubicBezTo>
                  <a:pt x="14309" y="7782"/>
                  <a:pt x="14295" y="7652"/>
                  <a:pt x="14337" y="7640"/>
                </a:cubicBezTo>
                <a:cubicBezTo>
                  <a:pt x="14374" y="7630"/>
                  <a:pt x="14449" y="7621"/>
                  <a:pt x="14486" y="7615"/>
                </a:cubicBezTo>
                <a:cubicBezTo>
                  <a:pt x="14605" y="7596"/>
                  <a:pt x="14742" y="7605"/>
                  <a:pt x="14858" y="7590"/>
                </a:cubicBezTo>
                <a:cubicBezTo>
                  <a:pt x="14938" y="7580"/>
                  <a:pt x="15146" y="7569"/>
                  <a:pt x="15131" y="7615"/>
                </a:cubicBezTo>
              </a:path>
              <a:path w="8931" h="2506">
                <a:moveTo>
                  <a:pt x="14610" y="7863"/>
                </a:moveTo>
                <a:cubicBezTo>
                  <a:pt x="14662" y="7863"/>
                  <a:pt x="14663" y="7849"/>
                  <a:pt x="14684" y="7838"/>
                </a:cubicBezTo>
                <a:cubicBezTo>
                  <a:pt x="14739" y="7810"/>
                  <a:pt x="14868" y="7852"/>
                  <a:pt x="14908" y="7863"/>
                </a:cubicBezTo>
                <a:cubicBezTo>
                  <a:pt x="14935" y="7871"/>
                  <a:pt x="14945" y="7901"/>
                  <a:pt x="14932" y="7938"/>
                </a:cubicBezTo>
                <a:cubicBezTo>
                  <a:pt x="14910" y="8001"/>
                  <a:pt x="14847" y="8060"/>
                  <a:pt x="14808" y="8111"/>
                </a:cubicBezTo>
                <a:cubicBezTo>
                  <a:pt x="14780" y="8147"/>
                  <a:pt x="14721" y="8208"/>
                  <a:pt x="14684" y="8235"/>
                </a:cubicBezTo>
                <a:cubicBezTo>
                  <a:pt x="14636" y="8270"/>
                  <a:pt x="14629" y="8290"/>
                  <a:pt x="14585" y="8334"/>
                </a:cubicBezTo>
                <a:cubicBezTo>
                  <a:pt x="14555" y="8364"/>
                  <a:pt x="14560" y="8369"/>
                  <a:pt x="14560" y="8409"/>
                </a:cubicBezTo>
                <a:cubicBezTo>
                  <a:pt x="14606" y="8409"/>
                  <a:pt x="14619" y="8431"/>
                  <a:pt x="14660" y="8434"/>
                </a:cubicBezTo>
                <a:cubicBezTo>
                  <a:pt x="14716" y="8438"/>
                  <a:pt x="14831" y="8404"/>
                  <a:pt x="14858" y="8409"/>
                </a:cubicBezTo>
                <a:cubicBezTo>
                  <a:pt x="14922" y="8420"/>
                  <a:pt x="14920" y="8430"/>
                  <a:pt x="14982" y="8409"/>
                </a:cubicBezTo>
                <a:cubicBezTo>
                  <a:pt x="15007" y="8409"/>
                  <a:pt x="15015" y="8409"/>
                  <a:pt x="14982" y="8409"/>
                </a:cubicBezTo>
              </a:path>
              <a:path w="8931" h="2506">
                <a:moveTo>
                  <a:pt x="14039" y="8731"/>
                </a:moveTo>
                <a:cubicBezTo>
                  <a:pt x="14097" y="8745"/>
                  <a:pt x="14144" y="8756"/>
                  <a:pt x="14213" y="8756"/>
                </a:cubicBezTo>
                <a:cubicBezTo>
                  <a:pt x="14350" y="8756"/>
                  <a:pt x="14476" y="8767"/>
                  <a:pt x="14610" y="8781"/>
                </a:cubicBezTo>
                <a:cubicBezTo>
                  <a:pt x="14746" y="8795"/>
                  <a:pt x="14873" y="8781"/>
                  <a:pt x="15007" y="8806"/>
                </a:cubicBezTo>
                <a:cubicBezTo>
                  <a:pt x="15059" y="8816"/>
                  <a:pt x="15022" y="8781"/>
                  <a:pt x="14982" y="8781"/>
                </a:cubicBezTo>
              </a:path>
              <a:path w="8931" h="2506">
                <a:moveTo>
                  <a:pt x="14263" y="9079"/>
                </a:moveTo>
                <a:cubicBezTo>
                  <a:pt x="14323" y="9079"/>
                  <a:pt x="14362" y="9069"/>
                  <a:pt x="14412" y="9054"/>
                </a:cubicBezTo>
                <a:cubicBezTo>
                  <a:pt x="14446" y="9043"/>
                  <a:pt x="14494" y="9079"/>
                  <a:pt x="14536" y="9079"/>
                </a:cubicBezTo>
                <a:cubicBezTo>
                  <a:pt x="14572" y="9079"/>
                  <a:pt x="14607" y="9101"/>
                  <a:pt x="14610" y="9128"/>
                </a:cubicBezTo>
                <a:cubicBezTo>
                  <a:pt x="14616" y="9178"/>
                  <a:pt x="14598" y="9188"/>
                  <a:pt x="14585" y="9227"/>
                </a:cubicBezTo>
                <a:cubicBezTo>
                  <a:pt x="14563" y="9293"/>
                  <a:pt x="14531" y="9323"/>
                  <a:pt x="14486" y="9376"/>
                </a:cubicBezTo>
                <a:cubicBezTo>
                  <a:pt x="14438" y="9433"/>
                  <a:pt x="14384" y="9451"/>
                  <a:pt x="14337" y="9500"/>
                </a:cubicBezTo>
                <a:cubicBezTo>
                  <a:pt x="14263" y="9577"/>
                  <a:pt x="14216" y="9629"/>
                  <a:pt x="14139" y="9699"/>
                </a:cubicBezTo>
                <a:cubicBezTo>
                  <a:pt x="14121" y="9716"/>
                  <a:pt x="14045" y="9765"/>
                  <a:pt x="14039" y="9773"/>
                </a:cubicBezTo>
                <a:cubicBezTo>
                  <a:pt x="14039" y="9781"/>
                  <a:pt x="14039" y="9790"/>
                  <a:pt x="14039" y="9798"/>
                </a:cubicBezTo>
                <a:cubicBezTo>
                  <a:pt x="14045" y="9817"/>
                  <a:pt x="14077" y="9857"/>
                  <a:pt x="14114" y="9847"/>
                </a:cubicBezTo>
                <a:cubicBezTo>
                  <a:pt x="14191" y="9826"/>
                  <a:pt x="14252" y="9823"/>
                  <a:pt x="14337" y="9823"/>
                </a:cubicBezTo>
                <a:cubicBezTo>
                  <a:pt x="14405" y="9823"/>
                  <a:pt x="14506" y="9839"/>
                  <a:pt x="14536" y="9798"/>
                </a:cubicBezTo>
                <a:cubicBezTo>
                  <a:pt x="14544" y="9790"/>
                  <a:pt x="14552" y="9781"/>
                  <a:pt x="14560" y="9773"/>
                </a:cubicBezTo>
              </a:path>
              <a:path w="8931" h="2506">
                <a:moveTo>
                  <a:pt x="15404" y="8632"/>
                </a:moveTo>
                <a:cubicBezTo>
                  <a:pt x="15415" y="8599"/>
                  <a:pt x="15440" y="8607"/>
                  <a:pt x="15404" y="8607"/>
                </a:cubicBezTo>
              </a:path>
              <a:path w="8931" h="2506">
                <a:moveTo>
                  <a:pt x="16272" y="7813"/>
                </a:moveTo>
                <a:cubicBezTo>
                  <a:pt x="16272" y="7864"/>
                  <a:pt x="16261" y="7872"/>
                  <a:pt x="16247" y="7913"/>
                </a:cubicBezTo>
                <a:cubicBezTo>
                  <a:pt x="16191" y="8080"/>
                  <a:pt x="16262" y="8309"/>
                  <a:pt x="16222" y="8483"/>
                </a:cubicBezTo>
                <a:cubicBezTo>
                  <a:pt x="16222" y="8508"/>
                  <a:pt x="16222" y="8516"/>
                  <a:pt x="16222" y="8533"/>
                </a:cubicBezTo>
                <a:cubicBezTo>
                  <a:pt x="16197" y="8533"/>
                  <a:pt x="16173" y="8533"/>
                  <a:pt x="16148" y="8533"/>
                </a:cubicBezTo>
              </a:path>
              <a:path w="8931" h="2506">
                <a:moveTo>
                  <a:pt x="15726" y="8632"/>
                </a:moveTo>
                <a:cubicBezTo>
                  <a:pt x="15955" y="8632"/>
                  <a:pt x="16203" y="8607"/>
                  <a:pt x="16421" y="8657"/>
                </a:cubicBezTo>
                <a:cubicBezTo>
                  <a:pt x="16450" y="8664"/>
                  <a:pt x="16490" y="8657"/>
                  <a:pt x="16520" y="8657"/>
                </a:cubicBezTo>
                <a:cubicBezTo>
                  <a:pt x="16476" y="8657"/>
                  <a:pt x="16481" y="8655"/>
                  <a:pt x="16446" y="8682"/>
                </a:cubicBezTo>
              </a:path>
              <a:path w="8931" h="2506">
                <a:moveTo>
                  <a:pt x="15850" y="9153"/>
                </a:moveTo>
                <a:cubicBezTo>
                  <a:pt x="15882" y="9121"/>
                  <a:pt x="15920" y="9101"/>
                  <a:pt x="15949" y="9079"/>
                </a:cubicBezTo>
                <a:cubicBezTo>
                  <a:pt x="15983" y="9053"/>
                  <a:pt x="16013" y="9047"/>
                  <a:pt x="16049" y="9029"/>
                </a:cubicBezTo>
                <a:cubicBezTo>
                  <a:pt x="16082" y="9012"/>
                  <a:pt x="16108" y="9006"/>
                  <a:pt x="16148" y="9004"/>
                </a:cubicBezTo>
                <a:cubicBezTo>
                  <a:pt x="16197" y="9001"/>
                  <a:pt x="16235" y="9008"/>
                  <a:pt x="16272" y="9029"/>
                </a:cubicBezTo>
                <a:cubicBezTo>
                  <a:pt x="16320" y="9056"/>
                  <a:pt x="16315" y="9053"/>
                  <a:pt x="16321" y="9103"/>
                </a:cubicBezTo>
                <a:cubicBezTo>
                  <a:pt x="16328" y="9163"/>
                  <a:pt x="16315" y="9204"/>
                  <a:pt x="16297" y="9252"/>
                </a:cubicBezTo>
                <a:cubicBezTo>
                  <a:pt x="16280" y="9297"/>
                  <a:pt x="16270" y="9336"/>
                  <a:pt x="16247" y="9376"/>
                </a:cubicBezTo>
                <a:cubicBezTo>
                  <a:pt x="16218" y="9428"/>
                  <a:pt x="16190" y="9458"/>
                  <a:pt x="16148" y="9500"/>
                </a:cubicBezTo>
                <a:cubicBezTo>
                  <a:pt x="16102" y="9546"/>
                  <a:pt x="16086" y="9604"/>
                  <a:pt x="16049" y="9649"/>
                </a:cubicBezTo>
                <a:cubicBezTo>
                  <a:pt x="15986" y="9726"/>
                  <a:pt x="15905" y="9800"/>
                  <a:pt x="15850" y="9872"/>
                </a:cubicBezTo>
                <a:cubicBezTo>
                  <a:pt x="15825" y="9872"/>
                  <a:pt x="15817" y="9872"/>
                  <a:pt x="15825" y="9897"/>
                </a:cubicBezTo>
                <a:cubicBezTo>
                  <a:pt x="15893" y="9897"/>
                  <a:pt x="15936" y="9912"/>
                  <a:pt x="15999" y="9922"/>
                </a:cubicBezTo>
                <a:cubicBezTo>
                  <a:pt x="16075" y="9935"/>
                  <a:pt x="16146" y="9935"/>
                  <a:pt x="16222" y="9947"/>
                </a:cubicBezTo>
                <a:cubicBezTo>
                  <a:pt x="16318" y="9963"/>
                  <a:pt x="16431" y="9966"/>
                  <a:pt x="16520" y="9996"/>
                </a:cubicBezTo>
                <a:cubicBezTo>
                  <a:pt x="16576" y="10015"/>
                  <a:pt x="16610" y="10021"/>
                  <a:pt x="16669" y="10021"/>
                </a:cubicBezTo>
                <a:cubicBezTo>
                  <a:pt x="16725" y="10021"/>
                  <a:pt x="16726" y="10007"/>
                  <a:pt x="16718" y="10021"/>
                </a:cubicBezTo>
                <a:cubicBezTo>
                  <a:pt x="16718" y="10046"/>
                  <a:pt x="16718" y="10054"/>
                  <a:pt x="16694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87800" y="3884760"/>
            <a:ext cx="1733400" cy="893520"/>
          </a:xfrm>
          <a:custGeom>
            <a:avLst/>
            <a:gdLst/>
            <a:ahLst/>
            <a:rect l="l" t="t" r="r" b="b"/>
            <a:pathLst>
              <a:path w="4813" h="2482">
                <a:moveTo>
                  <a:pt x="8855" y="11187"/>
                </a:moveTo>
                <a:cubicBezTo>
                  <a:pt x="8916" y="11187"/>
                  <a:pt x="8929" y="11206"/>
                  <a:pt x="8979" y="11212"/>
                </a:cubicBezTo>
                <a:cubicBezTo>
                  <a:pt x="9116" y="11227"/>
                  <a:pt x="9263" y="11212"/>
                  <a:pt x="9401" y="11212"/>
                </a:cubicBezTo>
              </a:path>
              <a:path w="4813" h="2482">
                <a:moveTo>
                  <a:pt x="9823" y="11063"/>
                </a:moveTo>
                <a:cubicBezTo>
                  <a:pt x="9847" y="11124"/>
                  <a:pt x="9830" y="11098"/>
                  <a:pt x="9823" y="11162"/>
                </a:cubicBezTo>
                <a:cubicBezTo>
                  <a:pt x="9800" y="11380"/>
                  <a:pt x="9823" y="11613"/>
                  <a:pt x="9823" y="11832"/>
                </a:cubicBezTo>
                <a:cubicBezTo>
                  <a:pt x="9823" y="11703"/>
                  <a:pt x="9828" y="11582"/>
                  <a:pt x="9847" y="11460"/>
                </a:cubicBezTo>
                <a:cubicBezTo>
                  <a:pt x="9860" y="11374"/>
                  <a:pt x="9862" y="11273"/>
                  <a:pt x="9872" y="11187"/>
                </a:cubicBezTo>
                <a:cubicBezTo>
                  <a:pt x="9880" y="11119"/>
                  <a:pt x="9889" y="11051"/>
                  <a:pt x="9897" y="10988"/>
                </a:cubicBezTo>
                <a:cubicBezTo>
                  <a:pt x="9903" y="10941"/>
                  <a:pt x="9899" y="10901"/>
                  <a:pt x="9922" y="10864"/>
                </a:cubicBezTo>
                <a:cubicBezTo>
                  <a:pt x="9939" y="10837"/>
                  <a:pt x="9994" y="10797"/>
                  <a:pt x="10021" y="10790"/>
                </a:cubicBezTo>
                <a:cubicBezTo>
                  <a:pt x="10309" y="10713"/>
                  <a:pt x="11162" y="10790"/>
                  <a:pt x="10864" y="10790"/>
                </a:cubicBezTo>
                <a:cubicBezTo>
                  <a:pt x="10856" y="10790"/>
                  <a:pt x="10848" y="10790"/>
                  <a:pt x="10840" y="10790"/>
                </a:cubicBezTo>
              </a:path>
              <a:path w="4813" h="2482">
                <a:moveTo>
                  <a:pt x="10517" y="11063"/>
                </a:moveTo>
                <a:cubicBezTo>
                  <a:pt x="10486" y="11140"/>
                  <a:pt x="10454" y="11210"/>
                  <a:pt x="10418" y="11286"/>
                </a:cubicBezTo>
                <a:cubicBezTo>
                  <a:pt x="10391" y="11344"/>
                  <a:pt x="10367" y="11404"/>
                  <a:pt x="10344" y="11460"/>
                </a:cubicBezTo>
                <a:cubicBezTo>
                  <a:pt x="10324" y="11509"/>
                  <a:pt x="10300" y="11577"/>
                  <a:pt x="10319" y="11633"/>
                </a:cubicBezTo>
                <a:cubicBezTo>
                  <a:pt x="10334" y="11677"/>
                  <a:pt x="10378" y="11732"/>
                  <a:pt x="10418" y="11757"/>
                </a:cubicBezTo>
                <a:cubicBezTo>
                  <a:pt x="10500" y="11809"/>
                  <a:pt x="10610" y="11771"/>
                  <a:pt x="10691" y="11733"/>
                </a:cubicBezTo>
                <a:cubicBezTo>
                  <a:pt x="10738" y="11711"/>
                  <a:pt x="10801" y="11660"/>
                  <a:pt x="10815" y="11609"/>
                </a:cubicBezTo>
                <a:cubicBezTo>
                  <a:pt x="10834" y="11540"/>
                  <a:pt x="10833" y="11515"/>
                  <a:pt x="10815" y="11460"/>
                </a:cubicBezTo>
                <a:cubicBezTo>
                  <a:pt x="10795" y="11401"/>
                  <a:pt x="10750" y="11410"/>
                  <a:pt x="10691" y="11410"/>
                </a:cubicBezTo>
                <a:cubicBezTo>
                  <a:pt x="10630" y="11410"/>
                  <a:pt x="10614" y="11433"/>
                  <a:pt x="10567" y="11460"/>
                </a:cubicBezTo>
                <a:cubicBezTo>
                  <a:pt x="10522" y="11486"/>
                  <a:pt x="10479" y="11534"/>
                  <a:pt x="10468" y="11584"/>
                </a:cubicBezTo>
                <a:cubicBezTo>
                  <a:pt x="10451" y="11667"/>
                  <a:pt x="10475" y="11756"/>
                  <a:pt x="10492" y="11832"/>
                </a:cubicBezTo>
                <a:cubicBezTo>
                  <a:pt x="10492" y="11860"/>
                  <a:pt x="10494" y="11871"/>
                  <a:pt x="10517" y="11881"/>
                </a:cubicBezTo>
              </a:path>
              <a:path w="4813" h="2482">
                <a:moveTo>
                  <a:pt x="9599" y="11981"/>
                </a:moveTo>
                <a:cubicBezTo>
                  <a:pt x="9661" y="11993"/>
                  <a:pt x="9707" y="12005"/>
                  <a:pt x="9773" y="12005"/>
                </a:cubicBezTo>
                <a:cubicBezTo>
                  <a:pt x="9890" y="12005"/>
                  <a:pt x="10001" y="12030"/>
                  <a:pt x="10120" y="12030"/>
                </a:cubicBezTo>
                <a:cubicBezTo>
                  <a:pt x="10256" y="12030"/>
                  <a:pt x="10383" y="12051"/>
                  <a:pt x="10517" y="12055"/>
                </a:cubicBezTo>
                <a:cubicBezTo>
                  <a:pt x="10622" y="12058"/>
                  <a:pt x="10714" y="12073"/>
                  <a:pt x="10815" y="12080"/>
                </a:cubicBezTo>
                <a:cubicBezTo>
                  <a:pt x="10863" y="12083"/>
                  <a:pt x="10870" y="12084"/>
                  <a:pt x="10889" y="12055"/>
                </a:cubicBezTo>
              </a:path>
              <a:path w="4813" h="2482">
                <a:moveTo>
                  <a:pt x="10468" y="12303"/>
                </a:moveTo>
                <a:cubicBezTo>
                  <a:pt x="10408" y="12356"/>
                  <a:pt x="10370" y="12395"/>
                  <a:pt x="10319" y="12452"/>
                </a:cubicBezTo>
                <a:cubicBezTo>
                  <a:pt x="10291" y="12483"/>
                  <a:pt x="10240" y="12481"/>
                  <a:pt x="10220" y="12526"/>
                </a:cubicBezTo>
                <a:cubicBezTo>
                  <a:pt x="10200" y="12571"/>
                  <a:pt x="10183" y="12584"/>
                  <a:pt x="10220" y="12626"/>
                </a:cubicBezTo>
                <a:cubicBezTo>
                  <a:pt x="10257" y="12668"/>
                  <a:pt x="10320" y="12658"/>
                  <a:pt x="10368" y="12675"/>
                </a:cubicBezTo>
                <a:cubicBezTo>
                  <a:pt x="10435" y="12699"/>
                  <a:pt x="10522" y="12720"/>
                  <a:pt x="10592" y="12725"/>
                </a:cubicBezTo>
                <a:cubicBezTo>
                  <a:pt x="10641" y="12728"/>
                  <a:pt x="10691" y="12725"/>
                  <a:pt x="10740" y="12725"/>
                </a:cubicBezTo>
              </a:path>
              <a:path w="4813" h="2482">
                <a:moveTo>
                  <a:pt x="10765" y="12427"/>
                </a:moveTo>
                <a:cubicBezTo>
                  <a:pt x="10765" y="12490"/>
                  <a:pt x="10743" y="12517"/>
                  <a:pt x="10740" y="12576"/>
                </a:cubicBezTo>
                <a:cubicBezTo>
                  <a:pt x="10737" y="12633"/>
                  <a:pt x="10732" y="12719"/>
                  <a:pt x="10716" y="12774"/>
                </a:cubicBezTo>
                <a:cubicBezTo>
                  <a:pt x="10695" y="12850"/>
                  <a:pt x="10707" y="12921"/>
                  <a:pt x="10691" y="12998"/>
                </a:cubicBezTo>
                <a:cubicBezTo>
                  <a:pt x="10676" y="13071"/>
                  <a:pt x="10666" y="13121"/>
                  <a:pt x="10666" y="13196"/>
                </a:cubicBezTo>
                <a:cubicBezTo>
                  <a:pt x="10666" y="13251"/>
                  <a:pt x="10666" y="13298"/>
                  <a:pt x="10666" y="13221"/>
                </a:cubicBezTo>
              </a:path>
              <a:path w="4813" h="2482">
                <a:moveTo>
                  <a:pt x="11609" y="11782"/>
                </a:moveTo>
                <a:cubicBezTo>
                  <a:pt x="11609" y="11869"/>
                  <a:pt x="11604" y="11925"/>
                  <a:pt x="11584" y="12005"/>
                </a:cubicBezTo>
                <a:cubicBezTo>
                  <a:pt x="11571" y="12056"/>
                  <a:pt x="11584" y="12127"/>
                  <a:pt x="11584" y="12179"/>
                </a:cubicBezTo>
              </a:path>
              <a:path w="4813" h="2482">
                <a:moveTo>
                  <a:pt x="11485" y="11981"/>
                </a:moveTo>
                <a:cubicBezTo>
                  <a:pt x="11583" y="11991"/>
                  <a:pt x="11643" y="11996"/>
                  <a:pt x="11733" y="11981"/>
                </a:cubicBezTo>
                <a:cubicBezTo>
                  <a:pt x="11782" y="11981"/>
                  <a:pt x="11799" y="11981"/>
                  <a:pt x="11832" y="11981"/>
                </a:cubicBezTo>
              </a:path>
              <a:path w="4813" h="2482">
                <a:moveTo>
                  <a:pt x="12179" y="11584"/>
                </a:moveTo>
                <a:cubicBezTo>
                  <a:pt x="12283" y="11584"/>
                  <a:pt x="12406" y="11605"/>
                  <a:pt x="12502" y="11559"/>
                </a:cubicBezTo>
                <a:cubicBezTo>
                  <a:pt x="12542" y="11539"/>
                  <a:pt x="12548" y="11530"/>
                  <a:pt x="12576" y="11534"/>
                </a:cubicBezTo>
              </a:path>
              <a:path w="4813" h="2482">
                <a:moveTo>
                  <a:pt x="12774" y="11137"/>
                </a:moveTo>
                <a:cubicBezTo>
                  <a:pt x="12783" y="11163"/>
                  <a:pt x="12816" y="11245"/>
                  <a:pt x="12799" y="11311"/>
                </a:cubicBezTo>
                <a:cubicBezTo>
                  <a:pt x="12778" y="11390"/>
                  <a:pt x="12756" y="11472"/>
                  <a:pt x="12774" y="11559"/>
                </a:cubicBezTo>
                <a:cubicBezTo>
                  <a:pt x="12792" y="11644"/>
                  <a:pt x="12779" y="11670"/>
                  <a:pt x="12774" y="11757"/>
                </a:cubicBezTo>
                <a:cubicBezTo>
                  <a:pt x="12770" y="11821"/>
                  <a:pt x="12787" y="11853"/>
                  <a:pt x="12799" y="11906"/>
                </a:cubicBezTo>
                <a:cubicBezTo>
                  <a:pt x="12799" y="11914"/>
                  <a:pt x="12799" y="11923"/>
                  <a:pt x="12799" y="11931"/>
                </a:cubicBezTo>
                <a:cubicBezTo>
                  <a:pt x="12769" y="11881"/>
                  <a:pt x="12774" y="11844"/>
                  <a:pt x="12774" y="11782"/>
                </a:cubicBezTo>
                <a:cubicBezTo>
                  <a:pt x="12774" y="11607"/>
                  <a:pt x="12767" y="11420"/>
                  <a:pt x="12799" y="11261"/>
                </a:cubicBezTo>
                <a:cubicBezTo>
                  <a:pt x="12813" y="11191"/>
                  <a:pt x="12812" y="11100"/>
                  <a:pt x="12824" y="11038"/>
                </a:cubicBezTo>
                <a:cubicBezTo>
                  <a:pt x="12830" y="11008"/>
                  <a:pt x="12829" y="10972"/>
                  <a:pt x="12849" y="10964"/>
                </a:cubicBezTo>
                <a:cubicBezTo>
                  <a:pt x="13050" y="10887"/>
                  <a:pt x="13378" y="11041"/>
                  <a:pt x="13543" y="10939"/>
                </a:cubicBezTo>
              </a:path>
              <a:path w="4813" h="2482">
                <a:moveTo>
                  <a:pt x="13122" y="11187"/>
                </a:moveTo>
                <a:cubicBezTo>
                  <a:pt x="13122" y="11204"/>
                  <a:pt x="13122" y="11220"/>
                  <a:pt x="13122" y="11237"/>
                </a:cubicBezTo>
                <a:cubicBezTo>
                  <a:pt x="13179" y="11237"/>
                  <a:pt x="13200" y="11227"/>
                  <a:pt x="13246" y="11212"/>
                </a:cubicBezTo>
                <a:cubicBezTo>
                  <a:pt x="13287" y="11198"/>
                  <a:pt x="13424" y="11199"/>
                  <a:pt x="13444" y="11237"/>
                </a:cubicBezTo>
                <a:cubicBezTo>
                  <a:pt x="13465" y="11279"/>
                  <a:pt x="13469" y="11324"/>
                  <a:pt x="13444" y="11361"/>
                </a:cubicBezTo>
                <a:cubicBezTo>
                  <a:pt x="13415" y="11404"/>
                  <a:pt x="13373" y="11442"/>
                  <a:pt x="13345" y="11485"/>
                </a:cubicBezTo>
                <a:cubicBezTo>
                  <a:pt x="13298" y="11557"/>
                  <a:pt x="13258" y="11606"/>
                  <a:pt x="13196" y="11658"/>
                </a:cubicBezTo>
                <a:cubicBezTo>
                  <a:pt x="13161" y="11687"/>
                  <a:pt x="13112" y="11763"/>
                  <a:pt x="13097" y="11807"/>
                </a:cubicBezTo>
                <a:cubicBezTo>
                  <a:pt x="13093" y="11820"/>
                  <a:pt x="13051" y="11890"/>
                  <a:pt x="13072" y="11906"/>
                </a:cubicBezTo>
                <a:cubicBezTo>
                  <a:pt x="13093" y="11923"/>
                  <a:pt x="13163" y="11945"/>
                  <a:pt x="13196" y="11931"/>
                </a:cubicBezTo>
                <a:cubicBezTo>
                  <a:pt x="13254" y="11907"/>
                  <a:pt x="13300" y="11906"/>
                  <a:pt x="13370" y="11906"/>
                </a:cubicBezTo>
                <a:cubicBezTo>
                  <a:pt x="13455" y="11906"/>
                  <a:pt x="13600" y="11933"/>
                  <a:pt x="13667" y="11881"/>
                </a:cubicBezTo>
              </a:path>
              <a:path w="4813" h="2482">
                <a:moveTo>
                  <a:pt x="12650" y="12129"/>
                </a:moveTo>
                <a:cubicBezTo>
                  <a:pt x="12725" y="12137"/>
                  <a:pt x="12825" y="12136"/>
                  <a:pt x="12898" y="12154"/>
                </a:cubicBezTo>
                <a:cubicBezTo>
                  <a:pt x="12976" y="12173"/>
                  <a:pt x="13064" y="12195"/>
                  <a:pt x="13146" y="12204"/>
                </a:cubicBezTo>
                <a:cubicBezTo>
                  <a:pt x="13200" y="12210"/>
                  <a:pt x="13417" y="12234"/>
                  <a:pt x="13444" y="12179"/>
                </a:cubicBezTo>
                <a:cubicBezTo>
                  <a:pt x="13444" y="12171"/>
                  <a:pt x="13444" y="12162"/>
                  <a:pt x="13444" y="12154"/>
                </a:cubicBezTo>
              </a:path>
              <a:path w="4813" h="2482">
                <a:moveTo>
                  <a:pt x="13022" y="12402"/>
                </a:moveTo>
                <a:cubicBezTo>
                  <a:pt x="12991" y="12460"/>
                  <a:pt x="12955" y="12515"/>
                  <a:pt x="12948" y="12576"/>
                </a:cubicBezTo>
                <a:cubicBezTo>
                  <a:pt x="12943" y="12621"/>
                  <a:pt x="12959" y="12650"/>
                  <a:pt x="12998" y="12675"/>
                </a:cubicBezTo>
                <a:cubicBezTo>
                  <a:pt x="13050" y="12709"/>
                  <a:pt x="13094" y="12706"/>
                  <a:pt x="13146" y="12725"/>
                </a:cubicBezTo>
                <a:cubicBezTo>
                  <a:pt x="13208" y="12747"/>
                  <a:pt x="13253" y="12769"/>
                  <a:pt x="13320" y="12774"/>
                </a:cubicBezTo>
                <a:cubicBezTo>
                  <a:pt x="13359" y="12777"/>
                  <a:pt x="13407" y="12743"/>
                  <a:pt x="13419" y="12725"/>
                </a:cubicBezTo>
              </a:path>
              <a:path w="4813" h="2482">
                <a:moveTo>
                  <a:pt x="13395" y="12402"/>
                </a:moveTo>
                <a:cubicBezTo>
                  <a:pt x="13359" y="12526"/>
                  <a:pt x="13324" y="12594"/>
                  <a:pt x="13320" y="12725"/>
                </a:cubicBezTo>
                <a:cubicBezTo>
                  <a:pt x="13317" y="12814"/>
                  <a:pt x="13321" y="12915"/>
                  <a:pt x="13345" y="12998"/>
                </a:cubicBezTo>
                <a:cubicBezTo>
                  <a:pt x="13365" y="13067"/>
                  <a:pt x="13408" y="13125"/>
                  <a:pt x="13419" y="13196"/>
                </a:cubicBezTo>
                <a:cubicBezTo>
                  <a:pt x="13419" y="13213"/>
                  <a:pt x="13419" y="13229"/>
                  <a:pt x="13419" y="132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59040" y="4626000"/>
            <a:ext cx="2376360" cy="1581120"/>
          </a:xfrm>
          <a:custGeom>
            <a:avLst/>
            <a:gdLst/>
            <a:ahLst/>
            <a:rect l="l" t="t" r="r" b="b"/>
            <a:pathLst>
              <a:path w="6599" h="4391">
                <a:moveTo>
                  <a:pt x="8657" y="13419"/>
                </a:moveTo>
                <a:cubicBezTo>
                  <a:pt x="8620" y="13406"/>
                  <a:pt x="8581" y="13355"/>
                  <a:pt x="8508" y="13345"/>
                </a:cubicBezTo>
                <a:cubicBezTo>
                  <a:pt x="8337" y="13322"/>
                  <a:pt x="8147" y="13358"/>
                  <a:pt x="7987" y="13419"/>
                </a:cubicBezTo>
                <a:cubicBezTo>
                  <a:pt x="7911" y="13448"/>
                  <a:pt x="7757" y="13494"/>
                  <a:pt x="7714" y="13568"/>
                </a:cubicBezTo>
                <a:cubicBezTo>
                  <a:pt x="7665" y="13652"/>
                  <a:pt x="7654" y="13697"/>
                  <a:pt x="7689" y="13791"/>
                </a:cubicBezTo>
                <a:cubicBezTo>
                  <a:pt x="7731" y="13905"/>
                  <a:pt x="7865" y="13942"/>
                  <a:pt x="7962" y="13990"/>
                </a:cubicBezTo>
                <a:cubicBezTo>
                  <a:pt x="8042" y="14030"/>
                  <a:pt x="8109" y="14053"/>
                  <a:pt x="8186" y="14089"/>
                </a:cubicBezTo>
                <a:cubicBezTo>
                  <a:pt x="8214" y="14089"/>
                  <a:pt x="8224" y="14092"/>
                  <a:pt x="8235" y="14114"/>
                </a:cubicBezTo>
                <a:cubicBezTo>
                  <a:pt x="8189" y="14144"/>
                  <a:pt x="8155" y="14154"/>
                  <a:pt x="8111" y="14188"/>
                </a:cubicBezTo>
                <a:cubicBezTo>
                  <a:pt x="8023" y="14256"/>
                  <a:pt x="7913" y="14329"/>
                  <a:pt x="7863" y="14436"/>
                </a:cubicBezTo>
                <a:cubicBezTo>
                  <a:pt x="7803" y="14566"/>
                  <a:pt x="7799" y="14702"/>
                  <a:pt x="7863" y="14833"/>
                </a:cubicBezTo>
                <a:cubicBezTo>
                  <a:pt x="7919" y="14948"/>
                  <a:pt x="7984" y="15000"/>
                  <a:pt x="8086" y="15081"/>
                </a:cubicBezTo>
                <a:cubicBezTo>
                  <a:pt x="8217" y="15184"/>
                  <a:pt x="8277" y="15191"/>
                  <a:pt x="8434" y="15205"/>
                </a:cubicBezTo>
                <a:cubicBezTo>
                  <a:pt x="8475" y="15205"/>
                  <a:pt x="8491" y="15213"/>
                  <a:pt x="8483" y="15180"/>
                </a:cubicBezTo>
                <a:cubicBezTo>
                  <a:pt x="8467" y="15200"/>
                  <a:pt x="8398" y="15174"/>
                  <a:pt x="8384" y="15230"/>
                </a:cubicBezTo>
                <a:cubicBezTo>
                  <a:pt x="8366" y="15301"/>
                  <a:pt x="8342" y="15374"/>
                  <a:pt x="8359" y="15453"/>
                </a:cubicBezTo>
                <a:cubicBezTo>
                  <a:pt x="8382" y="15560"/>
                  <a:pt x="8437" y="15668"/>
                  <a:pt x="8508" y="15751"/>
                </a:cubicBezTo>
                <a:cubicBezTo>
                  <a:pt x="8588" y="15844"/>
                  <a:pt x="8744" y="15969"/>
                  <a:pt x="8855" y="16024"/>
                </a:cubicBezTo>
                <a:cubicBezTo>
                  <a:pt x="8983" y="16087"/>
                  <a:pt x="9130" y="16152"/>
                  <a:pt x="9277" y="16123"/>
                </a:cubicBezTo>
                <a:cubicBezTo>
                  <a:pt x="9329" y="16113"/>
                  <a:pt x="9311" y="16056"/>
                  <a:pt x="9327" y="16049"/>
                </a:cubicBezTo>
                <a:cubicBezTo>
                  <a:pt x="9319" y="16041"/>
                  <a:pt x="9310" y="16032"/>
                  <a:pt x="9302" y="16024"/>
                </a:cubicBezTo>
                <a:cubicBezTo>
                  <a:pt x="9308" y="16073"/>
                  <a:pt x="9234" y="16077"/>
                  <a:pt x="9252" y="16123"/>
                </a:cubicBezTo>
                <a:cubicBezTo>
                  <a:pt x="9288" y="16216"/>
                  <a:pt x="9368" y="16293"/>
                  <a:pt x="9426" y="16371"/>
                </a:cubicBezTo>
                <a:cubicBezTo>
                  <a:pt x="9536" y="16520"/>
                  <a:pt x="9690" y="16623"/>
                  <a:pt x="9847" y="16718"/>
                </a:cubicBezTo>
                <a:cubicBezTo>
                  <a:pt x="9962" y="16788"/>
                  <a:pt x="10154" y="16864"/>
                  <a:pt x="10294" y="16842"/>
                </a:cubicBezTo>
                <a:cubicBezTo>
                  <a:pt x="10361" y="16831"/>
                  <a:pt x="10410" y="16796"/>
                  <a:pt x="10468" y="16768"/>
                </a:cubicBezTo>
                <a:cubicBezTo>
                  <a:pt x="10492" y="16743"/>
                  <a:pt x="10500" y="16734"/>
                  <a:pt x="10517" y="16718"/>
                </a:cubicBezTo>
                <a:cubicBezTo>
                  <a:pt x="10679" y="16868"/>
                  <a:pt x="10830" y="17014"/>
                  <a:pt x="11038" y="17115"/>
                </a:cubicBezTo>
                <a:cubicBezTo>
                  <a:pt x="11169" y="17179"/>
                  <a:pt x="11289" y="17212"/>
                  <a:pt x="11435" y="17214"/>
                </a:cubicBezTo>
                <a:cubicBezTo>
                  <a:pt x="11551" y="17216"/>
                  <a:pt x="11662" y="17117"/>
                  <a:pt x="11733" y="17115"/>
                </a:cubicBezTo>
                <a:cubicBezTo>
                  <a:pt x="11768" y="17114"/>
                  <a:pt x="11810" y="17135"/>
                  <a:pt x="11857" y="17140"/>
                </a:cubicBezTo>
                <a:cubicBezTo>
                  <a:pt x="12051" y="17163"/>
                  <a:pt x="12102" y="17279"/>
                  <a:pt x="12328" y="17190"/>
                </a:cubicBezTo>
                <a:cubicBezTo>
                  <a:pt x="12429" y="17150"/>
                  <a:pt x="12511" y="17056"/>
                  <a:pt x="12576" y="16966"/>
                </a:cubicBezTo>
                <a:cubicBezTo>
                  <a:pt x="12632" y="16887"/>
                  <a:pt x="12672" y="16763"/>
                  <a:pt x="12700" y="16669"/>
                </a:cubicBezTo>
                <a:cubicBezTo>
                  <a:pt x="12717" y="16612"/>
                  <a:pt x="12692" y="16502"/>
                  <a:pt x="12700" y="16470"/>
                </a:cubicBezTo>
                <a:cubicBezTo>
                  <a:pt x="12700" y="16446"/>
                  <a:pt x="12700" y="16438"/>
                  <a:pt x="12725" y="16446"/>
                </a:cubicBezTo>
                <a:cubicBezTo>
                  <a:pt x="12823" y="16523"/>
                  <a:pt x="12905" y="16627"/>
                  <a:pt x="13022" y="16669"/>
                </a:cubicBezTo>
                <a:cubicBezTo>
                  <a:pt x="13118" y="16704"/>
                  <a:pt x="13196" y="16701"/>
                  <a:pt x="13295" y="16669"/>
                </a:cubicBezTo>
                <a:cubicBezTo>
                  <a:pt x="13396" y="16636"/>
                  <a:pt x="13499" y="16552"/>
                  <a:pt x="13568" y="16470"/>
                </a:cubicBezTo>
                <a:cubicBezTo>
                  <a:pt x="13662" y="16357"/>
                  <a:pt x="13665" y="16207"/>
                  <a:pt x="13692" y="16073"/>
                </a:cubicBezTo>
                <a:cubicBezTo>
                  <a:pt x="13705" y="16009"/>
                  <a:pt x="13706" y="15901"/>
                  <a:pt x="13742" y="15875"/>
                </a:cubicBezTo>
                <a:cubicBezTo>
                  <a:pt x="13814" y="15822"/>
                  <a:pt x="13898" y="15887"/>
                  <a:pt x="13965" y="15850"/>
                </a:cubicBezTo>
                <a:cubicBezTo>
                  <a:pt x="14079" y="15787"/>
                  <a:pt x="14138" y="15702"/>
                  <a:pt x="14188" y="15577"/>
                </a:cubicBezTo>
                <a:cubicBezTo>
                  <a:pt x="14236" y="15457"/>
                  <a:pt x="14263" y="15281"/>
                  <a:pt x="14263" y="15156"/>
                </a:cubicBezTo>
                <a:cubicBezTo>
                  <a:pt x="14263" y="15003"/>
                  <a:pt x="14222" y="14825"/>
                  <a:pt x="14163" y="14684"/>
                </a:cubicBezTo>
                <a:cubicBezTo>
                  <a:pt x="14143" y="14637"/>
                  <a:pt x="13966" y="14462"/>
                  <a:pt x="13965" y="14436"/>
                </a:cubicBezTo>
                <a:cubicBezTo>
                  <a:pt x="13964" y="14388"/>
                  <a:pt x="14064" y="14509"/>
                  <a:pt x="14064" y="14461"/>
                </a:cubicBezTo>
                <a:cubicBezTo>
                  <a:pt x="14064" y="14264"/>
                  <a:pt x="14043" y="14101"/>
                  <a:pt x="13915" y="13940"/>
                </a:cubicBezTo>
                <a:cubicBezTo>
                  <a:pt x="13776" y="13765"/>
                  <a:pt x="13590" y="13651"/>
                  <a:pt x="13370" y="13618"/>
                </a:cubicBezTo>
                <a:cubicBezTo>
                  <a:pt x="13237" y="13598"/>
                  <a:pt x="13222" y="13583"/>
                  <a:pt x="13122" y="13667"/>
                </a:cubicBezTo>
                <a:cubicBezTo>
                  <a:pt x="13122" y="13695"/>
                  <a:pt x="13124" y="13706"/>
                  <a:pt x="13146" y="13717"/>
                </a:cubicBezTo>
                <a:cubicBezTo>
                  <a:pt x="13081" y="13633"/>
                  <a:pt x="13016" y="13522"/>
                  <a:pt x="12948" y="13444"/>
                </a:cubicBezTo>
                <a:cubicBezTo>
                  <a:pt x="12846" y="13327"/>
                  <a:pt x="12740" y="13261"/>
                  <a:pt x="12601" y="13196"/>
                </a:cubicBezTo>
                <a:cubicBezTo>
                  <a:pt x="12455" y="13127"/>
                  <a:pt x="12379" y="13118"/>
                  <a:pt x="12229" y="13122"/>
                </a:cubicBezTo>
                <a:cubicBezTo>
                  <a:pt x="12148" y="13124"/>
                  <a:pt x="12055" y="13115"/>
                  <a:pt x="12005" y="13196"/>
                </a:cubicBezTo>
                <a:cubicBezTo>
                  <a:pt x="11978" y="13241"/>
                  <a:pt x="12034" y="13284"/>
                  <a:pt x="12030" y="13320"/>
                </a:cubicBezTo>
                <a:cubicBezTo>
                  <a:pt x="12038" y="13328"/>
                  <a:pt x="12047" y="13337"/>
                  <a:pt x="12055" y="13345"/>
                </a:cubicBezTo>
                <a:cubicBezTo>
                  <a:pt x="11991" y="13316"/>
                  <a:pt x="11959" y="13269"/>
                  <a:pt x="11881" y="13246"/>
                </a:cubicBezTo>
                <a:cubicBezTo>
                  <a:pt x="11705" y="13195"/>
                  <a:pt x="11401" y="13148"/>
                  <a:pt x="11237" y="13271"/>
                </a:cubicBezTo>
                <a:cubicBezTo>
                  <a:pt x="11184" y="13311"/>
                  <a:pt x="11226" y="13365"/>
                  <a:pt x="11187" y="13419"/>
                </a:cubicBezTo>
                <a:cubicBezTo>
                  <a:pt x="10888" y="13134"/>
                  <a:pt x="10659" y="12957"/>
                  <a:pt x="10220" y="13022"/>
                </a:cubicBezTo>
                <a:cubicBezTo>
                  <a:pt x="10126" y="13036"/>
                  <a:pt x="10026" y="13078"/>
                  <a:pt x="9947" y="13122"/>
                </a:cubicBezTo>
                <a:cubicBezTo>
                  <a:pt x="9890" y="13153"/>
                  <a:pt x="9902" y="13174"/>
                  <a:pt x="9872" y="13196"/>
                </a:cubicBezTo>
                <a:cubicBezTo>
                  <a:pt x="9826" y="13147"/>
                  <a:pt x="9778" y="13079"/>
                  <a:pt x="9699" y="13022"/>
                </a:cubicBezTo>
                <a:cubicBezTo>
                  <a:pt x="9593" y="12945"/>
                  <a:pt x="9458" y="12871"/>
                  <a:pt x="9327" y="12849"/>
                </a:cubicBezTo>
                <a:cubicBezTo>
                  <a:pt x="9171" y="12823"/>
                  <a:pt x="8981" y="12841"/>
                  <a:pt x="8830" y="12874"/>
                </a:cubicBezTo>
                <a:cubicBezTo>
                  <a:pt x="8737" y="12894"/>
                  <a:pt x="8660" y="12976"/>
                  <a:pt x="8607" y="12998"/>
                </a:cubicBezTo>
                <a:cubicBezTo>
                  <a:pt x="8559" y="13018"/>
                  <a:pt x="8511" y="13022"/>
                  <a:pt x="8458" y="13047"/>
                </a:cubicBezTo>
                <a:cubicBezTo>
                  <a:pt x="8316" y="13113"/>
                  <a:pt x="8217" y="13182"/>
                  <a:pt x="8111" y="13295"/>
                </a:cubicBezTo>
                <a:cubicBezTo>
                  <a:pt x="8023" y="13388"/>
                  <a:pt x="7970" y="13441"/>
                  <a:pt x="7962" y="13568"/>
                </a:cubicBezTo>
                <a:cubicBezTo>
                  <a:pt x="7957" y="13656"/>
                  <a:pt x="7981" y="13721"/>
                  <a:pt x="8037" y="13791"/>
                </a:cubicBezTo>
                <a:cubicBezTo>
                  <a:pt x="8048" y="13805"/>
                  <a:pt x="8158" y="13858"/>
                  <a:pt x="8161" y="13866"/>
                </a:cubicBezTo>
                <a:cubicBezTo>
                  <a:pt x="8192" y="13951"/>
                  <a:pt x="8157" y="13864"/>
                  <a:pt x="8161" y="13891"/>
                </a:cubicBezTo>
                <a:cubicBezTo>
                  <a:pt x="8136" y="13891"/>
                  <a:pt x="8128" y="13891"/>
                  <a:pt x="8111" y="138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05200" y="1241280"/>
            <a:ext cx="233640" cy="214560"/>
          </a:xfrm>
          <a:custGeom>
            <a:avLst/>
            <a:gdLst/>
            <a:ahLst/>
            <a:rect l="l" t="t" r="r" b="b"/>
            <a:pathLst>
              <a:path w="646" h="596">
                <a:moveTo>
                  <a:pt x="13122" y="3448"/>
                </a:moveTo>
                <a:cubicBezTo>
                  <a:pt x="13109" y="3499"/>
                  <a:pt x="13081" y="3535"/>
                  <a:pt x="13072" y="3597"/>
                </a:cubicBezTo>
                <a:cubicBezTo>
                  <a:pt x="13060" y="3678"/>
                  <a:pt x="13086" y="3743"/>
                  <a:pt x="13097" y="3820"/>
                </a:cubicBezTo>
                <a:cubicBezTo>
                  <a:pt x="13107" y="3889"/>
                  <a:pt x="13129" y="3957"/>
                  <a:pt x="13171" y="4018"/>
                </a:cubicBezTo>
                <a:cubicBezTo>
                  <a:pt x="13199" y="4059"/>
                  <a:pt x="13251" y="4043"/>
                  <a:pt x="13295" y="4043"/>
                </a:cubicBezTo>
                <a:cubicBezTo>
                  <a:pt x="13367" y="4043"/>
                  <a:pt x="13427" y="3996"/>
                  <a:pt x="13469" y="3944"/>
                </a:cubicBezTo>
                <a:cubicBezTo>
                  <a:pt x="13510" y="3893"/>
                  <a:pt x="13539" y="3828"/>
                  <a:pt x="13568" y="3770"/>
                </a:cubicBezTo>
                <a:cubicBezTo>
                  <a:pt x="13590" y="3725"/>
                  <a:pt x="13613" y="3648"/>
                  <a:pt x="13593" y="3597"/>
                </a:cubicBezTo>
                <a:cubicBezTo>
                  <a:pt x="13580" y="3563"/>
                  <a:pt x="13568" y="3460"/>
                  <a:pt x="13568" y="3497"/>
                </a:cubicBezTo>
                <a:cubicBezTo>
                  <a:pt x="13568" y="3505"/>
                  <a:pt x="13568" y="3514"/>
                  <a:pt x="13568" y="3522"/>
                </a:cubicBezTo>
                <a:cubicBezTo>
                  <a:pt x="13549" y="3570"/>
                  <a:pt x="13568" y="3628"/>
                  <a:pt x="13568" y="3696"/>
                </a:cubicBezTo>
                <a:cubicBezTo>
                  <a:pt x="13568" y="3757"/>
                  <a:pt x="13602" y="3793"/>
                  <a:pt x="13618" y="3845"/>
                </a:cubicBezTo>
                <a:cubicBezTo>
                  <a:pt x="13625" y="3869"/>
                  <a:pt x="13656" y="3914"/>
                  <a:pt x="13667" y="3919"/>
                </a:cubicBezTo>
                <a:cubicBezTo>
                  <a:pt x="13695" y="3919"/>
                  <a:pt x="13706" y="3921"/>
                  <a:pt x="13717" y="39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45120" y="1231920"/>
            <a:ext cx="189000" cy="179280"/>
          </a:xfrm>
          <a:custGeom>
            <a:avLst/>
            <a:gdLst/>
            <a:ahLst/>
            <a:rect l="l" t="t" r="r" b="b"/>
            <a:pathLst>
              <a:path w="522" h="497">
                <a:moveTo>
                  <a:pt x="16793" y="3497"/>
                </a:moveTo>
                <a:cubicBezTo>
                  <a:pt x="16793" y="3560"/>
                  <a:pt x="16808" y="3589"/>
                  <a:pt x="16818" y="3646"/>
                </a:cubicBezTo>
                <a:cubicBezTo>
                  <a:pt x="16828" y="3703"/>
                  <a:pt x="16833" y="3771"/>
                  <a:pt x="16842" y="3820"/>
                </a:cubicBezTo>
                <a:cubicBezTo>
                  <a:pt x="16854" y="3883"/>
                  <a:pt x="16853" y="3867"/>
                  <a:pt x="16892" y="3919"/>
                </a:cubicBezTo>
                <a:cubicBezTo>
                  <a:pt x="16902" y="3881"/>
                  <a:pt x="16915" y="3851"/>
                  <a:pt x="16942" y="3820"/>
                </a:cubicBezTo>
                <a:cubicBezTo>
                  <a:pt x="16983" y="3773"/>
                  <a:pt x="16990" y="3726"/>
                  <a:pt x="17016" y="3671"/>
                </a:cubicBezTo>
                <a:cubicBezTo>
                  <a:pt x="17043" y="3614"/>
                  <a:pt x="17097" y="3570"/>
                  <a:pt x="17140" y="3522"/>
                </a:cubicBezTo>
                <a:cubicBezTo>
                  <a:pt x="17180" y="3477"/>
                  <a:pt x="17247" y="3476"/>
                  <a:pt x="17289" y="3448"/>
                </a:cubicBezTo>
                <a:cubicBezTo>
                  <a:pt x="17312" y="3425"/>
                  <a:pt x="17323" y="3417"/>
                  <a:pt x="17289" y="34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02000" y="5099040"/>
            <a:ext cx="206280" cy="27000"/>
          </a:xfrm>
          <a:custGeom>
            <a:avLst/>
            <a:gdLst/>
            <a:ahLst/>
            <a:rect l="l" t="t" r="r" b="b"/>
            <a:pathLst>
              <a:path w="571" h="76">
                <a:moveTo>
                  <a:pt x="9451" y="14188"/>
                </a:moveTo>
                <a:cubicBezTo>
                  <a:pt x="9504" y="14188"/>
                  <a:pt x="9520" y="14210"/>
                  <a:pt x="9575" y="14213"/>
                </a:cubicBezTo>
                <a:cubicBezTo>
                  <a:pt x="9660" y="14218"/>
                  <a:pt x="9737" y="14238"/>
                  <a:pt x="9823" y="14238"/>
                </a:cubicBezTo>
                <a:cubicBezTo>
                  <a:pt x="9889" y="14238"/>
                  <a:pt x="9944" y="14221"/>
                  <a:pt x="9996" y="14188"/>
                </a:cubicBezTo>
                <a:cubicBezTo>
                  <a:pt x="10004" y="14180"/>
                  <a:pt x="10013" y="14171"/>
                  <a:pt x="10021" y="141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9920" y="4946760"/>
            <a:ext cx="268200" cy="366480"/>
          </a:xfrm>
          <a:custGeom>
            <a:avLst/>
            <a:gdLst/>
            <a:ahLst/>
            <a:rect l="l" t="t" r="r" b="b"/>
            <a:pathLst>
              <a:path w="745" h="1018">
                <a:moveTo>
                  <a:pt x="10220" y="14114"/>
                </a:moveTo>
                <a:cubicBezTo>
                  <a:pt x="10220" y="14241"/>
                  <a:pt x="10238" y="14322"/>
                  <a:pt x="10244" y="14436"/>
                </a:cubicBezTo>
                <a:cubicBezTo>
                  <a:pt x="10248" y="14508"/>
                  <a:pt x="10265" y="14566"/>
                  <a:pt x="10269" y="14635"/>
                </a:cubicBezTo>
                <a:cubicBezTo>
                  <a:pt x="10270" y="14645"/>
                  <a:pt x="10269" y="14801"/>
                  <a:pt x="10269" y="14734"/>
                </a:cubicBezTo>
                <a:cubicBezTo>
                  <a:pt x="10269" y="14677"/>
                  <a:pt x="10252" y="14638"/>
                  <a:pt x="10244" y="14585"/>
                </a:cubicBezTo>
                <a:cubicBezTo>
                  <a:pt x="10225" y="14454"/>
                  <a:pt x="10241" y="14316"/>
                  <a:pt x="10220" y="14188"/>
                </a:cubicBezTo>
                <a:cubicBezTo>
                  <a:pt x="10205" y="14097"/>
                  <a:pt x="10203" y="13943"/>
                  <a:pt x="10244" y="13866"/>
                </a:cubicBezTo>
                <a:cubicBezTo>
                  <a:pt x="10265" y="13827"/>
                  <a:pt x="10267" y="13801"/>
                  <a:pt x="10319" y="13791"/>
                </a:cubicBezTo>
                <a:cubicBezTo>
                  <a:pt x="10399" y="13776"/>
                  <a:pt x="10469" y="13804"/>
                  <a:pt x="10542" y="13816"/>
                </a:cubicBezTo>
                <a:cubicBezTo>
                  <a:pt x="10662" y="13836"/>
                  <a:pt x="10811" y="13812"/>
                  <a:pt x="10914" y="13791"/>
                </a:cubicBezTo>
                <a:cubicBezTo>
                  <a:pt x="10978" y="13778"/>
                  <a:pt x="10945" y="13799"/>
                  <a:pt x="10964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3760" y="4964040"/>
            <a:ext cx="161640" cy="322200"/>
          </a:xfrm>
          <a:custGeom>
            <a:avLst/>
            <a:gdLst/>
            <a:ahLst/>
            <a:rect l="l" t="t" r="r" b="b"/>
            <a:pathLst>
              <a:path w="447" h="894">
                <a:moveTo>
                  <a:pt x="10815" y="13791"/>
                </a:moveTo>
                <a:cubicBezTo>
                  <a:pt x="10787" y="13851"/>
                  <a:pt x="10731" y="13948"/>
                  <a:pt x="10716" y="14015"/>
                </a:cubicBezTo>
                <a:cubicBezTo>
                  <a:pt x="10700" y="14088"/>
                  <a:pt x="10676" y="14143"/>
                  <a:pt x="10641" y="14213"/>
                </a:cubicBezTo>
                <a:cubicBezTo>
                  <a:pt x="10604" y="14287"/>
                  <a:pt x="10614" y="14360"/>
                  <a:pt x="10592" y="14436"/>
                </a:cubicBezTo>
                <a:cubicBezTo>
                  <a:pt x="10572" y="14506"/>
                  <a:pt x="10564" y="14513"/>
                  <a:pt x="10592" y="14585"/>
                </a:cubicBezTo>
                <a:cubicBezTo>
                  <a:pt x="10618" y="14652"/>
                  <a:pt x="10657" y="14667"/>
                  <a:pt x="10716" y="14684"/>
                </a:cubicBezTo>
                <a:cubicBezTo>
                  <a:pt x="10790" y="14706"/>
                  <a:pt x="10856" y="14675"/>
                  <a:pt x="10914" y="14635"/>
                </a:cubicBezTo>
                <a:cubicBezTo>
                  <a:pt x="10971" y="14596"/>
                  <a:pt x="10969" y="14565"/>
                  <a:pt x="10988" y="14511"/>
                </a:cubicBezTo>
                <a:cubicBezTo>
                  <a:pt x="11013" y="14440"/>
                  <a:pt x="11023" y="14428"/>
                  <a:pt x="10988" y="14362"/>
                </a:cubicBezTo>
                <a:cubicBezTo>
                  <a:pt x="10962" y="14311"/>
                  <a:pt x="10968" y="14281"/>
                  <a:pt x="10914" y="14263"/>
                </a:cubicBezTo>
                <a:cubicBezTo>
                  <a:pt x="10876" y="14250"/>
                  <a:pt x="10841" y="14265"/>
                  <a:pt x="10815" y="14288"/>
                </a:cubicBezTo>
                <a:cubicBezTo>
                  <a:pt x="10790" y="14310"/>
                  <a:pt x="10767" y="14354"/>
                  <a:pt x="10765" y="14387"/>
                </a:cubicBezTo>
                <a:cubicBezTo>
                  <a:pt x="10760" y="14450"/>
                  <a:pt x="10748" y="14538"/>
                  <a:pt x="10790" y="14585"/>
                </a:cubicBezTo>
                <a:cubicBezTo>
                  <a:pt x="10815" y="14610"/>
                  <a:pt x="10823" y="14618"/>
                  <a:pt x="10840" y="146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71960" y="5133960"/>
            <a:ext cx="81000" cy="97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1311" y="14288"/>
                </a:moveTo>
                <a:cubicBezTo>
                  <a:pt x="11383" y="14288"/>
                  <a:pt x="11420" y="14267"/>
                  <a:pt x="11485" y="14263"/>
                </a:cubicBezTo>
                <a:cubicBezTo>
                  <a:pt x="11501" y="14263"/>
                  <a:pt x="11518" y="14263"/>
                  <a:pt x="11534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5880" y="4938840"/>
            <a:ext cx="268200" cy="365040"/>
          </a:xfrm>
          <a:custGeom>
            <a:avLst/>
            <a:gdLst/>
            <a:ahLst/>
            <a:rect l="l" t="t" r="r" b="b"/>
            <a:pathLst>
              <a:path w="745" h="1018">
                <a:moveTo>
                  <a:pt x="11931" y="14114"/>
                </a:moveTo>
                <a:cubicBezTo>
                  <a:pt x="11931" y="14163"/>
                  <a:pt x="11948" y="14200"/>
                  <a:pt x="11956" y="14238"/>
                </a:cubicBezTo>
                <a:cubicBezTo>
                  <a:pt x="11978" y="14348"/>
                  <a:pt x="11963" y="14476"/>
                  <a:pt x="11981" y="14585"/>
                </a:cubicBezTo>
                <a:cubicBezTo>
                  <a:pt x="11990" y="14638"/>
                  <a:pt x="11992" y="14682"/>
                  <a:pt x="12005" y="14734"/>
                </a:cubicBezTo>
                <a:cubicBezTo>
                  <a:pt x="12005" y="14689"/>
                  <a:pt x="12007" y="14680"/>
                  <a:pt x="12005" y="14635"/>
                </a:cubicBezTo>
                <a:cubicBezTo>
                  <a:pt x="12001" y="14565"/>
                  <a:pt x="11981" y="14510"/>
                  <a:pt x="11981" y="14436"/>
                </a:cubicBezTo>
                <a:cubicBezTo>
                  <a:pt x="11981" y="14359"/>
                  <a:pt x="11956" y="14295"/>
                  <a:pt x="11956" y="14213"/>
                </a:cubicBezTo>
                <a:cubicBezTo>
                  <a:pt x="11956" y="14143"/>
                  <a:pt x="11931" y="14088"/>
                  <a:pt x="11931" y="14015"/>
                </a:cubicBezTo>
                <a:cubicBezTo>
                  <a:pt x="11931" y="13938"/>
                  <a:pt x="11943" y="13879"/>
                  <a:pt x="11956" y="13816"/>
                </a:cubicBezTo>
                <a:cubicBezTo>
                  <a:pt x="11963" y="13780"/>
                  <a:pt x="11959" y="13759"/>
                  <a:pt x="11981" y="13742"/>
                </a:cubicBezTo>
                <a:cubicBezTo>
                  <a:pt x="12026" y="13707"/>
                  <a:pt x="12095" y="13719"/>
                  <a:pt x="12154" y="13717"/>
                </a:cubicBezTo>
                <a:cubicBezTo>
                  <a:pt x="12238" y="13713"/>
                  <a:pt x="12298" y="13730"/>
                  <a:pt x="12378" y="13742"/>
                </a:cubicBezTo>
                <a:cubicBezTo>
                  <a:pt x="12472" y="13756"/>
                  <a:pt x="12571" y="13741"/>
                  <a:pt x="12650" y="13717"/>
                </a:cubicBezTo>
                <a:cubicBezTo>
                  <a:pt x="12658" y="13717"/>
                  <a:pt x="12667" y="13717"/>
                  <a:pt x="12675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02080" y="5010120"/>
            <a:ext cx="214200" cy="285840"/>
          </a:xfrm>
          <a:custGeom>
            <a:avLst/>
            <a:gdLst/>
            <a:ahLst/>
            <a:rect l="l" t="t" r="r" b="b"/>
            <a:pathLst>
              <a:path w="596" h="795">
                <a:moveTo>
                  <a:pt x="12254" y="13940"/>
                </a:moveTo>
                <a:cubicBezTo>
                  <a:pt x="12254" y="13965"/>
                  <a:pt x="12254" y="13973"/>
                  <a:pt x="12278" y="13965"/>
                </a:cubicBezTo>
                <a:cubicBezTo>
                  <a:pt x="12302" y="13957"/>
                  <a:pt x="12325" y="13956"/>
                  <a:pt x="12353" y="13940"/>
                </a:cubicBezTo>
                <a:cubicBezTo>
                  <a:pt x="12403" y="13912"/>
                  <a:pt x="12413" y="13915"/>
                  <a:pt x="12477" y="13915"/>
                </a:cubicBezTo>
                <a:cubicBezTo>
                  <a:pt x="12511" y="13915"/>
                  <a:pt x="12551" y="13942"/>
                  <a:pt x="12576" y="13965"/>
                </a:cubicBezTo>
                <a:cubicBezTo>
                  <a:pt x="12614" y="13999"/>
                  <a:pt x="12601" y="14040"/>
                  <a:pt x="12601" y="14089"/>
                </a:cubicBezTo>
                <a:cubicBezTo>
                  <a:pt x="12601" y="14161"/>
                  <a:pt x="12511" y="14236"/>
                  <a:pt x="12477" y="14288"/>
                </a:cubicBezTo>
                <a:cubicBezTo>
                  <a:pt x="12433" y="14355"/>
                  <a:pt x="12405" y="14389"/>
                  <a:pt x="12353" y="14436"/>
                </a:cubicBezTo>
                <a:cubicBezTo>
                  <a:pt x="12316" y="14470"/>
                  <a:pt x="12303" y="14539"/>
                  <a:pt x="12254" y="14560"/>
                </a:cubicBezTo>
                <a:cubicBezTo>
                  <a:pt x="12224" y="14573"/>
                  <a:pt x="12210" y="14604"/>
                  <a:pt x="12254" y="14635"/>
                </a:cubicBezTo>
                <a:cubicBezTo>
                  <a:pt x="12289" y="14660"/>
                  <a:pt x="12361" y="14681"/>
                  <a:pt x="12402" y="14684"/>
                </a:cubicBezTo>
                <a:cubicBezTo>
                  <a:pt x="12475" y="14689"/>
                  <a:pt x="12533" y="14698"/>
                  <a:pt x="12601" y="14709"/>
                </a:cubicBezTo>
                <a:cubicBezTo>
                  <a:pt x="12675" y="14721"/>
                  <a:pt x="12762" y="14700"/>
                  <a:pt x="12799" y="14684"/>
                </a:cubicBezTo>
                <a:cubicBezTo>
                  <a:pt x="12824" y="14684"/>
                  <a:pt x="12832" y="14684"/>
                  <a:pt x="12824" y="146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62200" y="5367240"/>
            <a:ext cx="974880" cy="44640"/>
          </a:xfrm>
          <a:custGeom>
            <a:avLst/>
            <a:gdLst/>
            <a:ahLst/>
            <a:rect l="l" t="t" r="r" b="b"/>
            <a:pathLst>
              <a:path w="2705" h="125">
                <a:moveTo>
                  <a:pt x="9897" y="14932"/>
                </a:moveTo>
                <a:cubicBezTo>
                  <a:pt x="10025" y="14932"/>
                  <a:pt x="10145" y="14949"/>
                  <a:pt x="10269" y="14957"/>
                </a:cubicBezTo>
                <a:cubicBezTo>
                  <a:pt x="10434" y="14967"/>
                  <a:pt x="10601" y="14978"/>
                  <a:pt x="10765" y="14982"/>
                </a:cubicBezTo>
                <a:cubicBezTo>
                  <a:pt x="10941" y="14986"/>
                  <a:pt x="11111" y="15003"/>
                  <a:pt x="11286" y="15007"/>
                </a:cubicBezTo>
                <a:cubicBezTo>
                  <a:pt x="11469" y="15011"/>
                  <a:pt x="11647" y="15032"/>
                  <a:pt x="11832" y="15032"/>
                </a:cubicBezTo>
                <a:cubicBezTo>
                  <a:pt x="12033" y="15032"/>
                  <a:pt x="12235" y="15026"/>
                  <a:pt x="12427" y="15007"/>
                </a:cubicBezTo>
                <a:cubicBezTo>
                  <a:pt x="12517" y="14998"/>
                  <a:pt x="12540" y="15007"/>
                  <a:pt x="12601" y="14957"/>
                </a:cubicBezTo>
                <a:cubicBezTo>
                  <a:pt x="12601" y="14949"/>
                  <a:pt x="12601" y="14940"/>
                  <a:pt x="12601" y="14932"/>
                </a:cubicBezTo>
                <a:cubicBezTo>
                  <a:pt x="12561" y="14917"/>
                  <a:pt x="12549" y="14914"/>
                  <a:pt x="12502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62240" y="5518080"/>
            <a:ext cx="243000" cy="206280"/>
          </a:xfrm>
          <a:custGeom>
            <a:avLst/>
            <a:gdLst/>
            <a:ahLst/>
            <a:rect l="l" t="t" r="r" b="b"/>
            <a:pathLst>
              <a:path w="671" h="572">
                <a:moveTo>
                  <a:pt x="11485" y="15329"/>
                </a:moveTo>
                <a:cubicBezTo>
                  <a:pt x="11451" y="15397"/>
                  <a:pt x="11385" y="15481"/>
                  <a:pt x="11361" y="15553"/>
                </a:cubicBezTo>
                <a:cubicBezTo>
                  <a:pt x="11344" y="15605"/>
                  <a:pt x="11307" y="15632"/>
                  <a:pt x="11286" y="15677"/>
                </a:cubicBezTo>
                <a:cubicBezTo>
                  <a:pt x="11266" y="15721"/>
                  <a:pt x="11293" y="15762"/>
                  <a:pt x="11311" y="15776"/>
                </a:cubicBezTo>
                <a:cubicBezTo>
                  <a:pt x="11349" y="15805"/>
                  <a:pt x="11362" y="15801"/>
                  <a:pt x="11410" y="15801"/>
                </a:cubicBezTo>
                <a:cubicBezTo>
                  <a:pt x="11462" y="15801"/>
                  <a:pt x="11490" y="15802"/>
                  <a:pt x="11534" y="15825"/>
                </a:cubicBezTo>
                <a:cubicBezTo>
                  <a:pt x="11604" y="15862"/>
                  <a:pt x="11685" y="15852"/>
                  <a:pt x="11757" y="15875"/>
                </a:cubicBezTo>
                <a:cubicBezTo>
                  <a:pt x="11832" y="15899"/>
                  <a:pt x="11841" y="15909"/>
                  <a:pt x="11906" y="15850"/>
                </a:cubicBezTo>
                <a:cubicBezTo>
                  <a:pt x="11936" y="15820"/>
                  <a:pt x="11947" y="15806"/>
                  <a:pt x="11956" y="157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76800" y="5510160"/>
            <a:ext cx="36360" cy="507960"/>
          </a:xfrm>
          <a:custGeom>
            <a:avLst/>
            <a:gdLst/>
            <a:ahLst/>
            <a:rect l="l" t="t" r="r" b="b"/>
            <a:pathLst>
              <a:path w="101" h="1415">
                <a:moveTo>
                  <a:pt x="11881" y="15304"/>
                </a:moveTo>
                <a:cubicBezTo>
                  <a:pt x="11881" y="15514"/>
                  <a:pt x="11892" y="15716"/>
                  <a:pt x="11906" y="15925"/>
                </a:cubicBezTo>
                <a:cubicBezTo>
                  <a:pt x="11919" y="16109"/>
                  <a:pt x="11907" y="16289"/>
                  <a:pt x="11931" y="16470"/>
                </a:cubicBezTo>
                <a:cubicBezTo>
                  <a:pt x="11940" y="16538"/>
                  <a:pt x="11951" y="16602"/>
                  <a:pt x="11956" y="16669"/>
                </a:cubicBezTo>
                <a:cubicBezTo>
                  <a:pt x="11959" y="16707"/>
                  <a:pt x="11962" y="16731"/>
                  <a:pt x="11981" y="16694"/>
                </a:cubicBezTo>
                <a:cubicBezTo>
                  <a:pt x="11981" y="16686"/>
                  <a:pt x="11981" y="16677"/>
                  <a:pt x="11981" y="166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3.  Sin(390</a:t>
            </a:r>
            <a:r>
              <a:rPr b="0" lang="en-US" sz="44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- 120</a:t>
            </a:r>
            <a:r>
              <a:rPr b="0" lang="en-US" sz="44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2411280"/>
            <a:ext cx="1677960" cy="606600"/>
          </a:xfrm>
          <a:custGeom>
            <a:avLst/>
            <a:gdLst/>
            <a:ahLst/>
            <a:rect l="l" t="t" r="r" b="b"/>
            <a:pathLst>
              <a:path w="4664" h="1688">
                <a:moveTo>
                  <a:pt x="7342" y="7689"/>
                </a:moveTo>
                <a:cubicBezTo>
                  <a:pt x="7322" y="7729"/>
                  <a:pt x="7312" y="7679"/>
                  <a:pt x="7268" y="7665"/>
                </a:cubicBezTo>
                <a:cubicBezTo>
                  <a:pt x="7209" y="7646"/>
                  <a:pt x="7141" y="7674"/>
                  <a:pt x="7094" y="7689"/>
                </a:cubicBezTo>
                <a:cubicBezTo>
                  <a:pt x="7048" y="7704"/>
                  <a:pt x="7006" y="7707"/>
                  <a:pt x="6970" y="7739"/>
                </a:cubicBezTo>
                <a:cubicBezTo>
                  <a:pt x="6950" y="7756"/>
                  <a:pt x="6880" y="7776"/>
                  <a:pt x="6871" y="7789"/>
                </a:cubicBezTo>
                <a:cubicBezTo>
                  <a:pt x="6871" y="7797"/>
                  <a:pt x="6871" y="7805"/>
                  <a:pt x="6871" y="7813"/>
                </a:cubicBezTo>
                <a:cubicBezTo>
                  <a:pt x="6902" y="7836"/>
                  <a:pt x="6931" y="7859"/>
                  <a:pt x="6970" y="7863"/>
                </a:cubicBezTo>
                <a:cubicBezTo>
                  <a:pt x="7021" y="7869"/>
                  <a:pt x="7043" y="7875"/>
                  <a:pt x="7094" y="7888"/>
                </a:cubicBezTo>
                <a:cubicBezTo>
                  <a:pt x="7133" y="7898"/>
                  <a:pt x="7205" y="7937"/>
                  <a:pt x="7243" y="7962"/>
                </a:cubicBezTo>
                <a:cubicBezTo>
                  <a:pt x="7289" y="7993"/>
                  <a:pt x="7306" y="8047"/>
                  <a:pt x="7342" y="8086"/>
                </a:cubicBezTo>
                <a:cubicBezTo>
                  <a:pt x="7371" y="8118"/>
                  <a:pt x="7387" y="8165"/>
                  <a:pt x="7392" y="8210"/>
                </a:cubicBezTo>
                <a:cubicBezTo>
                  <a:pt x="7394" y="8233"/>
                  <a:pt x="7364" y="8299"/>
                  <a:pt x="7342" y="8310"/>
                </a:cubicBezTo>
                <a:cubicBezTo>
                  <a:pt x="7303" y="8330"/>
                  <a:pt x="7258" y="8317"/>
                  <a:pt x="7218" y="8334"/>
                </a:cubicBezTo>
                <a:cubicBezTo>
                  <a:pt x="7171" y="8353"/>
                  <a:pt x="7082" y="8330"/>
                  <a:pt x="7020" y="8310"/>
                </a:cubicBezTo>
                <a:cubicBezTo>
                  <a:pt x="6960" y="8291"/>
                  <a:pt x="6930" y="8255"/>
                  <a:pt x="6871" y="8235"/>
                </a:cubicBezTo>
                <a:cubicBezTo>
                  <a:pt x="6837" y="8224"/>
                  <a:pt x="6809" y="8192"/>
                  <a:pt x="6796" y="8186"/>
                </a:cubicBezTo>
                <a:cubicBezTo>
                  <a:pt x="6768" y="8172"/>
                  <a:pt x="6782" y="8206"/>
                  <a:pt x="6796" y="8161"/>
                </a:cubicBezTo>
              </a:path>
              <a:path w="4664" h="1688">
                <a:moveTo>
                  <a:pt x="7665" y="7813"/>
                </a:moveTo>
                <a:cubicBezTo>
                  <a:pt x="7665" y="7949"/>
                  <a:pt x="7660" y="8081"/>
                  <a:pt x="7689" y="8210"/>
                </a:cubicBezTo>
                <a:cubicBezTo>
                  <a:pt x="7700" y="8260"/>
                  <a:pt x="7703" y="8288"/>
                  <a:pt x="7714" y="8310"/>
                </a:cubicBezTo>
                <a:cubicBezTo>
                  <a:pt x="7714" y="8338"/>
                  <a:pt x="7711" y="8348"/>
                  <a:pt x="7689" y="8359"/>
                </a:cubicBezTo>
                <a:cubicBezTo>
                  <a:pt x="7689" y="8312"/>
                  <a:pt x="7692" y="8298"/>
                  <a:pt x="7665" y="8260"/>
                </a:cubicBezTo>
              </a:path>
              <a:path w="4664" h="1688">
                <a:moveTo>
                  <a:pt x="7714" y="7541"/>
                </a:moveTo>
                <a:cubicBezTo>
                  <a:pt x="7714" y="7524"/>
                  <a:pt x="7714" y="7508"/>
                  <a:pt x="7714" y="7491"/>
                </a:cubicBezTo>
              </a:path>
              <a:path w="4664" h="1688">
                <a:moveTo>
                  <a:pt x="7888" y="7987"/>
                </a:moveTo>
                <a:cubicBezTo>
                  <a:pt x="7888" y="8092"/>
                  <a:pt x="7884" y="8218"/>
                  <a:pt x="7913" y="8285"/>
                </a:cubicBezTo>
                <a:cubicBezTo>
                  <a:pt x="7913" y="8293"/>
                  <a:pt x="7913" y="8302"/>
                  <a:pt x="7913" y="8310"/>
                </a:cubicBezTo>
                <a:cubicBezTo>
                  <a:pt x="7913" y="8197"/>
                  <a:pt x="7920" y="8098"/>
                  <a:pt x="7938" y="7987"/>
                </a:cubicBezTo>
                <a:cubicBezTo>
                  <a:pt x="7947" y="7932"/>
                  <a:pt x="7963" y="7883"/>
                  <a:pt x="7987" y="7838"/>
                </a:cubicBezTo>
                <a:cubicBezTo>
                  <a:pt x="8003" y="7809"/>
                  <a:pt x="8048" y="7725"/>
                  <a:pt x="8086" y="7714"/>
                </a:cubicBezTo>
                <a:cubicBezTo>
                  <a:pt x="8128" y="7702"/>
                  <a:pt x="8234" y="7701"/>
                  <a:pt x="8260" y="7739"/>
                </a:cubicBezTo>
                <a:cubicBezTo>
                  <a:pt x="8293" y="7786"/>
                  <a:pt x="8346" y="7856"/>
                  <a:pt x="8359" y="7913"/>
                </a:cubicBezTo>
                <a:cubicBezTo>
                  <a:pt x="8374" y="7980"/>
                  <a:pt x="8384" y="8040"/>
                  <a:pt x="8384" y="8111"/>
                </a:cubicBezTo>
                <a:cubicBezTo>
                  <a:pt x="8384" y="8173"/>
                  <a:pt x="8409" y="8223"/>
                  <a:pt x="8409" y="8285"/>
                </a:cubicBezTo>
                <a:cubicBezTo>
                  <a:pt x="8409" y="8356"/>
                  <a:pt x="8405" y="8242"/>
                  <a:pt x="8409" y="8235"/>
                </a:cubicBezTo>
                <a:cubicBezTo>
                  <a:pt x="8417" y="8227"/>
                  <a:pt x="8426" y="8218"/>
                  <a:pt x="8434" y="8210"/>
                </a:cubicBezTo>
              </a:path>
              <a:path w="4664" h="1688">
                <a:moveTo>
                  <a:pt x="8806" y="7615"/>
                </a:moveTo>
                <a:cubicBezTo>
                  <a:pt x="8848" y="7540"/>
                  <a:pt x="8878" y="7537"/>
                  <a:pt x="8954" y="7516"/>
                </a:cubicBezTo>
                <a:cubicBezTo>
                  <a:pt x="8973" y="7511"/>
                  <a:pt x="9044" y="7546"/>
                  <a:pt x="9054" y="7565"/>
                </a:cubicBezTo>
                <a:cubicBezTo>
                  <a:pt x="9074" y="7604"/>
                  <a:pt x="9037" y="7657"/>
                  <a:pt x="9029" y="7689"/>
                </a:cubicBezTo>
                <a:cubicBezTo>
                  <a:pt x="9018" y="7733"/>
                  <a:pt x="8988" y="7755"/>
                  <a:pt x="8954" y="7789"/>
                </a:cubicBezTo>
                <a:cubicBezTo>
                  <a:pt x="8922" y="7821"/>
                  <a:pt x="8899" y="7858"/>
                  <a:pt x="8855" y="7863"/>
                </a:cubicBezTo>
                <a:cubicBezTo>
                  <a:pt x="8797" y="7869"/>
                  <a:pt x="8888" y="7840"/>
                  <a:pt x="8905" y="7838"/>
                </a:cubicBezTo>
                <a:cubicBezTo>
                  <a:pt x="8967" y="7831"/>
                  <a:pt x="8905" y="7813"/>
                  <a:pt x="8979" y="7838"/>
                </a:cubicBezTo>
                <a:cubicBezTo>
                  <a:pt x="9027" y="7854"/>
                  <a:pt x="9040" y="7881"/>
                  <a:pt x="9054" y="7938"/>
                </a:cubicBezTo>
                <a:cubicBezTo>
                  <a:pt x="9068" y="7994"/>
                  <a:pt x="9058" y="8089"/>
                  <a:pt x="9029" y="8136"/>
                </a:cubicBezTo>
                <a:cubicBezTo>
                  <a:pt x="8998" y="8187"/>
                  <a:pt x="8986" y="8187"/>
                  <a:pt x="8930" y="8210"/>
                </a:cubicBezTo>
                <a:cubicBezTo>
                  <a:pt x="8871" y="8234"/>
                  <a:pt x="8845" y="8235"/>
                  <a:pt x="8781" y="8235"/>
                </a:cubicBezTo>
                <a:cubicBezTo>
                  <a:pt x="8742" y="8235"/>
                  <a:pt x="8715" y="8211"/>
                  <a:pt x="8706" y="8186"/>
                </a:cubicBezTo>
              </a:path>
              <a:path w="4664" h="1688">
                <a:moveTo>
                  <a:pt x="9599" y="7764"/>
                </a:moveTo>
                <a:cubicBezTo>
                  <a:pt x="9599" y="7729"/>
                  <a:pt x="9610" y="7613"/>
                  <a:pt x="9575" y="7590"/>
                </a:cubicBezTo>
                <a:cubicBezTo>
                  <a:pt x="9560" y="7580"/>
                  <a:pt x="9500" y="7551"/>
                  <a:pt x="9475" y="7565"/>
                </a:cubicBezTo>
                <a:cubicBezTo>
                  <a:pt x="9415" y="7599"/>
                  <a:pt x="9378" y="7599"/>
                  <a:pt x="9327" y="7665"/>
                </a:cubicBezTo>
                <a:cubicBezTo>
                  <a:pt x="9271" y="7737"/>
                  <a:pt x="9252" y="7777"/>
                  <a:pt x="9252" y="7863"/>
                </a:cubicBezTo>
                <a:cubicBezTo>
                  <a:pt x="9252" y="7908"/>
                  <a:pt x="9308" y="7952"/>
                  <a:pt x="9351" y="7962"/>
                </a:cubicBezTo>
                <a:cubicBezTo>
                  <a:pt x="9401" y="7974"/>
                  <a:pt x="9466" y="7944"/>
                  <a:pt x="9500" y="7913"/>
                </a:cubicBezTo>
                <a:cubicBezTo>
                  <a:pt x="9553" y="7865"/>
                  <a:pt x="9549" y="7843"/>
                  <a:pt x="9575" y="7789"/>
                </a:cubicBezTo>
                <a:cubicBezTo>
                  <a:pt x="9593" y="7751"/>
                  <a:pt x="9614" y="7730"/>
                  <a:pt x="9624" y="7689"/>
                </a:cubicBezTo>
                <a:cubicBezTo>
                  <a:pt x="9612" y="7725"/>
                  <a:pt x="9599" y="7730"/>
                  <a:pt x="9599" y="7789"/>
                </a:cubicBezTo>
                <a:cubicBezTo>
                  <a:pt x="9599" y="7835"/>
                  <a:pt x="9588" y="7915"/>
                  <a:pt x="9575" y="7962"/>
                </a:cubicBezTo>
                <a:cubicBezTo>
                  <a:pt x="9557" y="8027"/>
                  <a:pt x="9550" y="8067"/>
                  <a:pt x="9550" y="8136"/>
                </a:cubicBezTo>
                <a:cubicBezTo>
                  <a:pt x="9550" y="8156"/>
                  <a:pt x="9550" y="8295"/>
                  <a:pt x="9550" y="8235"/>
                </a:cubicBezTo>
                <a:cubicBezTo>
                  <a:pt x="9550" y="8207"/>
                  <a:pt x="9552" y="8196"/>
                  <a:pt x="9575" y="8186"/>
                </a:cubicBezTo>
              </a:path>
              <a:path w="4664" h="1688">
                <a:moveTo>
                  <a:pt x="9823" y="7714"/>
                </a:moveTo>
                <a:cubicBezTo>
                  <a:pt x="9802" y="7805"/>
                  <a:pt x="9776" y="7902"/>
                  <a:pt x="9748" y="7987"/>
                </a:cubicBezTo>
                <a:cubicBezTo>
                  <a:pt x="9729" y="8042"/>
                  <a:pt x="9693" y="8151"/>
                  <a:pt x="9723" y="8210"/>
                </a:cubicBezTo>
                <a:cubicBezTo>
                  <a:pt x="9740" y="8244"/>
                  <a:pt x="9789" y="8281"/>
                  <a:pt x="9823" y="8285"/>
                </a:cubicBezTo>
                <a:cubicBezTo>
                  <a:pt x="9880" y="8291"/>
                  <a:pt x="9903" y="8262"/>
                  <a:pt x="9947" y="8235"/>
                </a:cubicBezTo>
                <a:cubicBezTo>
                  <a:pt x="10030" y="8184"/>
                  <a:pt x="10017" y="8172"/>
                  <a:pt x="10046" y="8086"/>
                </a:cubicBezTo>
                <a:cubicBezTo>
                  <a:pt x="10066" y="8028"/>
                  <a:pt x="10089" y="7954"/>
                  <a:pt x="10071" y="7888"/>
                </a:cubicBezTo>
                <a:cubicBezTo>
                  <a:pt x="10053" y="7825"/>
                  <a:pt x="10036" y="7768"/>
                  <a:pt x="9996" y="7714"/>
                </a:cubicBezTo>
                <a:cubicBezTo>
                  <a:pt x="9961" y="7667"/>
                  <a:pt x="9892" y="7686"/>
                  <a:pt x="9847" y="7665"/>
                </a:cubicBezTo>
                <a:cubicBezTo>
                  <a:pt x="9783" y="7635"/>
                  <a:pt x="9812" y="7646"/>
                  <a:pt x="9773" y="7665"/>
                </a:cubicBezTo>
                <a:cubicBezTo>
                  <a:pt x="9748" y="7665"/>
                  <a:pt x="9740" y="7665"/>
                  <a:pt x="9748" y="7689"/>
                </a:cubicBezTo>
              </a:path>
              <a:path w="4664" h="1688">
                <a:moveTo>
                  <a:pt x="10641" y="7863"/>
                </a:moveTo>
                <a:cubicBezTo>
                  <a:pt x="10641" y="7888"/>
                  <a:pt x="10641" y="7896"/>
                  <a:pt x="10616" y="7888"/>
                </a:cubicBezTo>
                <a:cubicBezTo>
                  <a:pt x="10616" y="7858"/>
                  <a:pt x="10609" y="7821"/>
                  <a:pt x="10592" y="7813"/>
                </a:cubicBezTo>
                <a:cubicBezTo>
                  <a:pt x="10559" y="7796"/>
                  <a:pt x="10513" y="7818"/>
                  <a:pt x="10492" y="7838"/>
                </a:cubicBezTo>
                <a:cubicBezTo>
                  <a:pt x="10458" y="7870"/>
                  <a:pt x="10380" y="7941"/>
                  <a:pt x="10368" y="7987"/>
                </a:cubicBezTo>
                <a:cubicBezTo>
                  <a:pt x="10355" y="8036"/>
                  <a:pt x="10324" y="8134"/>
                  <a:pt x="10344" y="8186"/>
                </a:cubicBezTo>
                <a:cubicBezTo>
                  <a:pt x="10362" y="8234"/>
                  <a:pt x="10469" y="8321"/>
                  <a:pt x="10517" y="8310"/>
                </a:cubicBezTo>
                <a:cubicBezTo>
                  <a:pt x="10568" y="8298"/>
                  <a:pt x="10622" y="8279"/>
                  <a:pt x="10666" y="8260"/>
                </a:cubicBezTo>
                <a:cubicBezTo>
                  <a:pt x="10746" y="8226"/>
                  <a:pt x="10769" y="8157"/>
                  <a:pt x="10815" y="8086"/>
                </a:cubicBezTo>
              </a:path>
              <a:path w="4664" h="1688">
                <a:moveTo>
                  <a:pt x="10840" y="7888"/>
                </a:moveTo>
                <a:cubicBezTo>
                  <a:pt x="10830" y="7926"/>
                  <a:pt x="10828" y="7972"/>
                  <a:pt x="10815" y="8012"/>
                </a:cubicBezTo>
                <a:cubicBezTo>
                  <a:pt x="10789" y="8089"/>
                  <a:pt x="10790" y="8150"/>
                  <a:pt x="10790" y="8235"/>
                </a:cubicBezTo>
                <a:cubicBezTo>
                  <a:pt x="10790" y="8276"/>
                  <a:pt x="10795" y="8314"/>
                  <a:pt x="10840" y="8334"/>
                </a:cubicBezTo>
                <a:cubicBezTo>
                  <a:pt x="10861" y="8343"/>
                  <a:pt x="10910" y="8375"/>
                  <a:pt x="10939" y="8359"/>
                </a:cubicBezTo>
                <a:cubicBezTo>
                  <a:pt x="10972" y="8340"/>
                  <a:pt x="11046" y="8299"/>
                  <a:pt x="11063" y="8260"/>
                </a:cubicBezTo>
                <a:cubicBezTo>
                  <a:pt x="11080" y="8222"/>
                  <a:pt x="11107" y="8159"/>
                  <a:pt x="11088" y="8111"/>
                </a:cubicBezTo>
                <a:cubicBezTo>
                  <a:pt x="11079" y="8087"/>
                  <a:pt x="11051" y="8032"/>
                  <a:pt x="11038" y="8012"/>
                </a:cubicBezTo>
                <a:cubicBezTo>
                  <a:pt x="11023" y="7989"/>
                  <a:pt x="10967" y="7972"/>
                  <a:pt x="10939" y="7987"/>
                </a:cubicBezTo>
                <a:cubicBezTo>
                  <a:pt x="10901" y="8008"/>
                  <a:pt x="10914" y="8050"/>
                  <a:pt x="10914" y="8086"/>
                </a:cubicBezTo>
                <a:cubicBezTo>
                  <a:pt x="10914" y="8131"/>
                  <a:pt x="10901" y="8148"/>
                  <a:pt x="10939" y="8161"/>
                </a:cubicBezTo>
              </a:path>
              <a:path w="4664" h="1688">
                <a:moveTo>
                  <a:pt x="11385" y="7962"/>
                </a:moveTo>
                <a:cubicBezTo>
                  <a:pt x="11327" y="7962"/>
                  <a:pt x="11288" y="7975"/>
                  <a:pt x="11261" y="7987"/>
                </a:cubicBezTo>
                <a:cubicBezTo>
                  <a:pt x="11229" y="8001"/>
                  <a:pt x="11216" y="8008"/>
                  <a:pt x="11187" y="8037"/>
                </a:cubicBezTo>
                <a:cubicBezTo>
                  <a:pt x="11214" y="8057"/>
                  <a:pt x="11255" y="8097"/>
                  <a:pt x="11286" y="8111"/>
                </a:cubicBezTo>
                <a:cubicBezTo>
                  <a:pt x="11340" y="8135"/>
                  <a:pt x="11385" y="8147"/>
                  <a:pt x="11410" y="8210"/>
                </a:cubicBezTo>
                <a:cubicBezTo>
                  <a:pt x="11424" y="8245"/>
                  <a:pt x="11435" y="8268"/>
                  <a:pt x="11435" y="8310"/>
                </a:cubicBezTo>
                <a:cubicBezTo>
                  <a:pt x="11435" y="8346"/>
                  <a:pt x="11405" y="8343"/>
                  <a:pt x="11385" y="8359"/>
                </a:cubicBezTo>
                <a:cubicBezTo>
                  <a:pt x="11344" y="8390"/>
                  <a:pt x="11312" y="8384"/>
                  <a:pt x="11261" y="8384"/>
                </a:cubicBezTo>
                <a:cubicBezTo>
                  <a:pt x="11227" y="8384"/>
                  <a:pt x="11250" y="8392"/>
                  <a:pt x="11261" y="8359"/>
                </a:cubicBezTo>
              </a:path>
              <a:path w="4664" h="1688">
                <a:moveTo>
                  <a:pt x="8607" y="8235"/>
                </a:moveTo>
                <a:cubicBezTo>
                  <a:pt x="8647" y="8217"/>
                  <a:pt x="8687" y="8208"/>
                  <a:pt x="8731" y="8186"/>
                </a:cubicBezTo>
                <a:cubicBezTo>
                  <a:pt x="8827" y="8138"/>
                  <a:pt x="8936" y="8110"/>
                  <a:pt x="9029" y="8062"/>
                </a:cubicBezTo>
                <a:cubicBezTo>
                  <a:pt x="9149" y="8000"/>
                  <a:pt x="9276" y="7966"/>
                  <a:pt x="9401" y="7913"/>
                </a:cubicBezTo>
                <a:cubicBezTo>
                  <a:pt x="9517" y="7864"/>
                  <a:pt x="9630" y="7831"/>
                  <a:pt x="9748" y="7789"/>
                </a:cubicBezTo>
                <a:cubicBezTo>
                  <a:pt x="9824" y="7762"/>
                  <a:pt x="9895" y="7718"/>
                  <a:pt x="9971" y="7689"/>
                </a:cubicBezTo>
                <a:cubicBezTo>
                  <a:pt x="10061" y="7654"/>
                  <a:pt x="10056" y="7645"/>
                  <a:pt x="10096" y="7665"/>
                </a:cubicBezTo>
              </a:path>
              <a:path w="4664" h="1688">
                <a:moveTo>
                  <a:pt x="8830" y="6796"/>
                </a:moveTo>
                <a:cubicBezTo>
                  <a:pt x="8843" y="6758"/>
                  <a:pt x="8868" y="6780"/>
                  <a:pt x="8905" y="6747"/>
                </a:cubicBezTo>
                <a:cubicBezTo>
                  <a:pt x="8925" y="6729"/>
                  <a:pt x="9002" y="6689"/>
                  <a:pt x="9029" y="6697"/>
                </a:cubicBezTo>
                <a:cubicBezTo>
                  <a:pt x="9076" y="6711"/>
                  <a:pt x="9122" y="6722"/>
                  <a:pt x="9128" y="6772"/>
                </a:cubicBezTo>
                <a:cubicBezTo>
                  <a:pt x="9137" y="6847"/>
                  <a:pt x="9103" y="6841"/>
                  <a:pt x="9079" y="6896"/>
                </a:cubicBezTo>
                <a:cubicBezTo>
                  <a:pt x="9062" y="6936"/>
                  <a:pt x="9039" y="6960"/>
                  <a:pt x="9004" y="6995"/>
                </a:cubicBezTo>
                <a:cubicBezTo>
                  <a:pt x="8953" y="7046"/>
                  <a:pt x="8955" y="7007"/>
                  <a:pt x="8979" y="6995"/>
                </a:cubicBezTo>
                <a:cubicBezTo>
                  <a:pt x="8998" y="6985"/>
                  <a:pt x="9052" y="6954"/>
                  <a:pt x="9079" y="6970"/>
                </a:cubicBezTo>
                <a:cubicBezTo>
                  <a:pt x="9107" y="6986"/>
                  <a:pt x="9162" y="7011"/>
                  <a:pt x="9178" y="7045"/>
                </a:cubicBezTo>
                <a:cubicBezTo>
                  <a:pt x="9196" y="7084"/>
                  <a:pt x="9175" y="7142"/>
                  <a:pt x="9153" y="7169"/>
                </a:cubicBezTo>
                <a:cubicBezTo>
                  <a:pt x="9120" y="7210"/>
                  <a:pt x="9072" y="7230"/>
                  <a:pt x="9029" y="7243"/>
                </a:cubicBezTo>
                <a:cubicBezTo>
                  <a:pt x="8972" y="7260"/>
                  <a:pt x="8932" y="7249"/>
                  <a:pt x="8880" y="7243"/>
                </a:cubicBezTo>
                <a:cubicBezTo>
                  <a:pt x="8835" y="7238"/>
                  <a:pt x="8786" y="7235"/>
                  <a:pt x="8781" y="7193"/>
                </a:cubicBezTo>
                <a:cubicBezTo>
                  <a:pt x="8781" y="7169"/>
                  <a:pt x="8781" y="7161"/>
                  <a:pt x="8806" y="7169"/>
                </a:cubicBezTo>
              </a:path>
              <a:path w="4664" h="1688">
                <a:moveTo>
                  <a:pt x="9426" y="6697"/>
                </a:moveTo>
                <a:cubicBezTo>
                  <a:pt x="9426" y="6754"/>
                  <a:pt x="9419" y="6797"/>
                  <a:pt x="9401" y="6846"/>
                </a:cubicBezTo>
                <a:cubicBezTo>
                  <a:pt x="9366" y="6946"/>
                  <a:pt x="9359" y="7008"/>
                  <a:pt x="9376" y="7094"/>
                </a:cubicBezTo>
                <a:cubicBezTo>
                  <a:pt x="9385" y="7141"/>
                  <a:pt x="9396" y="7193"/>
                  <a:pt x="9451" y="7218"/>
                </a:cubicBezTo>
                <a:cubicBezTo>
                  <a:pt x="9481" y="7231"/>
                  <a:pt x="9556" y="7214"/>
                  <a:pt x="9575" y="7193"/>
                </a:cubicBezTo>
                <a:cubicBezTo>
                  <a:pt x="9625" y="7139"/>
                  <a:pt x="9664" y="7091"/>
                  <a:pt x="9699" y="7020"/>
                </a:cubicBezTo>
                <a:cubicBezTo>
                  <a:pt x="9723" y="6972"/>
                  <a:pt x="9743" y="6875"/>
                  <a:pt x="9723" y="6821"/>
                </a:cubicBezTo>
                <a:cubicBezTo>
                  <a:pt x="9714" y="6797"/>
                  <a:pt x="9662" y="6741"/>
                  <a:pt x="9649" y="6722"/>
                </a:cubicBezTo>
                <a:cubicBezTo>
                  <a:pt x="9623" y="6682"/>
                  <a:pt x="9566" y="6697"/>
                  <a:pt x="9525" y="66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21080" y="2419200"/>
            <a:ext cx="2975040" cy="635040"/>
          </a:xfrm>
          <a:custGeom>
            <a:avLst/>
            <a:gdLst/>
            <a:ahLst/>
            <a:rect l="l" t="t" r="r" b="b"/>
            <a:pathLst>
              <a:path w="8261" h="1762">
                <a:moveTo>
                  <a:pt x="12030" y="7665"/>
                </a:moveTo>
                <a:cubicBezTo>
                  <a:pt x="12030" y="7745"/>
                  <a:pt x="12017" y="7814"/>
                  <a:pt x="12005" y="7888"/>
                </a:cubicBezTo>
                <a:cubicBezTo>
                  <a:pt x="11977" y="8068"/>
                  <a:pt x="12111" y="8572"/>
                  <a:pt x="12030" y="8409"/>
                </a:cubicBezTo>
                <a:cubicBezTo>
                  <a:pt x="12007" y="8386"/>
                  <a:pt x="11999" y="8382"/>
                  <a:pt x="12005" y="8359"/>
                </a:cubicBezTo>
              </a:path>
              <a:path w="8261" h="1762">
                <a:moveTo>
                  <a:pt x="12229" y="7789"/>
                </a:moveTo>
                <a:cubicBezTo>
                  <a:pt x="12297" y="7730"/>
                  <a:pt x="12327" y="7749"/>
                  <a:pt x="12402" y="7714"/>
                </a:cubicBezTo>
                <a:cubicBezTo>
                  <a:pt x="12431" y="7701"/>
                  <a:pt x="12476" y="7675"/>
                  <a:pt x="12502" y="7714"/>
                </a:cubicBezTo>
                <a:cubicBezTo>
                  <a:pt x="12524" y="7748"/>
                  <a:pt x="12526" y="7794"/>
                  <a:pt x="12526" y="7838"/>
                </a:cubicBezTo>
                <a:cubicBezTo>
                  <a:pt x="12526" y="7906"/>
                  <a:pt x="12491" y="7980"/>
                  <a:pt x="12452" y="8037"/>
                </a:cubicBezTo>
                <a:cubicBezTo>
                  <a:pt x="12410" y="8097"/>
                  <a:pt x="12378" y="8156"/>
                  <a:pt x="12328" y="8210"/>
                </a:cubicBezTo>
                <a:cubicBezTo>
                  <a:pt x="12293" y="8247"/>
                  <a:pt x="12252" y="8339"/>
                  <a:pt x="12229" y="8359"/>
                </a:cubicBezTo>
                <a:cubicBezTo>
                  <a:pt x="12204" y="8359"/>
                  <a:pt x="12196" y="8359"/>
                  <a:pt x="12204" y="8384"/>
                </a:cubicBezTo>
                <a:cubicBezTo>
                  <a:pt x="12241" y="8412"/>
                  <a:pt x="12305" y="8426"/>
                  <a:pt x="12353" y="8434"/>
                </a:cubicBezTo>
                <a:cubicBezTo>
                  <a:pt x="12439" y="8449"/>
                  <a:pt x="12530" y="8423"/>
                  <a:pt x="12601" y="8409"/>
                </a:cubicBezTo>
                <a:cubicBezTo>
                  <a:pt x="12645" y="8409"/>
                  <a:pt x="12659" y="8412"/>
                  <a:pt x="12675" y="8384"/>
                </a:cubicBezTo>
              </a:path>
              <a:path w="8261" h="1762">
                <a:moveTo>
                  <a:pt x="12849" y="7764"/>
                </a:moveTo>
                <a:cubicBezTo>
                  <a:pt x="12839" y="7805"/>
                  <a:pt x="12805" y="7841"/>
                  <a:pt x="12799" y="7888"/>
                </a:cubicBezTo>
                <a:cubicBezTo>
                  <a:pt x="12786" y="7982"/>
                  <a:pt x="12754" y="8064"/>
                  <a:pt x="12750" y="8161"/>
                </a:cubicBezTo>
                <a:cubicBezTo>
                  <a:pt x="12747" y="8231"/>
                  <a:pt x="12732" y="8330"/>
                  <a:pt x="12774" y="8384"/>
                </a:cubicBezTo>
                <a:cubicBezTo>
                  <a:pt x="12808" y="8427"/>
                  <a:pt x="12792" y="8434"/>
                  <a:pt x="12849" y="8434"/>
                </a:cubicBezTo>
                <a:cubicBezTo>
                  <a:pt x="12949" y="8434"/>
                  <a:pt x="12963" y="8404"/>
                  <a:pt x="13022" y="8334"/>
                </a:cubicBezTo>
                <a:cubicBezTo>
                  <a:pt x="13055" y="8295"/>
                  <a:pt x="13069" y="8237"/>
                  <a:pt x="13072" y="8186"/>
                </a:cubicBezTo>
                <a:cubicBezTo>
                  <a:pt x="13076" y="8113"/>
                  <a:pt x="13033" y="8055"/>
                  <a:pt x="13022" y="7987"/>
                </a:cubicBezTo>
                <a:cubicBezTo>
                  <a:pt x="13011" y="7920"/>
                  <a:pt x="12995" y="7900"/>
                  <a:pt x="12948" y="7863"/>
                </a:cubicBezTo>
                <a:cubicBezTo>
                  <a:pt x="12914" y="7837"/>
                  <a:pt x="12888" y="7801"/>
                  <a:pt x="12849" y="7789"/>
                </a:cubicBezTo>
                <a:cubicBezTo>
                  <a:pt x="12803" y="7774"/>
                  <a:pt x="12799" y="7769"/>
                  <a:pt x="12799" y="7789"/>
                </a:cubicBezTo>
              </a:path>
              <a:path w="8261" h="1762">
                <a:moveTo>
                  <a:pt x="13444" y="7962"/>
                </a:moveTo>
                <a:cubicBezTo>
                  <a:pt x="13587" y="7962"/>
                  <a:pt x="13736" y="7963"/>
                  <a:pt x="13866" y="7938"/>
                </a:cubicBezTo>
                <a:cubicBezTo>
                  <a:pt x="13893" y="7933"/>
                  <a:pt x="14064" y="7938"/>
                  <a:pt x="14015" y="7938"/>
                </a:cubicBezTo>
              </a:path>
              <a:path w="8261" h="1762">
                <a:moveTo>
                  <a:pt x="14734" y="7714"/>
                </a:moveTo>
                <a:cubicBezTo>
                  <a:pt x="14734" y="7731"/>
                  <a:pt x="14734" y="7747"/>
                  <a:pt x="14734" y="7764"/>
                </a:cubicBezTo>
                <a:cubicBezTo>
                  <a:pt x="14734" y="7720"/>
                  <a:pt x="14728" y="7713"/>
                  <a:pt x="14709" y="7689"/>
                </a:cubicBezTo>
                <a:cubicBezTo>
                  <a:pt x="14687" y="7661"/>
                  <a:pt x="14657" y="7647"/>
                  <a:pt x="14635" y="7640"/>
                </a:cubicBezTo>
                <a:cubicBezTo>
                  <a:pt x="14605" y="7650"/>
                  <a:pt x="14573" y="7660"/>
                  <a:pt x="14536" y="7689"/>
                </a:cubicBezTo>
                <a:cubicBezTo>
                  <a:pt x="14487" y="7728"/>
                  <a:pt x="14463" y="7808"/>
                  <a:pt x="14436" y="7863"/>
                </a:cubicBezTo>
                <a:cubicBezTo>
                  <a:pt x="14396" y="7944"/>
                  <a:pt x="14366" y="7995"/>
                  <a:pt x="14362" y="8086"/>
                </a:cubicBezTo>
                <a:cubicBezTo>
                  <a:pt x="14359" y="8154"/>
                  <a:pt x="14358" y="8205"/>
                  <a:pt x="14387" y="8260"/>
                </a:cubicBezTo>
                <a:cubicBezTo>
                  <a:pt x="14411" y="8304"/>
                  <a:pt x="14432" y="8355"/>
                  <a:pt x="14486" y="8359"/>
                </a:cubicBezTo>
                <a:cubicBezTo>
                  <a:pt x="14573" y="8365"/>
                  <a:pt x="14610" y="8332"/>
                  <a:pt x="14684" y="8285"/>
                </a:cubicBezTo>
              </a:path>
              <a:path w="8261" h="1762">
                <a:moveTo>
                  <a:pt x="14982" y="7838"/>
                </a:moveTo>
                <a:cubicBezTo>
                  <a:pt x="14944" y="7945"/>
                  <a:pt x="14913" y="8025"/>
                  <a:pt x="14908" y="8136"/>
                </a:cubicBezTo>
                <a:cubicBezTo>
                  <a:pt x="14905" y="8194"/>
                  <a:pt x="14893" y="8266"/>
                  <a:pt x="14932" y="8310"/>
                </a:cubicBezTo>
                <a:cubicBezTo>
                  <a:pt x="14962" y="8344"/>
                  <a:pt x="15040" y="8352"/>
                  <a:pt x="15081" y="8334"/>
                </a:cubicBezTo>
                <a:cubicBezTo>
                  <a:pt x="15119" y="8317"/>
                  <a:pt x="15213" y="8250"/>
                  <a:pt x="15230" y="8210"/>
                </a:cubicBezTo>
                <a:cubicBezTo>
                  <a:pt x="15253" y="8153"/>
                  <a:pt x="15255" y="8076"/>
                  <a:pt x="15255" y="8012"/>
                </a:cubicBezTo>
                <a:cubicBezTo>
                  <a:pt x="15255" y="7946"/>
                  <a:pt x="15250" y="7913"/>
                  <a:pt x="15205" y="7863"/>
                </a:cubicBezTo>
                <a:cubicBezTo>
                  <a:pt x="15180" y="7835"/>
                  <a:pt x="15117" y="7817"/>
                  <a:pt x="15081" y="7813"/>
                </a:cubicBezTo>
                <a:cubicBezTo>
                  <a:pt x="15070" y="7812"/>
                  <a:pt x="14965" y="7813"/>
                  <a:pt x="15032" y="7813"/>
                </a:cubicBezTo>
              </a:path>
              <a:path w="8261" h="1762">
                <a:moveTo>
                  <a:pt x="15577" y="7665"/>
                </a:moveTo>
                <a:cubicBezTo>
                  <a:pt x="15559" y="7691"/>
                  <a:pt x="15518" y="7691"/>
                  <a:pt x="15478" y="7714"/>
                </a:cubicBezTo>
                <a:cubicBezTo>
                  <a:pt x="15439" y="7737"/>
                  <a:pt x="15349" y="7758"/>
                  <a:pt x="15329" y="7789"/>
                </a:cubicBezTo>
                <a:cubicBezTo>
                  <a:pt x="15297" y="7840"/>
                  <a:pt x="15355" y="7868"/>
                  <a:pt x="15379" y="7888"/>
                </a:cubicBezTo>
                <a:cubicBezTo>
                  <a:pt x="15439" y="7937"/>
                  <a:pt x="15512" y="7994"/>
                  <a:pt x="15577" y="8037"/>
                </a:cubicBezTo>
                <a:cubicBezTo>
                  <a:pt x="15648" y="8083"/>
                  <a:pt x="15657" y="8100"/>
                  <a:pt x="15677" y="8186"/>
                </a:cubicBezTo>
                <a:cubicBezTo>
                  <a:pt x="15681" y="8203"/>
                  <a:pt x="15646" y="8279"/>
                  <a:pt x="15627" y="8285"/>
                </a:cubicBezTo>
                <a:cubicBezTo>
                  <a:pt x="15572" y="8302"/>
                  <a:pt x="15513" y="8310"/>
                  <a:pt x="15453" y="8310"/>
                </a:cubicBezTo>
                <a:cubicBezTo>
                  <a:pt x="15415" y="8310"/>
                  <a:pt x="15368" y="8355"/>
                  <a:pt x="15329" y="8334"/>
                </a:cubicBezTo>
                <a:cubicBezTo>
                  <a:pt x="15304" y="8310"/>
                  <a:pt x="15296" y="8302"/>
                  <a:pt x="15329" y="8285"/>
                </a:cubicBezTo>
              </a:path>
              <a:path w="8261" h="1762">
                <a:moveTo>
                  <a:pt x="15974" y="7665"/>
                </a:moveTo>
                <a:cubicBezTo>
                  <a:pt x="16023" y="7645"/>
                  <a:pt x="16092" y="7596"/>
                  <a:pt x="16148" y="7615"/>
                </a:cubicBezTo>
                <a:cubicBezTo>
                  <a:pt x="16192" y="7630"/>
                  <a:pt x="16243" y="7639"/>
                  <a:pt x="16247" y="7689"/>
                </a:cubicBezTo>
                <a:cubicBezTo>
                  <a:pt x="16251" y="7738"/>
                  <a:pt x="16216" y="7807"/>
                  <a:pt x="16173" y="7838"/>
                </a:cubicBezTo>
                <a:cubicBezTo>
                  <a:pt x="16128" y="7871"/>
                  <a:pt x="16067" y="7887"/>
                  <a:pt x="16024" y="7913"/>
                </a:cubicBezTo>
                <a:cubicBezTo>
                  <a:pt x="15981" y="7939"/>
                  <a:pt x="15964" y="7940"/>
                  <a:pt x="15974" y="7938"/>
                </a:cubicBezTo>
                <a:cubicBezTo>
                  <a:pt x="16031" y="7927"/>
                  <a:pt x="16063" y="7930"/>
                  <a:pt x="16098" y="7938"/>
                </a:cubicBezTo>
                <a:cubicBezTo>
                  <a:pt x="16136" y="7946"/>
                  <a:pt x="16174" y="7975"/>
                  <a:pt x="16197" y="8012"/>
                </a:cubicBezTo>
                <a:cubicBezTo>
                  <a:pt x="16221" y="8050"/>
                  <a:pt x="16237" y="8116"/>
                  <a:pt x="16222" y="8161"/>
                </a:cubicBezTo>
                <a:cubicBezTo>
                  <a:pt x="16210" y="8196"/>
                  <a:pt x="16160" y="8269"/>
                  <a:pt x="16123" y="8285"/>
                </a:cubicBezTo>
                <a:cubicBezTo>
                  <a:pt x="16079" y="8305"/>
                  <a:pt x="16054" y="8310"/>
                  <a:pt x="15999" y="8310"/>
                </a:cubicBezTo>
                <a:cubicBezTo>
                  <a:pt x="15988" y="8310"/>
                  <a:pt x="15868" y="8266"/>
                  <a:pt x="15875" y="8260"/>
                </a:cubicBezTo>
                <a:cubicBezTo>
                  <a:pt x="15908" y="8243"/>
                  <a:pt x="15941" y="8227"/>
                  <a:pt x="15974" y="8210"/>
                </a:cubicBezTo>
              </a:path>
              <a:path w="8261" h="1762">
                <a:moveTo>
                  <a:pt x="16718" y="7739"/>
                </a:moveTo>
                <a:cubicBezTo>
                  <a:pt x="16718" y="7635"/>
                  <a:pt x="16738" y="7626"/>
                  <a:pt x="16694" y="7565"/>
                </a:cubicBezTo>
                <a:cubicBezTo>
                  <a:pt x="16657" y="7574"/>
                  <a:pt x="16603" y="7613"/>
                  <a:pt x="16570" y="7640"/>
                </a:cubicBezTo>
                <a:cubicBezTo>
                  <a:pt x="16502" y="7695"/>
                  <a:pt x="16473" y="7768"/>
                  <a:pt x="16446" y="7838"/>
                </a:cubicBezTo>
                <a:cubicBezTo>
                  <a:pt x="16415" y="7917"/>
                  <a:pt x="16424" y="7922"/>
                  <a:pt x="16446" y="7987"/>
                </a:cubicBezTo>
                <a:cubicBezTo>
                  <a:pt x="16462" y="8036"/>
                  <a:pt x="16482" y="8021"/>
                  <a:pt x="16520" y="8012"/>
                </a:cubicBezTo>
                <a:cubicBezTo>
                  <a:pt x="16595" y="7995"/>
                  <a:pt x="16600" y="7991"/>
                  <a:pt x="16644" y="7938"/>
                </a:cubicBezTo>
                <a:cubicBezTo>
                  <a:pt x="16668" y="7909"/>
                  <a:pt x="16690" y="7876"/>
                  <a:pt x="16694" y="7838"/>
                </a:cubicBezTo>
                <a:cubicBezTo>
                  <a:pt x="16694" y="7803"/>
                  <a:pt x="16698" y="7786"/>
                  <a:pt x="16718" y="7764"/>
                </a:cubicBezTo>
                <a:cubicBezTo>
                  <a:pt x="16691" y="7801"/>
                  <a:pt x="16677" y="7866"/>
                  <a:pt x="16669" y="7913"/>
                </a:cubicBezTo>
                <a:cubicBezTo>
                  <a:pt x="16657" y="7984"/>
                  <a:pt x="16647" y="8065"/>
                  <a:pt x="16644" y="8136"/>
                </a:cubicBezTo>
                <a:cubicBezTo>
                  <a:pt x="16641" y="8197"/>
                  <a:pt x="16644" y="8430"/>
                  <a:pt x="16644" y="8409"/>
                </a:cubicBezTo>
                <a:cubicBezTo>
                  <a:pt x="16644" y="8376"/>
                  <a:pt x="16644" y="8343"/>
                  <a:pt x="16644" y="8310"/>
                </a:cubicBezTo>
              </a:path>
              <a:path w="8261" h="1762">
                <a:moveTo>
                  <a:pt x="16917" y="7789"/>
                </a:moveTo>
                <a:cubicBezTo>
                  <a:pt x="16902" y="7847"/>
                  <a:pt x="16852" y="7894"/>
                  <a:pt x="16842" y="7962"/>
                </a:cubicBezTo>
                <a:cubicBezTo>
                  <a:pt x="16828" y="8052"/>
                  <a:pt x="16800" y="8144"/>
                  <a:pt x="16793" y="8235"/>
                </a:cubicBezTo>
                <a:cubicBezTo>
                  <a:pt x="16790" y="8272"/>
                  <a:pt x="16792" y="8360"/>
                  <a:pt x="16818" y="8384"/>
                </a:cubicBezTo>
                <a:cubicBezTo>
                  <a:pt x="16838" y="8402"/>
                  <a:pt x="16909" y="8453"/>
                  <a:pt x="16942" y="8434"/>
                </a:cubicBezTo>
                <a:cubicBezTo>
                  <a:pt x="16970" y="8418"/>
                  <a:pt x="17055" y="8370"/>
                  <a:pt x="17066" y="8334"/>
                </a:cubicBezTo>
                <a:cubicBezTo>
                  <a:pt x="17087" y="8262"/>
                  <a:pt x="17090" y="8189"/>
                  <a:pt x="17090" y="8111"/>
                </a:cubicBezTo>
                <a:cubicBezTo>
                  <a:pt x="17090" y="8037"/>
                  <a:pt x="17077" y="7981"/>
                  <a:pt x="17066" y="7913"/>
                </a:cubicBezTo>
                <a:cubicBezTo>
                  <a:pt x="17052" y="7827"/>
                  <a:pt x="17034" y="7840"/>
                  <a:pt x="16966" y="7789"/>
                </a:cubicBezTo>
                <a:cubicBezTo>
                  <a:pt x="16945" y="7773"/>
                  <a:pt x="16898" y="7742"/>
                  <a:pt x="16892" y="7739"/>
                </a:cubicBezTo>
                <a:cubicBezTo>
                  <a:pt x="16869" y="7728"/>
                  <a:pt x="16861" y="7764"/>
                  <a:pt x="16942" y="7764"/>
                </a:cubicBezTo>
              </a:path>
              <a:path w="8261" h="1762">
                <a:moveTo>
                  <a:pt x="17735" y="7838"/>
                </a:moveTo>
                <a:cubicBezTo>
                  <a:pt x="17735" y="7813"/>
                  <a:pt x="17735" y="7805"/>
                  <a:pt x="17735" y="7789"/>
                </a:cubicBezTo>
                <a:cubicBezTo>
                  <a:pt x="17682" y="7789"/>
                  <a:pt x="17634" y="7794"/>
                  <a:pt x="17587" y="7813"/>
                </a:cubicBezTo>
                <a:cubicBezTo>
                  <a:pt x="17539" y="7832"/>
                  <a:pt x="17493" y="7834"/>
                  <a:pt x="17487" y="7888"/>
                </a:cubicBezTo>
                <a:cubicBezTo>
                  <a:pt x="17481" y="7940"/>
                  <a:pt x="17502" y="7952"/>
                  <a:pt x="17537" y="7987"/>
                </a:cubicBezTo>
                <a:cubicBezTo>
                  <a:pt x="17586" y="8036"/>
                  <a:pt x="17619" y="8056"/>
                  <a:pt x="17661" y="8111"/>
                </a:cubicBezTo>
                <a:cubicBezTo>
                  <a:pt x="17695" y="8156"/>
                  <a:pt x="17731" y="8201"/>
                  <a:pt x="17735" y="8260"/>
                </a:cubicBezTo>
                <a:cubicBezTo>
                  <a:pt x="17739" y="8322"/>
                  <a:pt x="17716" y="8336"/>
                  <a:pt x="17686" y="8359"/>
                </a:cubicBezTo>
                <a:cubicBezTo>
                  <a:pt x="17644" y="8391"/>
                  <a:pt x="17618" y="8384"/>
                  <a:pt x="17562" y="8384"/>
                </a:cubicBezTo>
                <a:cubicBezTo>
                  <a:pt x="17511" y="8384"/>
                  <a:pt x="17426" y="8340"/>
                  <a:pt x="17388" y="8310"/>
                </a:cubicBezTo>
                <a:cubicBezTo>
                  <a:pt x="17338" y="8271"/>
                  <a:pt x="17385" y="8245"/>
                  <a:pt x="17413" y="8210"/>
                </a:cubicBezTo>
              </a:path>
              <a:path w="8261" h="1762">
                <a:moveTo>
                  <a:pt x="17909" y="7863"/>
                </a:moveTo>
                <a:cubicBezTo>
                  <a:pt x="17902" y="7961"/>
                  <a:pt x="17884" y="8037"/>
                  <a:pt x="17884" y="8136"/>
                </a:cubicBezTo>
                <a:cubicBezTo>
                  <a:pt x="17884" y="8210"/>
                  <a:pt x="17884" y="8285"/>
                  <a:pt x="17884" y="8359"/>
                </a:cubicBezTo>
                <a:cubicBezTo>
                  <a:pt x="17924" y="8346"/>
                  <a:pt x="17909" y="8341"/>
                  <a:pt x="17909" y="8285"/>
                </a:cubicBezTo>
              </a:path>
              <a:path w="8261" h="1762">
                <a:moveTo>
                  <a:pt x="17909" y="7714"/>
                </a:moveTo>
                <a:cubicBezTo>
                  <a:pt x="17918" y="7628"/>
                  <a:pt x="17905" y="7644"/>
                  <a:pt x="17959" y="7590"/>
                </a:cubicBezTo>
              </a:path>
              <a:path w="8261" h="1762">
                <a:moveTo>
                  <a:pt x="18083" y="8037"/>
                </a:moveTo>
                <a:cubicBezTo>
                  <a:pt x="18083" y="8153"/>
                  <a:pt x="18083" y="8268"/>
                  <a:pt x="18083" y="8384"/>
                </a:cubicBezTo>
                <a:cubicBezTo>
                  <a:pt x="18123" y="8370"/>
                  <a:pt x="18107" y="8335"/>
                  <a:pt x="18107" y="8285"/>
                </a:cubicBezTo>
                <a:cubicBezTo>
                  <a:pt x="18107" y="8181"/>
                  <a:pt x="18085" y="8048"/>
                  <a:pt x="18132" y="7962"/>
                </a:cubicBezTo>
                <a:cubicBezTo>
                  <a:pt x="18162" y="7907"/>
                  <a:pt x="18193" y="7859"/>
                  <a:pt x="18256" y="7838"/>
                </a:cubicBezTo>
                <a:cubicBezTo>
                  <a:pt x="18310" y="7820"/>
                  <a:pt x="18382" y="7842"/>
                  <a:pt x="18430" y="7863"/>
                </a:cubicBezTo>
                <a:cubicBezTo>
                  <a:pt x="18511" y="7900"/>
                  <a:pt x="18527" y="7949"/>
                  <a:pt x="18529" y="8037"/>
                </a:cubicBezTo>
                <a:cubicBezTo>
                  <a:pt x="18533" y="8185"/>
                  <a:pt x="18442" y="8554"/>
                  <a:pt x="18529" y="8434"/>
                </a:cubicBezTo>
                <a:cubicBezTo>
                  <a:pt x="18537" y="8426"/>
                  <a:pt x="18546" y="8417"/>
                  <a:pt x="18554" y="8409"/>
                </a:cubicBezTo>
              </a:path>
              <a:path w="8261" h="1762">
                <a:moveTo>
                  <a:pt x="18827" y="7615"/>
                </a:moveTo>
                <a:cubicBezTo>
                  <a:pt x="18899" y="7664"/>
                  <a:pt x="18876" y="7695"/>
                  <a:pt x="18876" y="7789"/>
                </a:cubicBezTo>
                <a:cubicBezTo>
                  <a:pt x="18876" y="7893"/>
                  <a:pt x="18856" y="7984"/>
                  <a:pt x="18852" y="8086"/>
                </a:cubicBezTo>
                <a:cubicBezTo>
                  <a:pt x="18848" y="8184"/>
                  <a:pt x="18860" y="8275"/>
                  <a:pt x="18876" y="8359"/>
                </a:cubicBezTo>
                <a:cubicBezTo>
                  <a:pt x="18888" y="8421"/>
                  <a:pt x="18857" y="8441"/>
                  <a:pt x="18926" y="8458"/>
                </a:cubicBezTo>
                <a:cubicBezTo>
                  <a:pt x="18926" y="8417"/>
                  <a:pt x="18926" y="8375"/>
                  <a:pt x="18926" y="8334"/>
                </a:cubicBezTo>
              </a:path>
              <a:path w="8261" h="1762">
                <a:moveTo>
                  <a:pt x="19075" y="7813"/>
                </a:moveTo>
                <a:cubicBezTo>
                  <a:pt x="19125" y="7714"/>
                  <a:pt x="19153" y="7685"/>
                  <a:pt x="19248" y="7640"/>
                </a:cubicBezTo>
                <a:cubicBezTo>
                  <a:pt x="19310" y="7611"/>
                  <a:pt x="19355" y="7615"/>
                  <a:pt x="19422" y="7615"/>
                </a:cubicBezTo>
                <a:cubicBezTo>
                  <a:pt x="19480" y="7615"/>
                  <a:pt x="19502" y="7609"/>
                  <a:pt x="19521" y="7665"/>
                </a:cubicBezTo>
                <a:cubicBezTo>
                  <a:pt x="19550" y="7750"/>
                  <a:pt x="19469" y="7885"/>
                  <a:pt x="19447" y="7938"/>
                </a:cubicBezTo>
                <a:cubicBezTo>
                  <a:pt x="19415" y="8014"/>
                  <a:pt x="19362" y="8066"/>
                  <a:pt x="19323" y="8136"/>
                </a:cubicBezTo>
                <a:cubicBezTo>
                  <a:pt x="19297" y="8182"/>
                  <a:pt x="19236" y="8263"/>
                  <a:pt x="19224" y="8310"/>
                </a:cubicBezTo>
                <a:cubicBezTo>
                  <a:pt x="19212" y="8355"/>
                  <a:pt x="19199" y="8387"/>
                  <a:pt x="19199" y="8434"/>
                </a:cubicBezTo>
                <a:cubicBezTo>
                  <a:pt x="19199" y="8458"/>
                  <a:pt x="19199" y="8467"/>
                  <a:pt x="19199" y="8483"/>
                </a:cubicBezTo>
                <a:cubicBezTo>
                  <a:pt x="19275" y="8483"/>
                  <a:pt x="19354" y="8496"/>
                  <a:pt x="19422" y="8458"/>
                </a:cubicBezTo>
                <a:cubicBezTo>
                  <a:pt x="19492" y="8419"/>
                  <a:pt x="19540" y="8365"/>
                  <a:pt x="19596" y="8310"/>
                </a:cubicBezTo>
              </a:path>
              <a:path w="8261" h="1762">
                <a:moveTo>
                  <a:pt x="19869" y="7714"/>
                </a:moveTo>
                <a:cubicBezTo>
                  <a:pt x="19816" y="7758"/>
                  <a:pt x="19798" y="7812"/>
                  <a:pt x="19769" y="7888"/>
                </a:cubicBezTo>
                <a:cubicBezTo>
                  <a:pt x="19738" y="7968"/>
                  <a:pt x="19684" y="8078"/>
                  <a:pt x="19670" y="8161"/>
                </a:cubicBezTo>
                <a:cubicBezTo>
                  <a:pt x="19660" y="8221"/>
                  <a:pt x="19659" y="8314"/>
                  <a:pt x="19695" y="8359"/>
                </a:cubicBezTo>
                <a:cubicBezTo>
                  <a:pt x="19735" y="8409"/>
                  <a:pt x="19780" y="8421"/>
                  <a:pt x="19844" y="8434"/>
                </a:cubicBezTo>
                <a:cubicBezTo>
                  <a:pt x="19886" y="8442"/>
                  <a:pt x="19984" y="8384"/>
                  <a:pt x="20017" y="8359"/>
                </a:cubicBezTo>
                <a:cubicBezTo>
                  <a:pt x="20089" y="8304"/>
                  <a:pt x="20134" y="8254"/>
                  <a:pt x="20191" y="8186"/>
                </a:cubicBezTo>
                <a:cubicBezTo>
                  <a:pt x="20243" y="8124"/>
                  <a:pt x="20260" y="8071"/>
                  <a:pt x="20265" y="7987"/>
                </a:cubicBezTo>
                <a:cubicBezTo>
                  <a:pt x="20269" y="7912"/>
                  <a:pt x="20235" y="7847"/>
                  <a:pt x="20191" y="7789"/>
                </a:cubicBezTo>
                <a:cubicBezTo>
                  <a:pt x="20158" y="7746"/>
                  <a:pt x="20110" y="7708"/>
                  <a:pt x="20067" y="7689"/>
                </a:cubicBezTo>
                <a:cubicBezTo>
                  <a:pt x="20022" y="7669"/>
                  <a:pt x="19941" y="7631"/>
                  <a:pt x="19893" y="7640"/>
                </a:cubicBezTo>
                <a:cubicBezTo>
                  <a:pt x="19868" y="7648"/>
                  <a:pt x="19844" y="7657"/>
                  <a:pt x="19819" y="7665"/>
                </a:cubicBezTo>
              </a:path>
              <a:path w="8261" h="1762">
                <a:moveTo>
                  <a:pt x="15949" y="8285"/>
                </a:moveTo>
                <a:cubicBezTo>
                  <a:pt x="15941" y="8285"/>
                  <a:pt x="15933" y="8285"/>
                  <a:pt x="15925" y="8285"/>
                </a:cubicBezTo>
                <a:cubicBezTo>
                  <a:pt x="15941" y="8269"/>
                  <a:pt x="16000" y="8237"/>
                  <a:pt x="16024" y="8210"/>
                </a:cubicBezTo>
                <a:cubicBezTo>
                  <a:pt x="16073" y="8154"/>
                  <a:pt x="16169" y="8092"/>
                  <a:pt x="16247" y="8062"/>
                </a:cubicBezTo>
                <a:cubicBezTo>
                  <a:pt x="16411" y="7998"/>
                  <a:pt x="16576" y="7919"/>
                  <a:pt x="16743" y="7863"/>
                </a:cubicBezTo>
                <a:cubicBezTo>
                  <a:pt x="16832" y="7833"/>
                  <a:pt x="16930" y="7816"/>
                  <a:pt x="17016" y="7789"/>
                </a:cubicBezTo>
                <a:cubicBezTo>
                  <a:pt x="17034" y="7783"/>
                  <a:pt x="17163" y="7714"/>
                  <a:pt x="17090" y="7689"/>
                </a:cubicBezTo>
                <a:cubicBezTo>
                  <a:pt x="17066" y="7689"/>
                  <a:pt x="17057" y="7689"/>
                  <a:pt x="17041" y="7689"/>
                </a:cubicBezTo>
              </a:path>
              <a:path w="8261" h="1762">
                <a:moveTo>
                  <a:pt x="15875" y="6821"/>
                </a:moveTo>
                <a:cubicBezTo>
                  <a:pt x="15914" y="6767"/>
                  <a:pt x="15954" y="6734"/>
                  <a:pt x="16024" y="6722"/>
                </a:cubicBezTo>
                <a:cubicBezTo>
                  <a:pt x="16068" y="6714"/>
                  <a:pt x="16141" y="6746"/>
                  <a:pt x="16173" y="6772"/>
                </a:cubicBezTo>
                <a:cubicBezTo>
                  <a:pt x="16254" y="6837"/>
                  <a:pt x="16154" y="6882"/>
                  <a:pt x="16123" y="6921"/>
                </a:cubicBezTo>
                <a:cubicBezTo>
                  <a:pt x="16079" y="6976"/>
                  <a:pt x="16054" y="7007"/>
                  <a:pt x="15999" y="7045"/>
                </a:cubicBezTo>
                <a:cubicBezTo>
                  <a:pt x="15976" y="7067"/>
                  <a:pt x="15971" y="7075"/>
                  <a:pt x="15949" y="7069"/>
                </a:cubicBezTo>
                <a:cubicBezTo>
                  <a:pt x="15987" y="7042"/>
                  <a:pt x="16001" y="7045"/>
                  <a:pt x="16049" y="7045"/>
                </a:cubicBezTo>
                <a:cubicBezTo>
                  <a:pt x="16131" y="7045"/>
                  <a:pt x="16159" y="7081"/>
                  <a:pt x="16197" y="7144"/>
                </a:cubicBezTo>
                <a:cubicBezTo>
                  <a:pt x="16232" y="7202"/>
                  <a:pt x="16234" y="7260"/>
                  <a:pt x="16197" y="7317"/>
                </a:cubicBezTo>
                <a:cubicBezTo>
                  <a:pt x="16166" y="7364"/>
                  <a:pt x="16113" y="7381"/>
                  <a:pt x="16073" y="7417"/>
                </a:cubicBezTo>
                <a:cubicBezTo>
                  <a:pt x="16045" y="7442"/>
                  <a:pt x="15965" y="7457"/>
                  <a:pt x="15925" y="7441"/>
                </a:cubicBezTo>
                <a:cubicBezTo>
                  <a:pt x="15889" y="7426"/>
                  <a:pt x="15855" y="7408"/>
                  <a:pt x="15850" y="7367"/>
                </a:cubicBezTo>
                <a:cubicBezTo>
                  <a:pt x="15850" y="7359"/>
                  <a:pt x="15850" y="7350"/>
                  <a:pt x="15850" y="7342"/>
                </a:cubicBezTo>
              </a:path>
              <a:path w="8261" h="1762">
                <a:moveTo>
                  <a:pt x="16371" y="6896"/>
                </a:moveTo>
                <a:cubicBezTo>
                  <a:pt x="16339" y="6991"/>
                  <a:pt x="16302" y="7071"/>
                  <a:pt x="16297" y="7169"/>
                </a:cubicBezTo>
                <a:cubicBezTo>
                  <a:pt x="16295" y="7207"/>
                  <a:pt x="16276" y="7319"/>
                  <a:pt x="16321" y="7342"/>
                </a:cubicBezTo>
                <a:cubicBezTo>
                  <a:pt x="16363" y="7363"/>
                  <a:pt x="16467" y="7321"/>
                  <a:pt x="16495" y="7293"/>
                </a:cubicBezTo>
                <a:cubicBezTo>
                  <a:pt x="16528" y="7260"/>
                  <a:pt x="16596" y="7114"/>
                  <a:pt x="16594" y="7069"/>
                </a:cubicBezTo>
                <a:cubicBezTo>
                  <a:pt x="16592" y="7014"/>
                  <a:pt x="16538" y="6966"/>
                  <a:pt x="16520" y="6921"/>
                </a:cubicBezTo>
                <a:cubicBezTo>
                  <a:pt x="16507" y="6890"/>
                  <a:pt x="16488" y="6882"/>
                  <a:pt x="16446" y="68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3205080"/>
            <a:ext cx="2803680" cy="743040"/>
          </a:xfrm>
          <a:custGeom>
            <a:avLst/>
            <a:gdLst/>
            <a:ahLst/>
            <a:rect l="l" t="t" r="r" b="b"/>
            <a:pathLst>
              <a:path w="7790" h="2060">
                <a:moveTo>
                  <a:pt x="8558" y="8905"/>
                </a:moveTo>
                <a:cubicBezTo>
                  <a:pt x="8558" y="8950"/>
                  <a:pt x="8538" y="8963"/>
                  <a:pt x="8533" y="9004"/>
                </a:cubicBezTo>
                <a:cubicBezTo>
                  <a:pt x="8524" y="9082"/>
                  <a:pt x="8520" y="9154"/>
                  <a:pt x="8508" y="9227"/>
                </a:cubicBezTo>
                <a:cubicBezTo>
                  <a:pt x="8489" y="9343"/>
                  <a:pt x="8508" y="9480"/>
                  <a:pt x="8508" y="9599"/>
                </a:cubicBezTo>
              </a:path>
              <a:path w="7790" h="2060">
                <a:moveTo>
                  <a:pt x="8086" y="9674"/>
                </a:moveTo>
                <a:cubicBezTo>
                  <a:pt x="8136" y="9704"/>
                  <a:pt x="8173" y="9699"/>
                  <a:pt x="8235" y="9699"/>
                </a:cubicBezTo>
                <a:cubicBezTo>
                  <a:pt x="8323" y="9699"/>
                  <a:pt x="8392" y="9674"/>
                  <a:pt x="8483" y="9674"/>
                </a:cubicBezTo>
                <a:cubicBezTo>
                  <a:pt x="8632" y="9674"/>
                  <a:pt x="9029" y="9674"/>
                  <a:pt x="8880" y="9674"/>
                </a:cubicBezTo>
                <a:cubicBezTo>
                  <a:pt x="8872" y="9674"/>
                  <a:pt x="8863" y="9674"/>
                  <a:pt x="8855" y="9674"/>
                </a:cubicBezTo>
              </a:path>
              <a:path w="7790" h="2060">
                <a:moveTo>
                  <a:pt x="8285" y="10046"/>
                </a:moveTo>
                <a:cubicBezTo>
                  <a:pt x="8298" y="10007"/>
                  <a:pt x="8324" y="10019"/>
                  <a:pt x="8359" y="9996"/>
                </a:cubicBezTo>
                <a:cubicBezTo>
                  <a:pt x="8396" y="9971"/>
                  <a:pt x="8433" y="9950"/>
                  <a:pt x="8483" y="9947"/>
                </a:cubicBezTo>
                <a:cubicBezTo>
                  <a:pt x="8548" y="9943"/>
                  <a:pt x="8557" y="9955"/>
                  <a:pt x="8607" y="9971"/>
                </a:cubicBezTo>
                <a:cubicBezTo>
                  <a:pt x="8643" y="9982"/>
                  <a:pt x="8678" y="9986"/>
                  <a:pt x="8682" y="10021"/>
                </a:cubicBezTo>
                <a:cubicBezTo>
                  <a:pt x="8688" y="10070"/>
                  <a:pt x="8665" y="10084"/>
                  <a:pt x="8657" y="10120"/>
                </a:cubicBezTo>
                <a:cubicBezTo>
                  <a:pt x="8645" y="10176"/>
                  <a:pt x="8637" y="10209"/>
                  <a:pt x="8582" y="10244"/>
                </a:cubicBezTo>
                <a:cubicBezTo>
                  <a:pt x="8528" y="10279"/>
                  <a:pt x="8486" y="10326"/>
                  <a:pt x="8434" y="10368"/>
                </a:cubicBezTo>
                <a:cubicBezTo>
                  <a:pt x="8374" y="10417"/>
                  <a:pt x="8321" y="10468"/>
                  <a:pt x="8260" y="10517"/>
                </a:cubicBezTo>
                <a:cubicBezTo>
                  <a:pt x="8224" y="10546"/>
                  <a:pt x="8197" y="10556"/>
                  <a:pt x="8161" y="10592"/>
                </a:cubicBezTo>
                <a:cubicBezTo>
                  <a:pt x="8206" y="10592"/>
                  <a:pt x="8220" y="10570"/>
                  <a:pt x="8260" y="10567"/>
                </a:cubicBezTo>
                <a:cubicBezTo>
                  <a:pt x="8317" y="10563"/>
                  <a:pt x="8347" y="10592"/>
                  <a:pt x="8409" y="10592"/>
                </a:cubicBezTo>
                <a:cubicBezTo>
                  <a:pt x="8479" y="10592"/>
                  <a:pt x="8518" y="10611"/>
                  <a:pt x="8582" y="10616"/>
                </a:cubicBezTo>
                <a:cubicBezTo>
                  <a:pt x="8625" y="10619"/>
                  <a:pt x="8645" y="10626"/>
                  <a:pt x="8657" y="10592"/>
                </a:cubicBezTo>
              </a:path>
              <a:path w="7790" h="2060">
                <a:moveTo>
                  <a:pt x="9203" y="9649"/>
                </a:moveTo>
                <a:cubicBezTo>
                  <a:pt x="9174" y="9687"/>
                  <a:pt x="9178" y="9700"/>
                  <a:pt x="9178" y="9748"/>
                </a:cubicBezTo>
                <a:cubicBezTo>
                  <a:pt x="9178" y="9756"/>
                  <a:pt x="9178" y="9765"/>
                  <a:pt x="9178" y="9773"/>
                </a:cubicBezTo>
                <a:cubicBezTo>
                  <a:pt x="9227" y="9761"/>
                  <a:pt x="9227" y="9749"/>
                  <a:pt x="9227" y="9699"/>
                </a:cubicBezTo>
                <a:cubicBezTo>
                  <a:pt x="9227" y="9668"/>
                  <a:pt x="9202" y="9657"/>
                  <a:pt x="9178" y="9649"/>
                </a:cubicBezTo>
                <a:cubicBezTo>
                  <a:pt x="9146" y="9660"/>
                  <a:pt x="9139" y="9667"/>
                  <a:pt x="9128" y="9699"/>
                </a:cubicBezTo>
              </a:path>
              <a:path w="7790" h="2060">
                <a:moveTo>
                  <a:pt x="9550" y="9376"/>
                </a:moveTo>
                <a:cubicBezTo>
                  <a:pt x="9588" y="9389"/>
                  <a:pt x="9570" y="9401"/>
                  <a:pt x="9624" y="9401"/>
                </a:cubicBezTo>
                <a:cubicBezTo>
                  <a:pt x="9748" y="9401"/>
                  <a:pt x="9872" y="9401"/>
                  <a:pt x="9996" y="9401"/>
                </a:cubicBezTo>
              </a:path>
              <a:path w="7790" h="2060">
                <a:moveTo>
                  <a:pt x="10542" y="8930"/>
                </a:moveTo>
                <a:cubicBezTo>
                  <a:pt x="10534" y="8987"/>
                  <a:pt x="10517" y="9017"/>
                  <a:pt x="10517" y="9079"/>
                </a:cubicBezTo>
                <a:cubicBezTo>
                  <a:pt x="10517" y="9164"/>
                  <a:pt x="10522" y="9224"/>
                  <a:pt x="10542" y="9302"/>
                </a:cubicBezTo>
                <a:cubicBezTo>
                  <a:pt x="10560" y="9374"/>
                  <a:pt x="10542" y="9476"/>
                  <a:pt x="10542" y="9550"/>
                </a:cubicBezTo>
              </a:path>
              <a:path w="7790" h="2060">
                <a:moveTo>
                  <a:pt x="10120" y="9773"/>
                </a:moveTo>
                <a:cubicBezTo>
                  <a:pt x="10401" y="9773"/>
                  <a:pt x="11195" y="9773"/>
                  <a:pt x="10914" y="9773"/>
                </a:cubicBezTo>
                <a:cubicBezTo>
                  <a:pt x="10906" y="9773"/>
                  <a:pt x="10897" y="9773"/>
                  <a:pt x="10889" y="9773"/>
                </a:cubicBezTo>
              </a:path>
              <a:path w="7790" h="2060">
                <a:moveTo>
                  <a:pt x="10244" y="10071"/>
                </a:moveTo>
                <a:cubicBezTo>
                  <a:pt x="10299" y="10040"/>
                  <a:pt x="10346" y="10045"/>
                  <a:pt x="10393" y="10021"/>
                </a:cubicBezTo>
                <a:cubicBezTo>
                  <a:pt x="10439" y="9998"/>
                  <a:pt x="10457" y="9996"/>
                  <a:pt x="10517" y="9996"/>
                </a:cubicBezTo>
                <a:cubicBezTo>
                  <a:pt x="10583" y="9996"/>
                  <a:pt x="10589" y="10004"/>
                  <a:pt x="10641" y="10021"/>
                </a:cubicBezTo>
                <a:cubicBezTo>
                  <a:pt x="10657" y="10026"/>
                  <a:pt x="10703" y="10044"/>
                  <a:pt x="10716" y="10071"/>
                </a:cubicBezTo>
                <a:cubicBezTo>
                  <a:pt x="10734" y="10107"/>
                  <a:pt x="10713" y="10171"/>
                  <a:pt x="10691" y="10195"/>
                </a:cubicBezTo>
                <a:cubicBezTo>
                  <a:pt x="10666" y="10223"/>
                  <a:pt x="10637" y="10260"/>
                  <a:pt x="10616" y="10294"/>
                </a:cubicBezTo>
                <a:cubicBezTo>
                  <a:pt x="10578" y="10355"/>
                  <a:pt x="10544" y="10390"/>
                  <a:pt x="10492" y="10443"/>
                </a:cubicBezTo>
                <a:cubicBezTo>
                  <a:pt x="10448" y="10488"/>
                  <a:pt x="10412" y="10520"/>
                  <a:pt x="10368" y="10567"/>
                </a:cubicBezTo>
                <a:cubicBezTo>
                  <a:pt x="10315" y="10624"/>
                  <a:pt x="10246" y="10645"/>
                  <a:pt x="10195" y="10691"/>
                </a:cubicBezTo>
                <a:cubicBezTo>
                  <a:pt x="10165" y="10717"/>
                  <a:pt x="10154" y="10739"/>
                  <a:pt x="10145" y="10765"/>
                </a:cubicBezTo>
                <a:cubicBezTo>
                  <a:pt x="10183" y="10793"/>
                  <a:pt x="10196" y="10790"/>
                  <a:pt x="10244" y="10790"/>
                </a:cubicBezTo>
                <a:cubicBezTo>
                  <a:pt x="10350" y="10790"/>
                  <a:pt x="10437" y="10782"/>
                  <a:pt x="10542" y="10765"/>
                </a:cubicBezTo>
                <a:cubicBezTo>
                  <a:pt x="10608" y="10755"/>
                  <a:pt x="10625" y="10765"/>
                  <a:pt x="10691" y="10765"/>
                </a:cubicBezTo>
                <a:cubicBezTo>
                  <a:pt x="10699" y="10765"/>
                  <a:pt x="10708" y="10765"/>
                  <a:pt x="10716" y="10765"/>
                </a:cubicBezTo>
              </a:path>
              <a:path w="7790" h="2060">
                <a:moveTo>
                  <a:pt x="11485" y="9773"/>
                </a:moveTo>
                <a:cubicBezTo>
                  <a:pt x="11661" y="9773"/>
                  <a:pt x="11829" y="9786"/>
                  <a:pt x="12005" y="9798"/>
                </a:cubicBezTo>
                <a:cubicBezTo>
                  <a:pt x="12123" y="9806"/>
                  <a:pt x="12236" y="9819"/>
                  <a:pt x="12353" y="9823"/>
                </a:cubicBezTo>
                <a:cubicBezTo>
                  <a:pt x="12451" y="9826"/>
                  <a:pt x="12543" y="9826"/>
                  <a:pt x="12626" y="9798"/>
                </a:cubicBezTo>
                <a:cubicBezTo>
                  <a:pt x="12665" y="9785"/>
                  <a:pt x="12665" y="9790"/>
                  <a:pt x="12675" y="9748"/>
                </a:cubicBezTo>
              </a:path>
              <a:path w="7790" h="2060">
                <a:moveTo>
                  <a:pt x="13295" y="9203"/>
                </a:moveTo>
                <a:cubicBezTo>
                  <a:pt x="13301" y="9284"/>
                  <a:pt x="13320" y="9346"/>
                  <a:pt x="13320" y="9426"/>
                </a:cubicBezTo>
                <a:cubicBezTo>
                  <a:pt x="13320" y="9517"/>
                  <a:pt x="13320" y="9608"/>
                  <a:pt x="13320" y="9699"/>
                </a:cubicBezTo>
                <a:cubicBezTo>
                  <a:pt x="13320" y="9654"/>
                  <a:pt x="13340" y="9632"/>
                  <a:pt x="13345" y="9599"/>
                </a:cubicBezTo>
                <a:cubicBezTo>
                  <a:pt x="13361" y="9497"/>
                  <a:pt x="13336" y="9396"/>
                  <a:pt x="13320" y="9302"/>
                </a:cubicBezTo>
                <a:cubicBezTo>
                  <a:pt x="13306" y="9217"/>
                  <a:pt x="13320" y="9116"/>
                  <a:pt x="13320" y="9029"/>
                </a:cubicBezTo>
                <a:cubicBezTo>
                  <a:pt x="13375" y="9029"/>
                  <a:pt x="13391" y="9017"/>
                  <a:pt x="13444" y="9004"/>
                </a:cubicBezTo>
                <a:cubicBezTo>
                  <a:pt x="13575" y="8971"/>
                  <a:pt x="13774" y="9005"/>
                  <a:pt x="13891" y="9029"/>
                </a:cubicBezTo>
                <a:cubicBezTo>
                  <a:pt x="13919" y="9035"/>
                  <a:pt x="13960" y="9029"/>
                  <a:pt x="13990" y="9029"/>
                </a:cubicBezTo>
              </a:path>
              <a:path w="7790" h="2060">
                <a:moveTo>
                  <a:pt x="13593" y="9302"/>
                </a:moveTo>
                <a:cubicBezTo>
                  <a:pt x="13642" y="9281"/>
                  <a:pt x="13701" y="9273"/>
                  <a:pt x="13742" y="9252"/>
                </a:cubicBezTo>
                <a:cubicBezTo>
                  <a:pt x="13776" y="9235"/>
                  <a:pt x="13820" y="9204"/>
                  <a:pt x="13866" y="9227"/>
                </a:cubicBezTo>
                <a:cubicBezTo>
                  <a:pt x="13893" y="9240"/>
                  <a:pt x="13936" y="9263"/>
                  <a:pt x="13915" y="9302"/>
                </a:cubicBezTo>
                <a:cubicBezTo>
                  <a:pt x="13893" y="9343"/>
                  <a:pt x="13875" y="9388"/>
                  <a:pt x="13841" y="9426"/>
                </a:cubicBezTo>
                <a:cubicBezTo>
                  <a:pt x="13815" y="9454"/>
                  <a:pt x="13775" y="9489"/>
                  <a:pt x="13742" y="9500"/>
                </a:cubicBezTo>
                <a:cubicBezTo>
                  <a:pt x="13699" y="9514"/>
                  <a:pt x="13678" y="9500"/>
                  <a:pt x="13742" y="9500"/>
                </a:cubicBezTo>
                <a:cubicBezTo>
                  <a:pt x="13781" y="9500"/>
                  <a:pt x="13796" y="9475"/>
                  <a:pt x="13841" y="9475"/>
                </a:cubicBezTo>
                <a:cubicBezTo>
                  <a:pt x="13884" y="9475"/>
                  <a:pt x="13904" y="9500"/>
                  <a:pt x="13915" y="9525"/>
                </a:cubicBezTo>
                <a:cubicBezTo>
                  <a:pt x="13951" y="9604"/>
                  <a:pt x="13937" y="9584"/>
                  <a:pt x="13915" y="9649"/>
                </a:cubicBezTo>
                <a:cubicBezTo>
                  <a:pt x="13906" y="9675"/>
                  <a:pt x="13854" y="9708"/>
                  <a:pt x="13816" y="9723"/>
                </a:cubicBezTo>
                <a:cubicBezTo>
                  <a:pt x="13784" y="9735"/>
                  <a:pt x="13726" y="9745"/>
                  <a:pt x="13692" y="9748"/>
                </a:cubicBezTo>
                <a:cubicBezTo>
                  <a:pt x="13652" y="9752"/>
                  <a:pt x="13609" y="9748"/>
                  <a:pt x="13568" y="9748"/>
                </a:cubicBezTo>
              </a:path>
              <a:path w="7790" h="2060">
                <a:moveTo>
                  <a:pt x="13271" y="9872"/>
                </a:moveTo>
                <a:cubicBezTo>
                  <a:pt x="13478" y="9872"/>
                  <a:pt x="13684" y="9872"/>
                  <a:pt x="13891" y="9872"/>
                </a:cubicBezTo>
              </a:path>
              <a:path w="7790" h="2060">
                <a:moveTo>
                  <a:pt x="13345" y="10170"/>
                </a:moveTo>
                <a:cubicBezTo>
                  <a:pt x="13418" y="10170"/>
                  <a:pt x="13451" y="10162"/>
                  <a:pt x="13519" y="10145"/>
                </a:cubicBezTo>
                <a:cubicBezTo>
                  <a:pt x="13582" y="10129"/>
                  <a:pt x="13641" y="10157"/>
                  <a:pt x="13667" y="10170"/>
                </a:cubicBezTo>
                <a:cubicBezTo>
                  <a:pt x="13692" y="10182"/>
                  <a:pt x="13755" y="10237"/>
                  <a:pt x="13742" y="10269"/>
                </a:cubicBezTo>
                <a:cubicBezTo>
                  <a:pt x="13739" y="10276"/>
                  <a:pt x="13705" y="10338"/>
                  <a:pt x="13692" y="10368"/>
                </a:cubicBezTo>
                <a:cubicBezTo>
                  <a:pt x="13668" y="10423"/>
                  <a:pt x="13627" y="10493"/>
                  <a:pt x="13593" y="10542"/>
                </a:cubicBezTo>
                <a:cubicBezTo>
                  <a:pt x="13552" y="10601"/>
                  <a:pt x="13484" y="10642"/>
                  <a:pt x="13444" y="10691"/>
                </a:cubicBezTo>
                <a:cubicBezTo>
                  <a:pt x="13399" y="10746"/>
                  <a:pt x="13368" y="10811"/>
                  <a:pt x="13320" y="10864"/>
                </a:cubicBezTo>
                <a:cubicBezTo>
                  <a:pt x="13305" y="10881"/>
                  <a:pt x="13239" y="10909"/>
                  <a:pt x="13246" y="10939"/>
                </a:cubicBezTo>
                <a:cubicBezTo>
                  <a:pt x="13254" y="10947"/>
                  <a:pt x="13263" y="10956"/>
                  <a:pt x="13271" y="10964"/>
                </a:cubicBezTo>
                <a:cubicBezTo>
                  <a:pt x="13318" y="10964"/>
                  <a:pt x="13350" y="10944"/>
                  <a:pt x="13395" y="10939"/>
                </a:cubicBezTo>
                <a:cubicBezTo>
                  <a:pt x="13478" y="10931"/>
                  <a:pt x="13546" y="10938"/>
                  <a:pt x="13618" y="10914"/>
                </a:cubicBezTo>
                <a:cubicBezTo>
                  <a:pt x="13670" y="10897"/>
                  <a:pt x="13664" y="10927"/>
                  <a:pt x="13692" y="10889"/>
                </a:cubicBezTo>
                <a:cubicBezTo>
                  <a:pt x="13700" y="10881"/>
                  <a:pt x="13709" y="10872"/>
                  <a:pt x="13717" y="10864"/>
                </a:cubicBezTo>
              </a:path>
              <a:path w="7790" h="2060">
                <a:moveTo>
                  <a:pt x="14436" y="9872"/>
                </a:moveTo>
                <a:lnTo>
                  <a:pt x="14436" y="9872"/>
                </a:lnTo>
              </a:path>
              <a:path w="7790" h="2060">
                <a:moveTo>
                  <a:pt x="15081" y="9277"/>
                </a:moveTo>
                <a:cubicBezTo>
                  <a:pt x="15081" y="9451"/>
                  <a:pt x="15081" y="9624"/>
                  <a:pt x="15081" y="9798"/>
                </a:cubicBezTo>
                <a:cubicBezTo>
                  <a:pt x="15081" y="9716"/>
                  <a:pt x="15070" y="9643"/>
                  <a:pt x="15056" y="9575"/>
                </a:cubicBezTo>
                <a:cubicBezTo>
                  <a:pt x="15044" y="9515"/>
                  <a:pt x="15046" y="9461"/>
                  <a:pt x="15032" y="9401"/>
                </a:cubicBezTo>
                <a:cubicBezTo>
                  <a:pt x="15012" y="9320"/>
                  <a:pt x="15034" y="9221"/>
                  <a:pt x="15056" y="9153"/>
                </a:cubicBezTo>
                <a:cubicBezTo>
                  <a:pt x="15065" y="9126"/>
                  <a:pt x="15075" y="9107"/>
                  <a:pt x="15106" y="9103"/>
                </a:cubicBezTo>
                <a:cubicBezTo>
                  <a:pt x="15167" y="9095"/>
                  <a:pt x="15214" y="9079"/>
                  <a:pt x="15280" y="9079"/>
                </a:cubicBezTo>
                <a:cubicBezTo>
                  <a:pt x="15370" y="9079"/>
                  <a:pt x="15441" y="9057"/>
                  <a:pt x="15528" y="9054"/>
                </a:cubicBezTo>
                <a:cubicBezTo>
                  <a:pt x="15608" y="9051"/>
                  <a:pt x="15855" y="9054"/>
                  <a:pt x="15850" y="9054"/>
                </a:cubicBezTo>
                <a:cubicBezTo>
                  <a:pt x="15842" y="9054"/>
                  <a:pt x="15833" y="9054"/>
                  <a:pt x="15825" y="9054"/>
                </a:cubicBezTo>
              </a:path>
              <a:path w="7790" h="2060">
                <a:moveTo>
                  <a:pt x="15379" y="9277"/>
                </a:moveTo>
                <a:cubicBezTo>
                  <a:pt x="15312" y="9277"/>
                  <a:pt x="15418" y="9277"/>
                  <a:pt x="15429" y="9277"/>
                </a:cubicBezTo>
                <a:cubicBezTo>
                  <a:pt x="15481" y="9277"/>
                  <a:pt x="15521" y="9252"/>
                  <a:pt x="15577" y="9252"/>
                </a:cubicBezTo>
                <a:cubicBezTo>
                  <a:pt x="15603" y="9252"/>
                  <a:pt x="15665" y="9259"/>
                  <a:pt x="15677" y="9277"/>
                </a:cubicBezTo>
                <a:cubicBezTo>
                  <a:pt x="15697" y="9307"/>
                  <a:pt x="15669" y="9357"/>
                  <a:pt x="15652" y="9376"/>
                </a:cubicBezTo>
                <a:cubicBezTo>
                  <a:pt x="15613" y="9420"/>
                  <a:pt x="15569" y="9448"/>
                  <a:pt x="15528" y="9475"/>
                </a:cubicBezTo>
                <a:cubicBezTo>
                  <a:pt x="15504" y="9491"/>
                  <a:pt x="15461" y="9521"/>
                  <a:pt x="15453" y="9525"/>
                </a:cubicBezTo>
                <a:cubicBezTo>
                  <a:pt x="15401" y="9552"/>
                  <a:pt x="15496" y="9529"/>
                  <a:pt x="15503" y="9525"/>
                </a:cubicBezTo>
                <a:cubicBezTo>
                  <a:pt x="15563" y="9492"/>
                  <a:pt x="15565" y="9506"/>
                  <a:pt x="15627" y="9525"/>
                </a:cubicBezTo>
                <a:cubicBezTo>
                  <a:pt x="15662" y="9536"/>
                  <a:pt x="15722" y="9570"/>
                  <a:pt x="15701" y="9624"/>
                </a:cubicBezTo>
                <a:cubicBezTo>
                  <a:pt x="15683" y="9671"/>
                  <a:pt x="15663" y="9668"/>
                  <a:pt x="15627" y="9699"/>
                </a:cubicBezTo>
                <a:cubicBezTo>
                  <a:pt x="15577" y="9742"/>
                  <a:pt x="15529" y="9697"/>
                  <a:pt x="15478" y="9723"/>
                </a:cubicBezTo>
                <a:cubicBezTo>
                  <a:pt x="15426" y="9749"/>
                  <a:pt x="15396" y="9748"/>
                  <a:pt x="15329" y="9748"/>
                </a:cubicBezTo>
                <a:cubicBezTo>
                  <a:pt x="15294" y="9748"/>
                  <a:pt x="15277" y="9753"/>
                  <a:pt x="15255" y="9773"/>
                </a:cubicBezTo>
              </a:path>
              <a:path w="7790" h="2060">
                <a:moveTo>
                  <a:pt x="14858" y="9847"/>
                </a:moveTo>
                <a:cubicBezTo>
                  <a:pt x="15059" y="9847"/>
                  <a:pt x="15257" y="9845"/>
                  <a:pt x="15453" y="9872"/>
                </a:cubicBezTo>
                <a:cubicBezTo>
                  <a:pt x="15549" y="9885"/>
                  <a:pt x="15634" y="9876"/>
                  <a:pt x="15726" y="9897"/>
                </a:cubicBezTo>
                <a:cubicBezTo>
                  <a:pt x="15736" y="9899"/>
                  <a:pt x="15844" y="9897"/>
                  <a:pt x="15776" y="9897"/>
                </a:cubicBezTo>
              </a:path>
              <a:path w="7790" h="2060">
                <a:moveTo>
                  <a:pt x="15081" y="10195"/>
                </a:moveTo>
                <a:cubicBezTo>
                  <a:pt x="15138" y="10238"/>
                  <a:pt x="15120" y="10199"/>
                  <a:pt x="15180" y="10195"/>
                </a:cubicBezTo>
                <a:cubicBezTo>
                  <a:pt x="15244" y="10190"/>
                  <a:pt x="15269" y="10175"/>
                  <a:pt x="15329" y="10170"/>
                </a:cubicBezTo>
                <a:cubicBezTo>
                  <a:pt x="15391" y="10165"/>
                  <a:pt x="15429" y="10179"/>
                  <a:pt x="15478" y="10195"/>
                </a:cubicBezTo>
                <a:cubicBezTo>
                  <a:pt x="15506" y="10204"/>
                  <a:pt x="15553" y="10224"/>
                  <a:pt x="15528" y="10269"/>
                </a:cubicBezTo>
                <a:cubicBezTo>
                  <a:pt x="15507" y="10307"/>
                  <a:pt x="15477" y="10330"/>
                  <a:pt x="15453" y="10368"/>
                </a:cubicBezTo>
                <a:cubicBezTo>
                  <a:pt x="15414" y="10429"/>
                  <a:pt x="15382" y="10465"/>
                  <a:pt x="15329" y="10517"/>
                </a:cubicBezTo>
                <a:cubicBezTo>
                  <a:pt x="15272" y="10573"/>
                  <a:pt x="15227" y="10633"/>
                  <a:pt x="15180" y="10691"/>
                </a:cubicBezTo>
                <a:cubicBezTo>
                  <a:pt x="15160" y="10716"/>
                  <a:pt x="15095" y="10805"/>
                  <a:pt x="15081" y="10815"/>
                </a:cubicBezTo>
                <a:cubicBezTo>
                  <a:pt x="15050" y="10836"/>
                  <a:pt x="15056" y="10838"/>
                  <a:pt x="15056" y="10889"/>
                </a:cubicBezTo>
                <a:cubicBezTo>
                  <a:pt x="15200" y="10889"/>
                  <a:pt x="15341" y="10891"/>
                  <a:pt x="15478" y="10914"/>
                </a:cubicBezTo>
                <a:cubicBezTo>
                  <a:pt x="15533" y="10923"/>
                  <a:pt x="15599" y="10935"/>
                  <a:pt x="15652" y="10939"/>
                </a:cubicBezTo>
                <a:cubicBezTo>
                  <a:pt x="15715" y="10943"/>
                  <a:pt x="15725" y="10947"/>
                  <a:pt x="15776" y="10964"/>
                </a:cubicBezTo>
                <a:cubicBezTo>
                  <a:pt x="15829" y="10982"/>
                  <a:pt x="15748" y="10964"/>
                  <a:pt x="15726" y="109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5080" y="4179960"/>
            <a:ext cx="866880" cy="785880"/>
          </a:xfrm>
          <a:custGeom>
            <a:avLst/>
            <a:gdLst/>
            <a:ahLst/>
            <a:rect l="l" t="t" r="r" b="b"/>
            <a:pathLst>
              <a:path w="2407" h="2183">
                <a:moveTo>
                  <a:pt x="8905" y="12229"/>
                </a:moveTo>
                <a:cubicBezTo>
                  <a:pt x="9012" y="12229"/>
                  <a:pt x="9104" y="12236"/>
                  <a:pt x="9203" y="12254"/>
                </a:cubicBezTo>
                <a:cubicBezTo>
                  <a:pt x="9241" y="12261"/>
                  <a:pt x="9288" y="12254"/>
                  <a:pt x="9327" y="12254"/>
                </a:cubicBezTo>
              </a:path>
              <a:path w="2407" h="2183">
                <a:moveTo>
                  <a:pt x="10046" y="11609"/>
                </a:moveTo>
                <a:cubicBezTo>
                  <a:pt x="10046" y="11691"/>
                  <a:pt x="10058" y="11756"/>
                  <a:pt x="10071" y="11832"/>
                </a:cubicBezTo>
                <a:cubicBezTo>
                  <a:pt x="10097" y="11987"/>
                  <a:pt x="10071" y="12170"/>
                  <a:pt x="10071" y="12328"/>
                </a:cubicBezTo>
              </a:path>
              <a:path w="2407" h="2183">
                <a:moveTo>
                  <a:pt x="9699" y="12650"/>
                </a:moveTo>
                <a:cubicBezTo>
                  <a:pt x="9852" y="12650"/>
                  <a:pt x="9997" y="12661"/>
                  <a:pt x="10145" y="12675"/>
                </a:cubicBezTo>
                <a:cubicBezTo>
                  <a:pt x="10226" y="12683"/>
                  <a:pt x="10312" y="12675"/>
                  <a:pt x="10393" y="12675"/>
                </a:cubicBezTo>
              </a:path>
              <a:path w="2407" h="2183">
                <a:moveTo>
                  <a:pt x="9996" y="12874"/>
                </a:moveTo>
                <a:cubicBezTo>
                  <a:pt x="9964" y="12934"/>
                  <a:pt x="9939" y="13000"/>
                  <a:pt x="9897" y="13047"/>
                </a:cubicBezTo>
                <a:cubicBezTo>
                  <a:pt x="9877" y="13069"/>
                  <a:pt x="9827" y="13114"/>
                  <a:pt x="9823" y="13122"/>
                </a:cubicBezTo>
                <a:cubicBezTo>
                  <a:pt x="9823" y="13130"/>
                  <a:pt x="9823" y="13138"/>
                  <a:pt x="9823" y="13146"/>
                </a:cubicBezTo>
                <a:cubicBezTo>
                  <a:pt x="9864" y="13203"/>
                  <a:pt x="9856" y="13203"/>
                  <a:pt x="9947" y="13221"/>
                </a:cubicBezTo>
                <a:cubicBezTo>
                  <a:pt x="10006" y="13233"/>
                  <a:pt x="10062" y="13257"/>
                  <a:pt x="10120" y="13271"/>
                </a:cubicBezTo>
                <a:cubicBezTo>
                  <a:pt x="10175" y="13284"/>
                  <a:pt x="10227" y="13271"/>
                  <a:pt x="10269" y="13246"/>
                </a:cubicBezTo>
              </a:path>
              <a:path w="2407" h="2183">
                <a:moveTo>
                  <a:pt x="10269" y="12874"/>
                </a:moveTo>
                <a:cubicBezTo>
                  <a:pt x="10247" y="12955"/>
                  <a:pt x="10244" y="13014"/>
                  <a:pt x="10244" y="13097"/>
                </a:cubicBezTo>
                <a:cubicBezTo>
                  <a:pt x="10244" y="13242"/>
                  <a:pt x="10247" y="13381"/>
                  <a:pt x="10269" y="13519"/>
                </a:cubicBezTo>
                <a:cubicBezTo>
                  <a:pt x="10281" y="13592"/>
                  <a:pt x="10287" y="13672"/>
                  <a:pt x="10294" y="13742"/>
                </a:cubicBezTo>
                <a:cubicBezTo>
                  <a:pt x="10298" y="13785"/>
                  <a:pt x="10280" y="13779"/>
                  <a:pt x="10319" y="13791"/>
                </a:cubicBezTo>
              </a:path>
              <a:path w="2407" h="2183">
                <a:moveTo>
                  <a:pt x="10616" y="12799"/>
                </a:moveTo>
                <a:cubicBezTo>
                  <a:pt x="10666" y="12769"/>
                  <a:pt x="10703" y="12774"/>
                  <a:pt x="10765" y="12774"/>
                </a:cubicBezTo>
                <a:cubicBezTo>
                  <a:pt x="10893" y="12774"/>
                  <a:pt x="11016" y="12782"/>
                  <a:pt x="11137" y="12799"/>
                </a:cubicBezTo>
                <a:cubicBezTo>
                  <a:pt x="11211" y="12810"/>
                  <a:pt x="11296" y="12814"/>
                  <a:pt x="11286" y="12774"/>
                </a:cubicBezTo>
                <a:cubicBezTo>
                  <a:pt x="11286" y="12766"/>
                  <a:pt x="11286" y="12758"/>
                  <a:pt x="11286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63920" y="4214880"/>
            <a:ext cx="1054080" cy="1901880"/>
          </a:xfrm>
          <a:custGeom>
            <a:avLst/>
            <a:gdLst/>
            <a:ahLst/>
            <a:rect l="l" t="t" r="r" b="b"/>
            <a:pathLst>
              <a:path w="2928" h="5284">
                <a:moveTo>
                  <a:pt x="11807" y="11857"/>
                </a:moveTo>
                <a:cubicBezTo>
                  <a:pt x="11821" y="11839"/>
                  <a:pt x="11846" y="11764"/>
                  <a:pt x="11857" y="11757"/>
                </a:cubicBezTo>
                <a:cubicBezTo>
                  <a:pt x="11871" y="11748"/>
                  <a:pt x="11930" y="11708"/>
                  <a:pt x="11931" y="11708"/>
                </a:cubicBezTo>
                <a:cubicBezTo>
                  <a:pt x="11971" y="11688"/>
                  <a:pt x="12073" y="11712"/>
                  <a:pt x="12105" y="11733"/>
                </a:cubicBezTo>
                <a:cubicBezTo>
                  <a:pt x="12146" y="11760"/>
                  <a:pt x="12194" y="11857"/>
                  <a:pt x="12179" y="11906"/>
                </a:cubicBezTo>
                <a:cubicBezTo>
                  <a:pt x="12162" y="11960"/>
                  <a:pt x="12069" y="11978"/>
                  <a:pt x="12030" y="12005"/>
                </a:cubicBezTo>
                <a:cubicBezTo>
                  <a:pt x="11995" y="12029"/>
                  <a:pt x="11948" y="12050"/>
                  <a:pt x="11906" y="12055"/>
                </a:cubicBezTo>
                <a:cubicBezTo>
                  <a:pt x="11870" y="12059"/>
                  <a:pt x="11781" y="12054"/>
                  <a:pt x="11807" y="12080"/>
                </a:cubicBezTo>
                <a:cubicBezTo>
                  <a:pt x="11812" y="12085"/>
                  <a:pt x="11967" y="12103"/>
                  <a:pt x="11981" y="12105"/>
                </a:cubicBezTo>
                <a:cubicBezTo>
                  <a:pt x="12032" y="12114"/>
                  <a:pt x="12082" y="12122"/>
                  <a:pt x="12129" y="12154"/>
                </a:cubicBezTo>
                <a:cubicBezTo>
                  <a:pt x="12195" y="12198"/>
                  <a:pt x="12190" y="12294"/>
                  <a:pt x="12154" y="12353"/>
                </a:cubicBezTo>
                <a:cubicBezTo>
                  <a:pt x="12125" y="12400"/>
                  <a:pt x="12083" y="12456"/>
                  <a:pt x="12030" y="12477"/>
                </a:cubicBezTo>
                <a:cubicBezTo>
                  <a:pt x="11998" y="12490"/>
                  <a:pt x="11939" y="12499"/>
                  <a:pt x="11906" y="12502"/>
                </a:cubicBezTo>
                <a:cubicBezTo>
                  <a:pt x="11857" y="12507"/>
                  <a:pt x="11806" y="12502"/>
                  <a:pt x="11757" y="12502"/>
                </a:cubicBezTo>
              </a:path>
              <a:path w="2928" h="5284">
                <a:moveTo>
                  <a:pt x="11534" y="12700"/>
                </a:moveTo>
                <a:cubicBezTo>
                  <a:pt x="11736" y="12700"/>
                  <a:pt x="11931" y="12696"/>
                  <a:pt x="12129" y="12675"/>
                </a:cubicBezTo>
                <a:cubicBezTo>
                  <a:pt x="12152" y="12673"/>
                  <a:pt x="12560" y="12673"/>
                  <a:pt x="12551" y="12700"/>
                </a:cubicBezTo>
                <a:cubicBezTo>
                  <a:pt x="12526" y="12700"/>
                  <a:pt x="12518" y="12700"/>
                  <a:pt x="12502" y="12700"/>
                </a:cubicBezTo>
              </a:path>
              <a:path w="2928" h="5284">
                <a:moveTo>
                  <a:pt x="12129" y="12973"/>
                </a:moveTo>
                <a:cubicBezTo>
                  <a:pt x="12129" y="13027"/>
                  <a:pt x="12133" y="13070"/>
                  <a:pt x="12105" y="13122"/>
                </a:cubicBezTo>
                <a:cubicBezTo>
                  <a:pt x="12084" y="13161"/>
                  <a:pt x="12078" y="13211"/>
                  <a:pt x="12055" y="13246"/>
                </a:cubicBezTo>
                <a:cubicBezTo>
                  <a:pt x="12028" y="13286"/>
                  <a:pt x="12030" y="13295"/>
                  <a:pt x="12030" y="13345"/>
                </a:cubicBezTo>
                <a:cubicBezTo>
                  <a:pt x="12030" y="13370"/>
                  <a:pt x="12030" y="13394"/>
                  <a:pt x="12030" y="13419"/>
                </a:cubicBezTo>
                <a:cubicBezTo>
                  <a:pt x="12064" y="13408"/>
                  <a:pt x="12060" y="13380"/>
                  <a:pt x="12080" y="13370"/>
                </a:cubicBezTo>
                <a:cubicBezTo>
                  <a:pt x="12105" y="13358"/>
                  <a:pt x="12185" y="13388"/>
                  <a:pt x="12204" y="13395"/>
                </a:cubicBezTo>
                <a:cubicBezTo>
                  <a:pt x="12275" y="13419"/>
                  <a:pt x="12321" y="13462"/>
                  <a:pt x="12402" y="13444"/>
                </a:cubicBezTo>
                <a:cubicBezTo>
                  <a:pt x="12427" y="13436"/>
                  <a:pt x="12452" y="13427"/>
                  <a:pt x="12477" y="13419"/>
                </a:cubicBezTo>
              </a:path>
              <a:path w="2928" h="5284">
                <a:moveTo>
                  <a:pt x="12427" y="12799"/>
                </a:moveTo>
                <a:cubicBezTo>
                  <a:pt x="12427" y="12960"/>
                  <a:pt x="12430" y="13115"/>
                  <a:pt x="12452" y="13271"/>
                </a:cubicBezTo>
                <a:cubicBezTo>
                  <a:pt x="12464" y="13359"/>
                  <a:pt x="12467" y="13456"/>
                  <a:pt x="12477" y="13543"/>
                </a:cubicBezTo>
                <a:cubicBezTo>
                  <a:pt x="12486" y="13628"/>
                  <a:pt x="12488" y="13707"/>
                  <a:pt x="12502" y="13791"/>
                </a:cubicBezTo>
                <a:cubicBezTo>
                  <a:pt x="12516" y="13875"/>
                  <a:pt x="12530" y="13946"/>
                  <a:pt x="12551" y="14015"/>
                </a:cubicBezTo>
                <a:cubicBezTo>
                  <a:pt x="12564" y="14058"/>
                  <a:pt x="12576" y="14122"/>
                  <a:pt x="12526" y="14039"/>
                </a:cubicBezTo>
              </a:path>
              <a:path w="2928" h="5284">
                <a:moveTo>
                  <a:pt x="10145" y="15602"/>
                </a:moveTo>
                <a:cubicBezTo>
                  <a:pt x="10225" y="15632"/>
                  <a:pt x="10309" y="15649"/>
                  <a:pt x="10393" y="15677"/>
                </a:cubicBezTo>
                <a:cubicBezTo>
                  <a:pt x="10485" y="15707"/>
                  <a:pt x="10570" y="15701"/>
                  <a:pt x="10666" y="15701"/>
                </a:cubicBezTo>
              </a:path>
              <a:path w="2928" h="5284">
                <a:moveTo>
                  <a:pt x="11311" y="15081"/>
                </a:moveTo>
                <a:cubicBezTo>
                  <a:pt x="11311" y="15276"/>
                  <a:pt x="11275" y="15490"/>
                  <a:pt x="11286" y="15677"/>
                </a:cubicBezTo>
                <a:cubicBezTo>
                  <a:pt x="11292" y="15782"/>
                  <a:pt x="11311" y="15888"/>
                  <a:pt x="11311" y="15999"/>
                </a:cubicBezTo>
                <a:cubicBezTo>
                  <a:pt x="11311" y="16098"/>
                  <a:pt x="11311" y="16198"/>
                  <a:pt x="11311" y="16297"/>
                </a:cubicBezTo>
              </a:path>
              <a:path w="2928" h="5284">
                <a:moveTo>
                  <a:pt x="9947" y="14734"/>
                </a:moveTo>
                <a:cubicBezTo>
                  <a:pt x="9928" y="14901"/>
                  <a:pt x="9938" y="15064"/>
                  <a:pt x="9922" y="15230"/>
                </a:cubicBezTo>
                <a:cubicBezTo>
                  <a:pt x="9911" y="15345"/>
                  <a:pt x="9897" y="15457"/>
                  <a:pt x="9897" y="15577"/>
                </a:cubicBezTo>
                <a:cubicBezTo>
                  <a:pt x="9897" y="15688"/>
                  <a:pt x="9879" y="15794"/>
                  <a:pt x="9872" y="15900"/>
                </a:cubicBezTo>
                <a:cubicBezTo>
                  <a:pt x="9868" y="15961"/>
                  <a:pt x="9872" y="16048"/>
                  <a:pt x="9872" y="16123"/>
                </a:cubicBezTo>
                <a:cubicBezTo>
                  <a:pt x="9872" y="16171"/>
                  <a:pt x="9893" y="16208"/>
                  <a:pt x="9897" y="16222"/>
                </a:cubicBezTo>
                <a:cubicBezTo>
                  <a:pt x="9907" y="16257"/>
                  <a:pt x="9899" y="16281"/>
                  <a:pt x="9922" y="16297"/>
                </a:cubicBezTo>
                <a:cubicBezTo>
                  <a:pt x="9960" y="16324"/>
                  <a:pt x="10023" y="16325"/>
                  <a:pt x="10071" y="16346"/>
                </a:cubicBezTo>
                <a:cubicBezTo>
                  <a:pt x="10183" y="16396"/>
                  <a:pt x="10289" y="16470"/>
                  <a:pt x="10393" y="16520"/>
                </a:cubicBezTo>
                <a:cubicBezTo>
                  <a:pt x="10478" y="16561"/>
                  <a:pt x="10542" y="16581"/>
                  <a:pt x="10616" y="16644"/>
                </a:cubicBezTo>
                <a:cubicBezTo>
                  <a:pt x="10663" y="16684"/>
                  <a:pt x="10696" y="16744"/>
                  <a:pt x="10740" y="16793"/>
                </a:cubicBezTo>
                <a:cubicBezTo>
                  <a:pt x="10797" y="16857"/>
                  <a:pt x="10855" y="16899"/>
                  <a:pt x="10939" y="16942"/>
                </a:cubicBezTo>
                <a:cubicBezTo>
                  <a:pt x="11023" y="16985"/>
                  <a:pt x="11094" y="16997"/>
                  <a:pt x="11187" y="16991"/>
                </a:cubicBezTo>
                <a:cubicBezTo>
                  <a:pt x="11240" y="16987"/>
                  <a:pt x="11289" y="16989"/>
                  <a:pt x="11336" y="16966"/>
                </a:cubicBezTo>
                <a:cubicBezTo>
                  <a:pt x="11357" y="16956"/>
                  <a:pt x="11442" y="16896"/>
                  <a:pt x="11485" y="16867"/>
                </a:cubicBezTo>
                <a:cubicBezTo>
                  <a:pt x="11555" y="16820"/>
                  <a:pt x="11616" y="16768"/>
                  <a:pt x="11683" y="16718"/>
                </a:cubicBezTo>
                <a:cubicBezTo>
                  <a:pt x="11750" y="16668"/>
                  <a:pt x="11815" y="16608"/>
                  <a:pt x="11857" y="16545"/>
                </a:cubicBezTo>
                <a:cubicBezTo>
                  <a:pt x="11895" y="16488"/>
                  <a:pt x="11902" y="16424"/>
                  <a:pt x="11931" y="16371"/>
                </a:cubicBezTo>
                <a:cubicBezTo>
                  <a:pt x="11969" y="16300"/>
                  <a:pt x="12017" y="16289"/>
                  <a:pt x="12080" y="16247"/>
                </a:cubicBezTo>
                <a:cubicBezTo>
                  <a:pt x="12147" y="16203"/>
                  <a:pt x="12189" y="16171"/>
                  <a:pt x="12229" y="16098"/>
                </a:cubicBezTo>
                <a:cubicBezTo>
                  <a:pt x="12295" y="15978"/>
                  <a:pt x="12313" y="15908"/>
                  <a:pt x="12303" y="15776"/>
                </a:cubicBezTo>
                <a:cubicBezTo>
                  <a:pt x="12295" y="15674"/>
                  <a:pt x="12271" y="15574"/>
                  <a:pt x="12229" y="15478"/>
                </a:cubicBezTo>
                <a:cubicBezTo>
                  <a:pt x="12200" y="15410"/>
                  <a:pt x="12188" y="15402"/>
                  <a:pt x="12179" y="15329"/>
                </a:cubicBezTo>
                <a:cubicBezTo>
                  <a:pt x="12155" y="15132"/>
                  <a:pt x="12144" y="15012"/>
                  <a:pt x="12005" y="14858"/>
                </a:cubicBezTo>
                <a:cubicBezTo>
                  <a:pt x="11918" y="14761"/>
                  <a:pt x="11822" y="14697"/>
                  <a:pt x="11708" y="14635"/>
                </a:cubicBezTo>
                <a:cubicBezTo>
                  <a:pt x="11624" y="14589"/>
                  <a:pt x="11540" y="14570"/>
                  <a:pt x="11460" y="14536"/>
                </a:cubicBezTo>
                <a:cubicBezTo>
                  <a:pt x="11392" y="14507"/>
                  <a:pt x="11322" y="14498"/>
                  <a:pt x="11261" y="14461"/>
                </a:cubicBezTo>
                <a:cubicBezTo>
                  <a:pt x="11151" y="14394"/>
                  <a:pt x="11094" y="14349"/>
                  <a:pt x="10964" y="14312"/>
                </a:cubicBezTo>
                <a:cubicBezTo>
                  <a:pt x="10865" y="14284"/>
                  <a:pt x="10719" y="14266"/>
                  <a:pt x="10616" y="14288"/>
                </a:cubicBezTo>
                <a:cubicBezTo>
                  <a:pt x="10542" y="14303"/>
                  <a:pt x="10492" y="14334"/>
                  <a:pt x="10443" y="14387"/>
                </a:cubicBezTo>
                <a:cubicBezTo>
                  <a:pt x="10417" y="14415"/>
                  <a:pt x="10437" y="14455"/>
                  <a:pt x="10393" y="14461"/>
                </a:cubicBezTo>
                <a:cubicBezTo>
                  <a:pt x="10331" y="14470"/>
                  <a:pt x="10301" y="14441"/>
                  <a:pt x="10244" y="14436"/>
                </a:cubicBezTo>
                <a:cubicBezTo>
                  <a:pt x="10124" y="14426"/>
                  <a:pt x="10038" y="14442"/>
                  <a:pt x="9922" y="14486"/>
                </a:cubicBezTo>
                <a:cubicBezTo>
                  <a:pt x="9867" y="14507"/>
                  <a:pt x="9772" y="14552"/>
                  <a:pt x="9748" y="14610"/>
                </a:cubicBezTo>
                <a:cubicBezTo>
                  <a:pt x="9728" y="14658"/>
                  <a:pt x="9758" y="14742"/>
                  <a:pt x="9773" y="14784"/>
                </a:cubicBezTo>
                <a:cubicBezTo>
                  <a:pt x="9792" y="14835"/>
                  <a:pt x="9833" y="14851"/>
                  <a:pt x="9823" y="14908"/>
                </a:cubicBezTo>
                <a:cubicBezTo>
                  <a:pt x="9813" y="14966"/>
                  <a:pt x="9726" y="15048"/>
                  <a:pt x="9699" y="15106"/>
                </a:cubicBezTo>
                <a:cubicBezTo>
                  <a:pt x="9640" y="15231"/>
                  <a:pt x="9622" y="15302"/>
                  <a:pt x="9649" y="15429"/>
                </a:cubicBezTo>
                <a:cubicBezTo>
                  <a:pt x="9670" y="15527"/>
                  <a:pt x="9727" y="15615"/>
                  <a:pt x="9773" y="15701"/>
                </a:cubicBezTo>
                <a:cubicBezTo>
                  <a:pt x="9802" y="15756"/>
                  <a:pt x="9842" y="15799"/>
                  <a:pt x="9872" y="15850"/>
                </a:cubicBezTo>
                <a:cubicBezTo>
                  <a:pt x="9864" y="15842"/>
                  <a:pt x="9855" y="15833"/>
                  <a:pt x="9847" y="158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 the tangent of 105</a:t>
            </a:r>
            <a:r>
              <a:rPr b="0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(Hint:  105</a:t>
            </a:r>
            <a:r>
              <a:rPr b="0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= 135</a:t>
            </a:r>
            <a:r>
              <a:rPr b="0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- 30</a:t>
            </a:r>
            <a:r>
              <a:rPr b="0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71720" y="1911240"/>
            <a:ext cx="2170080" cy="500040"/>
          </a:xfrm>
          <a:custGeom>
            <a:avLst/>
            <a:gdLst/>
            <a:ahLst/>
            <a:rect l="l" t="t" r="r" b="b"/>
            <a:pathLst>
              <a:path w="6028" h="1390">
                <a:moveTo>
                  <a:pt x="3423" y="5556"/>
                </a:moveTo>
                <a:cubicBezTo>
                  <a:pt x="3423" y="5774"/>
                  <a:pt x="3423" y="5989"/>
                  <a:pt x="3398" y="6201"/>
                </a:cubicBezTo>
                <a:cubicBezTo>
                  <a:pt x="3381" y="6346"/>
                  <a:pt x="3398" y="6502"/>
                  <a:pt x="3398" y="6648"/>
                </a:cubicBezTo>
                <a:cubicBezTo>
                  <a:pt x="3375" y="6640"/>
                  <a:pt x="3360" y="6606"/>
                  <a:pt x="3349" y="6573"/>
                </a:cubicBezTo>
                <a:cubicBezTo>
                  <a:pt x="3349" y="6565"/>
                  <a:pt x="3349" y="6556"/>
                  <a:pt x="3349" y="6548"/>
                </a:cubicBezTo>
              </a:path>
              <a:path w="6028" h="1390">
                <a:moveTo>
                  <a:pt x="2977" y="6102"/>
                </a:moveTo>
                <a:cubicBezTo>
                  <a:pt x="3040" y="6074"/>
                  <a:pt x="3079" y="6077"/>
                  <a:pt x="3150" y="6077"/>
                </a:cubicBezTo>
                <a:cubicBezTo>
                  <a:pt x="3234" y="6077"/>
                  <a:pt x="3311" y="6052"/>
                  <a:pt x="3398" y="6052"/>
                </a:cubicBezTo>
                <a:cubicBezTo>
                  <a:pt x="3491" y="6052"/>
                  <a:pt x="3578" y="6028"/>
                  <a:pt x="3671" y="6028"/>
                </a:cubicBezTo>
                <a:cubicBezTo>
                  <a:pt x="3713" y="6028"/>
                  <a:pt x="3721" y="6028"/>
                  <a:pt x="3746" y="6028"/>
                </a:cubicBezTo>
              </a:path>
              <a:path w="6028" h="1390">
                <a:moveTo>
                  <a:pt x="3994" y="6226"/>
                </a:moveTo>
                <a:cubicBezTo>
                  <a:pt x="3994" y="6170"/>
                  <a:pt x="3981" y="6152"/>
                  <a:pt x="3969" y="6127"/>
                </a:cubicBezTo>
                <a:cubicBezTo>
                  <a:pt x="3952" y="6093"/>
                  <a:pt x="3937" y="6067"/>
                  <a:pt x="3894" y="6052"/>
                </a:cubicBezTo>
                <a:cubicBezTo>
                  <a:pt x="3868" y="6043"/>
                  <a:pt x="3813" y="6086"/>
                  <a:pt x="3795" y="6102"/>
                </a:cubicBezTo>
                <a:cubicBezTo>
                  <a:pt x="3749" y="6143"/>
                  <a:pt x="3746" y="6199"/>
                  <a:pt x="3721" y="6251"/>
                </a:cubicBezTo>
                <a:cubicBezTo>
                  <a:pt x="3683" y="6330"/>
                  <a:pt x="3696" y="6411"/>
                  <a:pt x="3696" y="6499"/>
                </a:cubicBezTo>
                <a:cubicBezTo>
                  <a:pt x="3696" y="6566"/>
                  <a:pt x="3701" y="6577"/>
                  <a:pt x="3746" y="6623"/>
                </a:cubicBezTo>
                <a:cubicBezTo>
                  <a:pt x="3783" y="6660"/>
                  <a:pt x="3808" y="6656"/>
                  <a:pt x="3845" y="6623"/>
                </a:cubicBezTo>
                <a:cubicBezTo>
                  <a:pt x="3884" y="6589"/>
                  <a:pt x="3940" y="6569"/>
                  <a:pt x="3969" y="6524"/>
                </a:cubicBezTo>
                <a:cubicBezTo>
                  <a:pt x="3998" y="6479"/>
                  <a:pt x="4014" y="6425"/>
                  <a:pt x="4018" y="6375"/>
                </a:cubicBezTo>
                <a:cubicBezTo>
                  <a:pt x="4020" y="6352"/>
                  <a:pt x="4018" y="6195"/>
                  <a:pt x="4018" y="6251"/>
                </a:cubicBezTo>
                <a:cubicBezTo>
                  <a:pt x="4018" y="6355"/>
                  <a:pt x="4019" y="6429"/>
                  <a:pt x="4043" y="6524"/>
                </a:cubicBezTo>
                <a:cubicBezTo>
                  <a:pt x="4051" y="6556"/>
                  <a:pt x="4082" y="6607"/>
                  <a:pt x="4118" y="6623"/>
                </a:cubicBezTo>
                <a:cubicBezTo>
                  <a:pt x="4161" y="6643"/>
                  <a:pt x="4181" y="6596"/>
                  <a:pt x="4192" y="6573"/>
                </a:cubicBezTo>
              </a:path>
              <a:path w="6028" h="1390">
                <a:moveTo>
                  <a:pt x="4242" y="6201"/>
                </a:moveTo>
                <a:cubicBezTo>
                  <a:pt x="4242" y="6338"/>
                  <a:pt x="4235" y="6469"/>
                  <a:pt x="4266" y="6598"/>
                </a:cubicBezTo>
                <a:cubicBezTo>
                  <a:pt x="4268" y="6605"/>
                  <a:pt x="4266" y="6691"/>
                  <a:pt x="4266" y="6623"/>
                </a:cubicBezTo>
                <a:cubicBezTo>
                  <a:pt x="4266" y="6539"/>
                  <a:pt x="4271" y="6478"/>
                  <a:pt x="4291" y="6400"/>
                </a:cubicBezTo>
                <a:cubicBezTo>
                  <a:pt x="4305" y="6346"/>
                  <a:pt x="4316" y="6297"/>
                  <a:pt x="4341" y="6251"/>
                </a:cubicBezTo>
                <a:cubicBezTo>
                  <a:pt x="4370" y="6197"/>
                  <a:pt x="4366" y="6137"/>
                  <a:pt x="4440" y="6127"/>
                </a:cubicBezTo>
                <a:cubicBezTo>
                  <a:pt x="4505" y="6118"/>
                  <a:pt x="4520" y="6133"/>
                  <a:pt x="4564" y="6176"/>
                </a:cubicBezTo>
                <a:cubicBezTo>
                  <a:pt x="4599" y="6210"/>
                  <a:pt x="4630" y="6277"/>
                  <a:pt x="4638" y="6325"/>
                </a:cubicBezTo>
                <a:cubicBezTo>
                  <a:pt x="4647" y="6379"/>
                  <a:pt x="4644" y="6696"/>
                  <a:pt x="4663" y="6672"/>
                </a:cubicBezTo>
                <a:cubicBezTo>
                  <a:pt x="4663" y="6648"/>
                  <a:pt x="4663" y="6639"/>
                  <a:pt x="4663" y="6623"/>
                </a:cubicBezTo>
              </a:path>
              <a:path w="6028" h="1390">
                <a:moveTo>
                  <a:pt x="5159" y="5655"/>
                </a:moveTo>
                <a:cubicBezTo>
                  <a:pt x="5126" y="5714"/>
                  <a:pt x="5091" y="5767"/>
                  <a:pt x="5060" y="5829"/>
                </a:cubicBezTo>
                <a:cubicBezTo>
                  <a:pt x="5011" y="5928"/>
                  <a:pt x="5000" y="6024"/>
                  <a:pt x="4961" y="6127"/>
                </a:cubicBezTo>
                <a:cubicBezTo>
                  <a:pt x="4924" y="6224"/>
                  <a:pt x="4936" y="6322"/>
                  <a:pt x="4936" y="6424"/>
                </a:cubicBezTo>
                <a:cubicBezTo>
                  <a:pt x="4936" y="6491"/>
                  <a:pt x="4959" y="6570"/>
                  <a:pt x="4986" y="6623"/>
                </a:cubicBezTo>
                <a:cubicBezTo>
                  <a:pt x="5008" y="6666"/>
                  <a:pt x="5035" y="6693"/>
                  <a:pt x="5085" y="6697"/>
                </a:cubicBezTo>
                <a:cubicBezTo>
                  <a:pt x="5144" y="6701"/>
                  <a:pt x="5146" y="6685"/>
                  <a:pt x="5184" y="6648"/>
                </a:cubicBezTo>
              </a:path>
              <a:path w="6028" h="1390">
                <a:moveTo>
                  <a:pt x="5432" y="5928"/>
                </a:moveTo>
                <a:cubicBezTo>
                  <a:pt x="5432" y="6035"/>
                  <a:pt x="5422" y="6123"/>
                  <a:pt x="5407" y="6226"/>
                </a:cubicBezTo>
                <a:cubicBezTo>
                  <a:pt x="5383" y="6390"/>
                  <a:pt x="5407" y="6837"/>
                  <a:pt x="5407" y="6672"/>
                </a:cubicBezTo>
                <a:cubicBezTo>
                  <a:pt x="5407" y="6664"/>
                  <a:pt x="5407" y="6656"/>
                  <a:pt x="5407" y="6648"/>
                </a:cubicBezTo>
              </a:path>
              <a:path w="6028" h="1390">
                <a:moveTo>
                  <a:pt x="5655" y="5978"/>
                </a:moveTo>
                <a:cubicBezTo>
                  <a:pt x="5744" y="5910"/>
                  <a:pt x="5755" y="5879"/>
                  <a:pt x="5854" y="5879"/>
                </a:cubicBezTo>
                <a:cubicBezTo>
                  <a:pt x="5894" y="5879"/>
                  <a:pt x="5958" y="5891"/>
                  <a:pt x="5953" y="5953"/>
                </a:cubicBezTo>
                <a:cubicBezTo>
                  <a:pt x="5950" y="5983"/>
                  <a:pt x="5901" y="6053"/>
                  <a:pt x="5879" y="6077"/>
                </a:cubicBezTo>
                <a:cubicBezTo>
                  <a:pt x="5840" y="6121"/>
                  <a:pt x="5800" y="6142"/>
                  <a:pt x="5755" y="6176"/>
                </a:cubicBezTo>
                <a:cubicBezTo>
                  <a:pt x="5726" y="6198"/>
                  <a:pt x="5647" y="6210"/>
                  <a:pt x="5680" y="6226"/>
                </a:cubicBezTo>
                <a:cubicBezTo>
                  <a:pt x="5700" y="6236"/>
                  <a:pt x="5748" y="6201"/>
                  <a:pt x="5779" y="6201"/>
                </a:cubicBezTo>
                <a:cubicBezTo>
                  <a:pt x="5836" y="6201"/>
                  <a:pt x="5862" y="6225"/>
                  <a:pt x="5879" y="6276"/>
                </a:cubicBezTo>
                <a:cubicBezTo>
                  <a:pt x="5896" y="6327"/>
                  <a:pt x="5904" y="6362"/>
                  <a:pt x="5904" y="6424"/>
                </a:cubicBezTo>
                <a:cubicBezTo>
                  <a:pt x="5904" y="6470"/>
                  <a:pt x="5911" y="6489"/>
                  <a:pt x="5879" y="6524"/>
                </a:cubicBezTo>
                <a:cubicBezTo>
                  <a:pt x="5857" y="6548"/>
                  <a:pt x="5811" y="6571"/>
                  <a:pt x="5779" y="6573"/>
                </a:cubicBezTo>
                <a:cubicBezTo>
                  <a:pt x="5748" y="6575"/>
                  <a:pt x="5514" y="6582"/>
                  <a:pt x="5531" y="6548"/>
                </a:cubicBezTo>
                <a:cubicBezTo>
                  <a:pt x="5539" y="6540"/>
                  <a:pt x="5548" y="6532"/>
                  <a:pt x="5556" y="6524"/>
                </a:cubicBezTo>
              </a:path>
              <a:path w="6028" h="1390">
                <a:moveTo>
                  <a:pt x="6152" y="5904"/>
                </a:moveTo>
                <a:cubicBezTo>
                  <a:pt x="6257" y="5904"/>
                  <a:pt x="6328" y="5901"/>
                  <a:pt x="6424" y="5879"/>
                </a:cubicBezTo>
                <a:cubicBezTo>
                  <a:pt x="6446" y="5874"/>
                  <a:pt x="6477" y="5879"/>
                  <a:pt x="6499" y="5879"/>
                </a:cubicBezTo>
              </a:path>
              <a:path w="6028" h="1390">
                <a:moveTo>
                  <a:pt x="6102" y="5953"/>
                </a:moveTo>
                <a:cubicBezTo>
                  <a:pt x="6074" y="5999"/>
                  <a:pt x="6026" y="6064"/>
                  <a:pt x="6052" y="6127"/>
                </a:cubicBezTo>
                <a:cubicBezTo>
                  <a:pt x="6069" y="6167"/>
                  <a:pt x="6077" y="6154"/>
                  <a:pt x="6077" y="6201"/>
                </a:cubicBezTo>
                <a:cubicBezTo>
                  <a:pt x="6130" y="6201"/>
                  <a:pt x="6138" y="6190"/>
                  <a:pt x="6176" y="6152"/>
                </a:cubicBezTo>
                <a:cubicBezTo>
                  <a:pt x="6214" y="6114"/>
                  <a:pt x="6223" y="6102"/>
                  <a:pt x="6276" y="6102"/>
                </a:cubicBezTo>
                <a:cubicBezTo>
                  <a:pt x="6316" y="6102"/>
                  <a:pt x="6377" y="6145"/>
                  <a:pt x="6400" y="6176"/>
                </a:cubicBezTo>
                <a:cubicBezTo>
                  <a:pt x="6436" y="6224"/>
                  <a:pt x="6464" y="6292"/>
                  <a:pt x="6474" y="6350"/>
                </a:cubicBezTo>
                <a:cubicBezTo>
                  <a:pt x="6481" y="6393"/>
                  <a:pt x="6470" y="6443"/>
                  <a:pt x="6449" y="6474"/>
                </a:cubicBezTo>
                <a:cubicBezTo>
                  <a:pt x="6425" y="6511"/>
                  <a:pt x="6368" y="6563"/>
                  <a:pt x="6325" y="6573"/>
                </a:cubicBezTo>
                <a:cubicBezTo>
                  <a:pt x="6283" y="6583"/>
                  <a:pt x="6217" y="6595"/>
                  <a:pt x="6176" y="6598"/>
                </a:cubicBezTo>
                <a:cubicBezTo>
                  <a:pt x="6116" y="6602"/>
                  <a:pt x="6091" y="6605"/>
                  <a:pt x="6077" y="6548"/>
                </a:cubicBezTo>
              </a:path>
              <a:path w="6028" h="1390">
                <a:moveTo>
                  <a:pt x="6672" y="6300"/>
                </a:moveTo>
                <a:cubicBezTo>
                  <a:pt x="6725" y="6300"/>
                  <a:pt x="6755" y="6285"/>
                  <a:pt x="6796" y="6276"/>
                </a:cubicBezTo>
                <a:cubicBezTo>
                  <a:pt x="6851" y="6265"/>
                  <a:pt x="6897" y="6265"/>
                  <a:pt x="6945" y="6251"/>
                </a:cubicBezTo>
                <a:cubicBezTo>
                  <a:pt x="6953" y="6251"/>
                  <a:pt x="6962" y="6251"/>
                  <a:pt x="6970" y="6251"/>
                </a:cubicBezTo>
              </a:path>
              <a:path w="6028" h="1390">
                <a:moveTo>
                  <a:pt x="7094" y="5928"/>
                </a:moveTo>
                <a:cubicBezTo>
                  <a:pt x="7140" y="5903"/>
                  <a:pt x="7203" y="5878"/>
                  <a:pt x="7243" y="5854"/>
                </a:cubicBezTo>
                <a:cubicBezTo>
                  <a:pt x="7309" y="5814"/>
                  <a:pt x="7377" y="5818"/>
                  <a:pt x="7441" y="5829"/>
                </a:cubicBezTo>
                <a:cubicBezTo>
                  <a:pt x="7526" y="5843"/>
                  <a:pt x="7474" y="5890"/>
                  <a:pt x="7466" y="5928"/>
                </a:cubicBezTo>
                <a:cubicBezTo>
                  <a:pt x="7452" y="5993"/>
                  <a:pt x="7431" y="6034"/>
                  <a:pt x="7367" y="6077"/>
                </a:cubicBezTo>
                <a:cubicBezTo>
                  <a:pt x="7319" y="6109"/>
                  <a:pt x="7295" y="6178"/>
                  <a:pt x="7243" y="6201"/>
                </a:cubicBezTo>
                <a:cubicBezTo>
                  <a:pt x="7219" y="6212"/>
                  <a:pt x="7195" y="6219"/>
                  <a:pt x="7169" y="6226"/>
                </a:cubicBezTo>
                <a:cubicBezTo>
                  <a:pt x="7212" y="6215"/>
                  <a:pt x="7235" y="6185"/>
                  <a:pt x="7268" y="6152"/>
                </a:cubicBezTo>
                <a:cubicBezTo>
                  <a:pt x="7293" y="6127"/>
                  <a:pt x="7351" y="6079"/>
                  <a:pt x="7392" y="6102"/>
                </a:cubicBezTo>
                <a:cubicBezTo>
                  <a:pt x="7429" y="6123"/>
                  <a:pt x="7459" y="6188"/>
                  <a:pt x="7466" y="6226"/>
                </a:cubicBezTo>
                <a:cubicBezTo>
                  <a:pt x="7478" y="6295"/>
                  <a:pt x="7491" y="6352"/>
                  <a:pt x="7491" y="6424"/>
                </a:cubicBezTo>
                <a:cubicBezTo>
                  <a:pt x="7491" y="6473"/>
                  <a:pt x="7486" y="6542"/>
                  <a:pt x="7441" y="6573"/>
                </a:cubicBezTo>
                <a:cubicBezTo>
                  <a:pt x="7394" y="6606"/>
                  <a:pt x="7322" y="6620"/>
                  <a:pt x="7268" y="6623"/>
                </a:cubicBezTo>
                <a:cubicBezTo>
                  <a:pt x="7202" y="6627"/>
                  <a:pt x="7150" y="6613"/>
                  <a:pt x="7119" y="6598"/>
                </a:cubicBezTo>
                <a:cubicBezTo>
                  <a:pt x="7111" y="6598"/>
                  <a:pt x="7102" y="6598"/>
                  <a:pt x="7094" y="6598"/>
                </a:cubicBezTo>
              </a:path>
              <a:path w="6028" h="1390">
                <a:moveTo>
                  <a:pt x="7789" y="5854"/>
                </a:moveTo>
                <a:cubicBezTo>
                  <a:pt x="7754" y="5900"/>
                  <a:pt x="7765" y="5946"/>
                  <a:pt x="7739" y="6003"/>
                </a:cubicBezTo>
                <a:cubicBezTo>
                  <a:pt x="7707" y="6074"/>
                  <a:pt x="7679" y="6172"/>
                  <a:pt x="7665" y="6251"/>
                </a:cubicBezTo>
                <a:cubicBezTo>
                  <a:pt x="7652" y="6324"/>
                  <a:pt x="7649" y="6459"/>
                  <a:pt x="7689" y="6524"/>
                </a:cubicBezTo>
                <a:cubicBezTo>
                  <a:pt x="7705" y="6551"/>
                  <a:pt x="7782" y="6603"/>
                  <a:pt x="7813" y="6598"/>
                </a:cubicBezTo>
                <a:cubicBezTo>
                  <a:pt x="7885" y="6586"/>
                  <a:pt x="7964" y="6513"/>
                  <a:pt x="8012" y="6449"/>
                </a:cubicBezTo>
                <a:cubicBezTo>
                  <a:pt x="8054" y="6392"/>
                  <a:pt x="8053" y="6265"/>
                  <a:pt x="8037" y="6201"/>
                </a:cubicBezTo>
                <a:cubicBezTo>
                  <a:pt x="8025" y="6153"/>
                  <a:pt x="7982" y="6080"/>
                  <a:pt x="7938" y="6052"/>
                </a:cubicBezTo>
                <a:cubicBezTo>
                  <a:pt x="7893" y="6024"/>
                  <a:pt x="7864" y="5998"/>
                  <a:pt x="7838" y="5978"/>
                </a:cubicBezTo>
                <a:cubicBezTo>
                  <a:pt x="7813" y="5953"/>
                  <a:pt x="7805" y="5945"/>
                  <a:pt x="7789" y="5928"/>
                </a:cubicBezTo>
              </a:path>
              <a:path w="6028" h="1390">
                <a:moveTo>
                  <a:pt x="7913" y="5308"/>
                </a:moveTo>
                <a:cubicBezTo>
                  <a:pt x="7977" y="5367"/>
                  <a:pt x="8059" y="5421"/>
                  <a:pt x="8111" y="5482"/>
                </a:cubicBezTo>
                <a:cubicBezTo>
                  <a:pt x="8183" y="5567"/>
                  <a:pt x="8246" y="5651"/>
                  <a:pt x="8285" y="5755"/>
                </a:cubicBezTo>
                <a:cubicBezTo>
                  <a:pt x="8325" y="5863"/>
                  <a:pt x="8359" y="5942"/>
                  <a:pt x="8384" y="6052"/>
                </a:cubicBezTo>
                <a:cubicBezTo>
                  <a:pt x="8410" y="6166"/>
                  <a:pt x="8374" y="6217"/>
                  <a:pt x="8334" y="6325"/>
                </a:cubicBezTo>
                <a:cubicBezTo>
                  <a:pt x="8302" y="6413"/>
                  <a:pt x="8251" y="6480"/>
                  <a:pt x="8186" y="6548"/>
                </a:cubicBezTo>
                <a:cubicBezTo>
                  <a:pt x="8139" y="6598"/>
                  <a:pt x="8085" y="6624"/>
                  <a:pt x="8037" y="6672"/>
                </a:cubicBezTo>
                <a:cubicBezTo>
                  <a:pt x="7978" y="6731"/>
                  <a:pt x="8085" y="6658"/>
                  <a:pt x="8111" y="6648"/>
                </a:cubicBezTo>
              </a:path>
              <a:path w="6028" h="1390">
                <a:moveTo>
                  <a:pt x="8607" y="6375"/>
                </a:moveTo>
                <a:cubicBezTo>
                  <a:pt x="8705" y="6375"/>
                  <a:pt x="8789" y="6373"/>
                  <a:pt x="8880" y="6350"/>
                </a:cubicBezTo>
                <a:cubicBezTo>
                  <a:pt x="8901" y="6345"/>
                  <a:pt x="8932" y="6350"/>
                  <a:pt x="8954" y="6350"/>
                </a:cubicBezTo>
              </a:path>
              <a:path w="6028" h="1390">
                <a:moveTo>
                  <a:pt x="8483" y="6648"/>
                </a:moveTo>
                <a:cubicBezTo>
                  <a:pt x="8563" y="6669"/>
                  <a:pt x="8623" y="6672"/>
                  <a:pt x="8706" y="6672"/>
                </a:cubicBezTo>
                <a:cubicBezTo>
                  <a:pt x="8805" y="6672"/>
                  <a:pt x="8905" y="6672"/>
                  <a:pt x="9004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10000" y="2027160"/>
            <a:ext cx="2535120" cy="366840"/>
          </a:xfrm>
          <a:custGeom>
            <a:avLst/>
            <a:gdLst/>
            <a:ahLst/>
            <a:rect l="l" t="t" r="r" b="b"/>
            <a:pathLst>
              <a:path w="7046" h="1018">
                <a:moveTo>
                  <a:pt x="10071" y="5655"/>
                </a:moveTo>
                <a:cubicBezTo>
                  <a:pt x="10096" y="5655"/>
                  <a:pt x="10104" y="5655"/>
                  <a:pt x="10096" y="5631"/>
                </a:cubicBezTo>
                <a:cubicBezTo>
                  <a:pt x="10096" y="5758"/>
                  <a:pt x="10110" y="5880"/>
                  <a:pt x="10120" y="6003"/>
                </a:cubicBezTo>
                <a:cubicBezTo>
                  <a:pt x="10129" y="6111"/>
                  <a:pt x="10139" y="6220"/>
                  <a:pt x="10145" y="6325"/>
                </a:cubicBezTo>
                <a:cubicBezTo>
                  <a:pt x="10149" y="6394"/>
                  <a:pt x="10145" y="6612"/>
                  <a:pt x="10145" y="6598"/>
                </a:cubicBezTo>
              </a:path>
              <a:path w="7046" h="1018">
                <a:moveTo>
                  <a:pt x="9748" y="6102"/>
                </a:moveTo>
                <a:cubicBezTo>
                  <a:pt x="9832" y="6077"/>
                  <a:pt x="9883" y="6077"/>
                  <a:pt x="9971" y="6077"/>
                </a:cubicBezTo>
                <a:cubicBezTo>
                  <a:pt x="10048" y="6077"/>
                  <a:pt x="10113" y="6052"/>
                  <a:pt x="10195" y="6052"/>
                </a:cubicBezTo>
                <a:cubicBezTo>
                  <a:pt x="10258" y="6052"/>
                  <a:pt x="10303" y="6077"/>
                  <a:pt x="10368" y="6077"/>
                </a:cubicBezTo>
              </a:path>
              <a:path w="7046" h="1018">
                <a:moveTo>
                  <a:pt x="10740" y="6226"/>
                </a:moveTo>
                <a:cubicBezTo>
                  <a:pt x="10730" y="6196"/>
                  <a:pt x="10720" y="6184"/>
                  <a:pt x="10691" y="6152"/>
                </a:cubicBezTo>
                <a:cubicBezTo>
                  <a:pt x="10669" y="6128"/>
                  <a:pt x="10631" y="6080"/>
                  <a:pt x="10592" y="6102"/>
                </a:cubicBezTo>
                <a:cubicBezTo>
                  <a:pt x="10553" y="6124"/>
                  <a:pt x="10494" y="6160"/>
                  <a:pt x="10468" y="6201"/>
                </a:cubicBezTo>
                <a:cubicBezTo>
                  <a:pt x="10428" y="6264"/>
                  <a:pt x="10415" y="6309"/>
                  <a:pt x="10393" y="6375"/>
                </a:cubicBezTo>
                <a:cubicBezTo>
                  <a:pt x="10378" y="6419"/>
                  <a:pt x="10347" y="6497"/>
                  <a:pt x="10368" y="6548"/>
                </a:cubicBezTo>
                <a:cubicBezTo>
                  <a:pt x="10387" y="6592"/>
                  <a:pt x="10428" y="6598"/>
                  <a:pt x="10468" y="6598"/>
                </a:cubicBezTo>
                <a:cubicBezTo>
                  <a:pt x="10526" y="6598"/>
                  <a:pt x="10572" y="6609"/>
                  <a:pt x="10616" y="6573"/>
                </a:cubicBezTo>
                <a:cubicBezTo>
                  <a:pt x="10662" y="6536"/>
                  <a:pt x="10682" y="6495"/>
                  <a:pt x="10716" y="6449"/>
                </a:cubicBezTo>
                <a:cubicBezTo>
                  <a:pt x="10750" y="6403"/>
                  <a:pt x="10740" y="6358"/>
                  <a:pt x="10740" y="6300"/>
                </a:cubicBezTo>
                <a:cubicBezTo>
                  <a:pt x="10740" y="6292"/>
                  <a:pt x="10740" y="6284"/>
                  <a:pt x="10740" y="6276"/>
                </a:cubicBezTo>
                <a:cubicBezTo>
                  <a:pt x="10722" y="6322"/>
                  <a:pt x="10740" y="6362"/>
                  <a:pt x="10740" y="6424"/>
                </a:cubicBezTo>
                <a:cubicBezTo>
                  <a:pt x="10740" y="6458"/>
                  <a:pt x="10767" y="6500"/>
                  <a:pt x="10790" y="6524"/>
                </a:cubicBezTo>
                <a:cubicBezTo>
                  <a:pt x="10797" y="6531"/>
                  <a:pt x="10883" y="6612"/>
                  <a:pt x="10914" y="6573"/>
                </a:cubicBezTo>
                <a:cubicBezTo>
                  <a:pt x="10914" y="6565"/>
                  <a:pt x="10914" y="6556"/>
                  <a:pt x="10914" y="6548"/>
                </a:cubicBezTo>
              </a:path>
              <a:path w="7046" h="1018">
                <a:moveTo>
                  <a:pt x="10939" y="6251"/>
                </a:moveTo>
                <a:cubicBezTo>
                  <a:pt x="10939" y="6346"/>
                  <a:pt x="10934" y="6388"/>
                  <a:pt x="10914" y="6474"/>
                </a:cubicBezTo>
                <a:cubicBezTo>
                  <a:pt x="10903" y="6521"/>
                  <a:pt x="10935" y="6551"/>
                  <a:pt x="10939" y="6598"/>
                </a:cubicBezTo>
                <a:cubicBezTo>
                  <a:pt x="10939" y="6623"/>
                  <a:pt x="10939" y="6631"/>
                  <a:pt x="10939" y="6648"/>
                </a:cubicBezTo>
                <a:cubicBezTo>
                  <a:pt x="10939" y="6550"/>
                  <a:pt x="10948" y="6466"/>
                  <a:pt x="10964" y="6375"/>
                </a:cubicBezTo>
                <a:cubicBezTo>
                  <a:pt x="10978" y="6298"/>
                  <a:pt x="10963" y="6268"/>
                  <a:pt x="11013" y="6201"/>
                </a:cubicBezTo>
                <a:cubicBezTo>
                  <a:pt x="11037" y="6169"/>
                  <a:pt x="11074" y="6131"/>
                  <a:pt x="11112" y="6127"/>
                </a:cubicBezTo>
                <a:cubicBezTo>
                  <a:pt x="11184" y="6119"/>
                  <a:pt x="11230" y="6200"/>
                  <a:pt x="11261" y="6251"/>
                </a:cubicBezTo>
                <a:cubicBezTo>
                  <a:pt x="11306" y="6326"/>
                  <a:pt x="11339" y="6425"/>
                  <a:pt x="11361" y="6499"/>
                </a:cubicBezTo>
                <a:cubicBezTo>
                  <a:pt x="11365" y="6512"/>
                  <a:pt x="11352" y="6653"/>
                  <a:pt x="11385" y="6573"/>
                </a:cubicBezTo>
                <a:cubicBezTo>
                  <a:pt x="11385" y="6565"/>
                  <a:pt x="11385" y="6556"/>
                  <a:pt x="11385" y="6548"/>
                </a:cubicBezTo>
              </a:path>
              <a:path w="7046" h="1018">
                <a:moveTo>
                  <a:pt x="11708" y="5928"/>
                </a:moveTo>
                <a:cubicBezTo>
                  <a:pt x="11708" y="6117"/>
                  <a:pt x="11675" y="6354"/>
                  <a:pt x="11733" y="6524"/>
                </a:cubicBezTo>
                <a:cubicBezTo>
                  <a:pt x="11748" y="6567"/>
                  <a:pt x="11753" y="6482"/>
                  <a:pt x="11757" y="6449"/>
                </a:cubicBezTo>
              </a:path>
              <a:path w="7046" h="1018">
                <a:moveTo>
                  <a:pt x="11956" y="5928"/>
                </a:moveTo>
                <a:cubicBezTo>
                  <a:pt x="12001" y="5891"/>
                  <a:pt x="12061" y="5825"/>
                  <a:pt x="12129" y="5854"/>
                </a:cubicBezTo>
                <a:cubicBezTo>
                  <a:pt x="12162" y="5868"/>
                  <a:pt x="12201" y="5922"/>
                  <a:pt x="12204" y="5953"/>
                </a:cubicBezTo>
                <a:cubicBezTo>
                  <a:pt x="12210" y="6006"/>
                  <a:pt x="12189" y="6038"/>
                  <a:pt x="12154" y="6077"/>
                </a:cubicBezTo>
                <a:cubicBezTo>
                  <a:pt x="12134" y="6099"/>
                  <a:pt x="12063" y="6140"/>
                  <a:pt x="12055" y="6152"/>
                </a:cubicBezTo>
                <a:cubicBezTo>
                  <a:pt x="12044" y="6168"/>
                  <a:pt x="11991" y="6229"/>
                  <a:pt x="12030" y="6201"/>
                </a:cubicBezTo>
                <a:cubicBezTo>
                  <a:pt x="12042" y="6193"/>
                  <a:pt x="12109" y="6150"/>
                  <a:pt x="12129" y="6176"/>
                </a:cubicBezTo>
                <a:cubicBezTo>
                  <a:pt x="12148" y="6201"/>
                  <a:pt x="12193" y="6268"/>
                  <a:pt x="12204" y="6300"/>
                </a:cubicBezTo>
                <a:cubicBezTo>
                  <a:pt x="12223" y="6355"/>
                  <a:pt x="12192" y="6385"/>
                  <a:pt x="12179" y="6424"/>
                </a:cubicBezTo>
                <a:cubicBezTo>
                  <a:pt x="12163" y="6470"/>
                  <a:pt x="12121" y="6481"/>
                  <a:pt x="12080" y="6499"/>
                </a:cubicBezTo>
                <a:cubicBezTo>
                  <a:pt x="12043" y="6515"/>
                  <a:pt x="11975" y="6546"/>
                  <a:pt x="11931" y="6524"/>
                </a:cubicBezTo>
                <a:cubicBezTo>
                  <a:pt x="11920" y="6518"/>
                  <a:pt x="11838" y="6489"/>
                  <a:pt x="11857" y="6474"/>
                </a:cubicBezTo>
                <a:cubicBezTo>
                  <a:pt x="11865" y="6474"/>
                  <a:pt x="11873" y="6474"/>
                  <a:pt x="11881" y="6474"/>
                </a:cubicBezTo>
              </a:path>
              <a:path w="7046" h="1018">
                <a:moveTo>
                  <a:pt x="12353" y="5928"/>
                </a:moveTo>
                <a:cubicBezTo>
                  <a:pt x="12405" y="5951"/>
                  <a:pt x="12423" y="5953"/>
                  <a:pt x="12477" y="5953"/>
                </a:cubicBezTo>
                <a:cubicBezTo>
                  <a:pt x="12528" y="5953"/>
                  <a:pt x="12559" y="5940"/>
                  <a:pt x="12601" y="5928"/>
                </a:cubicBezTo>
                <a:cubicBezTo>
                  <a:pt x="12646" y="5915"/>
                  <a:pt x="12659" y="5950"/>
                  <a:pt x="12675" y="5904"/>
                </a:cubicBezTo>
              </a:path>
              <a:path w="7046" h="1018">
                <a:moveTo>
                  <a:pt x="12353" y="5879"/>
                </a:moveTo>
                <a:cubicBezTo>
                  <a:pt x="12323" y="5913"/>
                  <a:pt x="12287" y="5960"/>
                  <a:pt x="12278" y="6003"/>
                </a:cubicBezTo>
                <a:cubicBezTo>
                  <a:pt x="12263" y="6071"/>
                  <a:pt x="12264" y="6072"/>
                  <a:pt x="12278" y="6102"/>
                </a:cubicBezTo>
                <a:cubicBezTo>
                  <a:pt x="12292" y="6132"/>
                  <a:pt x="12307" y="6128"/>
                  <a:pt x="12328" y="6102"/>
                </a:cubicBezTo>
                <a:cubicBezTo>
                  <a:pt x="12346" y="6080"/>
                  <a:pt x="12356" y="6057"/>
                  <a:pt x="12402" y="6052"/>
                </a:cubicBezTo>
                <a:cubicBezTo>
                  <a:pt x="12442" y="6047"/>
                  <a:pt x="12422" y="6028"/>
                  <a:pt x="12477" y="6028"/>
                </a:cubicBezTo>
                <a:cubicBezTo>
                  <a:pt x="12520" y="6028"/>
                  <a:pt x="12613" y="6126"/>
                  <a:pt x="12626" y="6152"/>
                </a:cubicBezTo>
                <a:cubicBezTo>
                  <a:pt x="12657" y="6214"/>
                  <a:pt x="12670" y="6329"/>
                  <a:pt x="12675" y="6400"/>
                </a:cubicBezTo>
                <a:cubicBezTo>
                  <a:pt x="12679" y="6464"/>
                  <a:pt x="12670" y="6481"/>
                  <a:pt x="12626" y="6524"/>
                </a:cubicBezTo>
                <a:cubicBezTo>
                  <a:pt x="12584" y="6565"/>
                  <a:pt x="12553" y="6577"/>
                  <a:pt x="12502" y="6598"/>
                </a:cubicBezTo>
                <a:cubicBezTo>
                  <a:pt x="12448" y="6620"/>
                  <a:pt x="12384" y="6639"/>
                  <a:pt x="12328" y="6648"/>
                </a:cubicBezTo>
                <a:cubicBezTo>
                  <a:pt x="12284" y="6655"/>
                  <a:pt x="12172" y="6655"/>
                  <a:pt x="12204" y="6623"/>
                </a:cubicBezTo>
                <a:cubicBezTo>
                  <a:pt x="12229" y="6623"/>
                  <a:pt x="12237" y="6623"/>
                  <a:pt x="12229" y="6598"/>
                </a:cubicBezTo>
              </a:path>
              <a:path w="7046" h="1018">
                <a:moveTo>
                  <a:pt x="12973" y="6276"/>
                </a:moveTo>
                <a:cubicBezTo>
                  <a:pt x="13095" y="6276"/>
                  <a:pt x="13206" y="6278"/>
                  <a:pt x="13320" y="6251"/>
                </a:cubicBezTo>
                <a:cubicBezTo>
                  <a:pt x="13340" y="6246"/>
                  <a:pt x="13501" y="6251"/>
                  <a:pt x="13444" y="6251"/>
                </a:cubicBezTo>
              </a:path>
              <a:path w="7046" h="1018">
                <a:moveTo>
                  <a:pt x="14139" y="5779"/>
                </a:moveTo>
                <a:cubicBezTo>
                  <a:pt x="14167" y="5884"/>
                  <a:pt x="14163" y="5966"/>
                  <a:pt x="14163" y="6077"/>
                </a:cubicBezTo>
                <a:cubicBezTo>
                  <a:pt x="14163" y="6149"/>
                  <a:pt x="14184" y="6207"/>
                  <a:pt x="14188" y="6276"/>
                </a:cubicBezTo>
                <a:cubicBezTo>
                  <a:pt x="14191" y="6317"/>
                  <a:pt x="14195" y="6413"/>
                  <a:pt x="14213" y="6449"/>
                </a:cubicBezTo>
                <a:cubicBezTo>
                  <a:pt x="14233" y="6488"/>
                  <a:pt x="14238" y="6477"/>
                  <a:pt x="14238" y="6524"/>
                </a:cubicBezTo>
              </a:path>
              <a:path w="7046" h="1018">
                <a:moveTo>
                  <a:pt x="13841" y="6127"/>
                </a:moveTo>
                <a:cubicBezTo>
                  <a:pt x="14016" y="6127"/>
                  <a:pt x="14203" y="6120"/>
                  <a:pt x="14362" y="6152"/>
                </a:cubicBezTo>
                <a:cubicBezTo>
                  <a:pt x="14379" y="6152"/>
                  <a:pt x="14395" y="6152"/>
                  <a:pt x="14412" y="6152"/>
                </a:cubicBezTo>
              </a:path>
              <a:path w="7046" h="1018">
                <a:moveTo>
                  <a:pt x="14734" y="6102"/>
                </a:moveTo>
                <a:cubicBezTo>
                  <a:pt x="14648" y="6054"/>
                  <a:pt x="14635" y="6052"/>
                  <a:pt x="14560" y="6127"/>
                </a:cubicBezTo>
                <a:cubicBezTo>
                  <a:pt x="14511" y="6176"/>
                  <a:pt x="14429" y="6290"/>
                  <a:pt x="14412" y="6350"/>
                </a:cubicBezTo>
                <a:cubicBezTo>
                  <a:pt x="14389" y="6428"/>
                  <a:pt x="14405" y="6476"/>
                  <a:pt x="14412" y="6548"/>
                </a:cubicBezTo>
                <a:cubicBezTo>
                  <a:pt x="14417" y="6595"/>
                  <a:pt x="14461" y="6619"/>
                  <a:pt x="14511" y="6598"/>
                </a:cubicBezTo>
                <a:cubicBezTo>
                  <a:pt x="14545" y="6584"/>
                  <a:pt x="14611" y="6557"/>
                  <a:pt x="14635" y="6524"/>
                </a:cubicBezTo>
                <a:cubicBezTo>
                  <a:pt x="14675" y="6469"/>
                  <a:pt x="14680" y="6389"/>
                  <a:pt x="14684" y="6325"/>
                </a:cubicBezTo>
                <a:cubicBezTo>
                  <a:pt x="14685" y="6301"/>
                  <a:pt x="14684" y="6275"/>
                  <a:pt x="14684" y="6251"/>
                </a:cubicBezTo>
                <a:cubicBezTo>
                  <a:pt x="14684" y="6169"/>
                  <a:pt x="14684" y="6348"/>
                  <a:pt x="14684" y="6350"/>
                </a:cubicBezTo>
                <a:cubicBezTo>
                  <a:pt x="14684" y="6426"/>
                  <a:pt x="14717" y="6460"/>
                  <a:pt x="14734" y="6499"/>
                </a:cubicBezTo>
                <a:cubicBezTo>
                  <a:pt x="14753" y="6544"/>
                  <a:pt x="14753" y="6548"/>
                  <a:pt x="14808" y="6548"/>
                </a:cubicBezTo>
                <a:cubicBezTo>
                  <a:pt x="14845" y="6548"/>
                  <a:pt x="14842" y="6520"/>
                  <a:pt x="14858" y="6499"/>
                </a:cubicBezTo>
                <a:cubicBezTo>
                  <a:pt x="14866" y="6491"/>
                  <a:pt x="14875" y="6482"/>
                  <a:pt x="14883" y="6474"/>
                </a:cubicBezTo>
              </a:path>
              <a:path w="7046" h="1018">
                <a:moveTo>
                  <a:pt x="14908" y="6176"/>
                </a:moveTo>
                <a:cubicBezTo>
                  <a:pt x="14908" y="6276"/>
                  <a:pt x="14905" y="6356"/>
                  <a:pt x="14883" y="6449"/>
                </a:cubicBezTo>
                <a:cubicBezTo>
                  <a:pt x="14874" y="6489"/>
                  <a:pt x="14945" y="6530"/>
                  <a:pt x="14908" y="6548"/>
                </a:cubicBezTo>
                <a:cubicBezTo>
                  <a:pt x="14900" y="6548"/>
                  <a:pt x="14891" y="6548"/>
                  <a:pt x="14883" y="6548"/>
                </a:cubicBezTo>
                <a:cubicBezTo>
                  <a:pt x="14883" y="6480"/>
                  <a:pt x="14892" y="6438"/>
                  <a:pt x="14908" y="6375"/>
                </a:cubicBezTo>
                <a:cubicBezTo>
                  <a:pt x="14920" y="6327"/>
                  <a:pt x="14920" y="6274"/>
                  <a:pt x="14932" y="6226"/>
                </a:cubicBezTo>
                <a:cubicBezTo>
                  <a:pt x="14945" y="6172"/>
                  <a:pt x="14984" y="6150"/>
                  <a:pt x="15032" y="6127"/>
                </a:cubicBezTo>
                <a:cubicBezTo>
                  <a:pt x="15102" y="6094"/>
                  <a:pt x="15142" y="6093"/>
                  <a:pt x="15205" y="6127"/>
                </a:cubicBezTo>
                <a:cubicBezTo>
                  <a:pt x="15269" y="6161"/>
                  <a:pt x="15306" y="6229"/>
                  <a:pt x="15329" y="6300"/>
                </a:cubicBezTo>
                <a:cubicBezTo>
                  <a:pt x="15355" y="6380"/>
                  <a:pt x="15354" y="6443"/>
                  <a:pt x="15354" y="6524"/>
                </a:cubicBezTo>
                <a:cubicBezTo>
                  <a:pt x="15354" y="6536"/>
                  <a:pt x="15354" y="6640"/>
                  <a:pt x="15354" y="6573"/>
                </a:cubicBezTo>
              </a:path>
              <a:path w="7046" h="1018">
                <a:moveTo>
                  <a:pt x="15652" y="5904"/>
                </a:moveTo>
                <a:cubicBezTo>
                  <a:pt x="15742" y="5885"/>
                  <a:pt x="15809" y="5879"/>
                  <a:pt x="15900" y="5879"/>
                </a:cubicBezTo>
                <a:cubicBezTo>
                  <a:pt x="15955" y="5879"/>
                  <a:pt x="16053" y="5877"/>
                  <a:pt x="16098" y="5904"/>
                </a:cubicBezTo>
                <a:cubicBezTo>
                  <a:pt x="16184" y="5956"/>
                  <a:pt x="16168" y="5985"/>
                  <a:pt x="16148" y="6052"/>
                </a:cubicBezTo>
                <a:cubicBezTo>
                  <a:pt x="16130" y="6113"/>
                  <a:pt x="16068" y="6127"/>
                  <a:pt x="16024" y="6152"/>
                </a:cubicBezTo>
                <a:cubicBezTo>
                  <a:pt x="15985" y="6175"/>
                  <a:pt x="15950" y="6196"/>
                  <a:pt x="15900" y="6201"/>
                </a:cubicBezTo>
                <a:cubicBezTo>
                  <a:pt x="15892" y="6201"/>
                  <a:pt x="15883" y="6201"/>
                  <a:pt x="15875" y="6201"/>
                </a:cubicBezTo>
                <a:cubicBezTo>
                  <a:pt x="15908" y="6177"/>
                  <a:pt x="15956" y="6162"/>
                  <a:pt x="15999" y="6152"/>
                </a:cubicBezTo>
                <a:cubicBezTo>
                  <a:pt x="16038" y="6143"/>
                  <a:pt x="16070" y="6152"/>
                  <a:pt x="16098" y="6176"/>
                </a:cubicBezTo>
                <a:cubicBezTo>
                  <a:pt x="16137" y="6210"/>
                  <a:pt x="16123" y="6251"/>
                  <a:pt x="16123" y="6300"/>
                </a:cubicBezTo>
                <a:cubicBezTo>
                  <a:pt x="16123" y="6345"/>
                  <a:pt x="16095" y="6424"/>
                  <a:pt x="16049" y="6449"/>
                </a:cubicBezTo>
                <a:cubicBezTo>
                  <a:pt x="16018" y="6466"/>
                  <a:pt x="15931" y="6493"/>
                  <a:pt x="15900" y="6499"/>
                </a:cubicBezTo>
                <a:cubicBezTo>
                  <a:pt x="15868" y="6505"/>
                  <a:pt x="15769" y="6496"/>
                  <a:pt x="15751" y="6474"/>
                </a:cubicBezTo>
                <a:cubicBezTo>
                  <a:pt x="15721" y="6438"/>
                  <a:pt x="15724" y="6411"/>
                  <a:pt x="15751" y="6375"/>
                </a:cubicBezTo>
              </a:path>
              <a:path w="7046" h="1018">
                <a:moveTo>
                  <a:pt x="16346" y="6028"/>
                </a:moveTo>
                <a:cubicBezTo>
                  <a:pt x="16312" y="6146"/>
                  <a:pt x="16271" y="6261"/>
                  <a:pt x="16222" y="6375"/>
                </a:cubicBezTo>
                <a:cubicBezTo>
                  <a:pt x="16195" y="6437"/>
                  <a:pt x="16177" y="6493"/>
                  <a:pt x="16222" y="6548"/>
                </a:cubicBezTo>
                <a:cubicBezTo>
                  <a:pt x="16251" y="6584"/>
                  <a:pt x="16300" y="6637"/>
                  <a:pt x="16346" y="6648"/>
                </a:cubicBezTo>
                <a:cubicBezTo>
                  <a:pt x="16410" y="6663"/>
                  <a:pt x="16488" y="6649"/>
                  <a:pt x="16545" y="6623"/>
                </a:cubicBezTo>
                <a:cubicBezTo>
                  <a:pt x="16640" y="6580"/>
                  <a:pt x="16735" y="6472"/>
                  <a:pt x="16768" y="6375"/>
                </a:cubicBezTo>
                <a:cubicBezTo>
                  <a:pt x="16787" y="6319"/>
                  <a:pt x="16789" y="6274"/>
                  <a:pt x="16768" y="6226"/>
                </a:cubicBezTo>
                <a:cubicBezTo>
                  <a:pt x="16744" y="6170"/>
                  <a:pt x="16703" y="6122"/>
                  <a:pt x="16644" y="6102"/>
                </a:cubicBezTo>
                <a:cubicBezTo>
                  <a:pt x="16577" y="6080"/>
                  <a:pt x="16517" y="6082"/>
                  <a:pt x="16446" y="60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98920" y="2490840"/>
            <a:ext cx="2251080" cy="63360"/>
          </a:xfrm>
          <a:custGeom>
            <a:avLst/>
            <a:gdLst/>
            <a:ahLst/>
            <a:rect l="l" t="t" r="r" b="b"/>
            <a:pathLst>
              <a:path w="6252" h="174">
                <a:moveTo>
                  <a:pt x="9996" y="6970"/>
                </a:moveTo>
                <a:cubicBezTo>
                  <a:pt x="10027" y="6976"/>
                  <a:pt x="10055" y="6991"/>
                  <a:pt x="10096" y="6995"/>
                </a:cubicBezTo>
                <a:cubicBezTo>
                  <a:pt x="10240" y="7009"/>
                  <a:pt x="10377" y="6979"/>
                  <a:pt x="10517" y="6970"/>
                </a:cubicBezTo>
                <a:cubicBezTo>
                  <a:pt x="10659" y="6961"/>
                  <a:pt x="10800" y="6956"/>
                  <a:pt x="10939" y="6945"/>
                </a:cubicBezTo>
                <a:cubicBezTo>
                  <a:pt x="11112" y="6932"/>
                  <a:pt x="11288" y="6934"/>
                  <a:pt x="11460" y="6921"/>
                </a:cubicBezTo>
                <a:cubicBezTo>
                  <a:pt x="12164" y="6866"/>
                  <a:pt x="12916" y="6903"/>
                  <a:pt x="13618" y="6945"/>
                </a:cubicBezTo>
                <a:cubicBezTo>
                  <a:pt x="13855" y="6959"/>
                  <a:pt x="14100" y="6965"/>
                  <a:pt x="14337" y="6970"/>
                </a:cubicBezTo>
                <a:cubicBezTo>
                  <a:pt x="14504" y="6974"/>
                  <a:pt x="14664" y="6995"/>
                  <a:pt x="14833" y="6995"/>
                </a:cubicBezTo>
                <a:cubicBezTo>
                  <a:pt x="14993" y="6995"/>
                  <a:pt x="15146" y="7016"/>
                  <a:pt x="15304" y="7020"/>
                </a:cubicBezTo>
                <a:cubicBezTo>
                  <a:pt x="15448" y="7023"/>
                  <a:pt x="15584" y="7036"/>
                  <a:pt x="15726" y="7045"/>
                </a:cubicBezTo>
                <a:cubicBezTo>
                  <a:pt x="15832" y="7052"/>
                  <a:pt x="15943" y="7055"/>
                  <a:pt x="16049" y="7069"/>
                </a:cubicBezTo>
                <a:cubicBezTo>
                  <a:pt x="16092" y="7075"/>
                  <a:pt x="16199" y="7127"/>
                  <a:pt x="16247" y="7094"/>
                </a:cubicBezTo>
                <a:cubicBezTo>
                  <a:pt x="16268" y="7080"/>
                  <a:pt x="16183" y="7090"/>
                  <a:pt x="16197" y="70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10000" y="2813040"/>
            <a:ext cx="7920" cy="322200"/>
          </a:xfrm>
          <a:custGeom>
            <a:avLst/>
            <a:gdLst/>
            <a:ahLst/>
            <a:rect l="l" t="t" r="r" b="b"/>
            <a:pathLst>
              <a:path w="26" h="894">
                <a:moveTo>
                  <a:pt x="9773" y="7813"/>
                </a:moveTo>
                <a:cubicBezTo>
                  <a:pt x="9773" y="8061"/>
                  <a:pt x="9788" y="8319"/>
                  <a:pt x="9748" y="8558"/>
                </a:cubicBezTo>
                <a:cubicBezTo>
                  <a:pt x="9737" y="8623"/>
                  <a:pt x="9759" y="8654"/>
                  <a:pt x="9773" y="8682"/>
                </a:cubicBezTo>
                <a:cubicBezTo>
                  <a:pt x="9773" y="8706"/>
                  <a:pt x="9773" y="8714"/>
                  <a:pt x="9773" y="86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02040" y="2830680"/>
            <a:ext cx="162000" cy="277560"/>
          </a:xfrm>
          <a:custGeom>
            <a:avLst/>
            <a:gdLst/>
            <a:ahLst/>
            <a:rect l="l" t="t" r="r" b="b"/>
            <a:pathLst>
              <a:path w="447" h="770">
                <a:moveTo>
                  <a:pt x="11088" y="7863"/>
                </a:moveTo>
                <a:cubicBezTo>
                  <a:pt x="11088" y="8031"/>
                  <a:pt x="11068" y="8166"/>
                  <a:pt x="11063" y="8334"/>
                </a:cubicBezTo>
                <a:cubicBezTo>
                  <a:pt x="11061" y="8401"/>
                  <a:pt x="11086" y="8639"/>
                  <a:pt x="11038" y="8607"/>
                </a:cubicBezTo>
              </a:path>
              <a:path w="447" h="770">
                <a:moveTo>
                  <a:pt x="10840" y="8235"/>
                </a:moveTo>
                <a:cubicBezTo>
                  <a:pt x="10989" y="8235"/>
                  <a:pt x="11137" y="8235"/>
                  <a:pt x="11286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03800" y="2803680"/>
            <a:ext cx="563400" cy="322200"/>
          </a:xfrm>
          <a:custGeom>
            <a:avLst/>
            <a:gdLst/>
            <a:ahLst/>
            <a:rect l="l" t="t" r="r" b="b"/>
            <a:pathLst>
              <a:path w="1564" h="894">
                <a:moveTo>
                  <a:pt x="12278" y="7789"/>
                </a:moveTo>
                <a:cubicBezTo>
                  <a:pt x="12278" y="7844"/>
                  <a:pt x="12259" y="7889"/>
                  <a:pt x="12254" y="7938"/>
                </a:cubicBezTo>
                <a:cubicBezTo>
                  <a:pt x="12243" y="8039"/>
                  <a:pt x="12229" y="8132"/>
                  <a:pt x="12229" y="8235"/>
                </a:cubicBezTo>
                <a:cubicBezTo>
                  <a:pt x="12229" y="8309"/>
                  <a:pt x="12183" y="8383"/>
                  <a:pt x="12204" y="8458"/>
                </a:cubicBezTo>
                <a:cubicBezTo>
                  <a:pt x="12220" y="8513"/>
                  <a:pt x="12229" y="8548"/>
                  <a:pt x="12229" y="8607"/>
                </a:cubicBezTo>
                <a:cubicBezTo>
                  <a:pt x="12229" y="8669"/>
                  <a:pt x="12238" y="8653"/>
                  <a:pt x="12204" y="8607"/>
                </a:cubicBezTo>
              </a:path>
              <a:path w="1564" h="894">
                <a:moveTo>
                  <a:pt x="11956" y="8136"/>
                </a:moveTo>
                <a:cubicBezTo>
                  <a:pt x="12047" y="8136"/>
                  <a:pt x="12116" y="8148"/>
                  <a:pt x="12204" y="8161"/>
                </a:cubicBezTo>
                <a:cubicBezTo>
                  <a:pt x="12277" y="8171"/>
                  <a:pt x="12354" y="8182"/>
                  <a:pt x="12427" y="8186"/>
                </a:cubicBezTo>
                <a:cubicBezTo>
                  <a:pt x="12511" y="8190"/>
                  <a:pt x="12573" y="8179"/>
                  <a:pt x="12650" y="8161"/>
                </a:cubicBezTo>
                <a:cubicBezTo>
                  <a:pt x="12692" y="8151"/>
                  <a:pt x="12736" y="8140"/>
                  <a:pt x="12774" y="8136"/>
                </a:cubicBezTo>
                <a:cubicBezTo>
                  <a:pt x="12799" y="8136"/>
                  <a:pt x="12807" y="8136"/>
                  <a:pt x="12799" y="8111"/>
                </a:cubicBezTo>
                <a:cubicBezTo>
                  <a:pt x="12792" y="8133"/>
                  <a:pt x="12757" y="8166"/>
                  <a:pt x="12725" y="8186"/>
                </a:cubicBezTo>
                <a:cubicBezTo>
                  <a:pt x="12651" y="8232"/>
                  <a:pt x="12646" y="8285"/>
                  <a:pt x="12601" y="8359"/>
                </a:cubicBezTo>
                <a:cubicBezTo>
                  <a:pt x="12562" y="8424"/>
                  <a:pt x="12531" y="8478"/>
                  <a:pt x="12551" y="8558"/>
                </a:cubicBezTo>
                <a:cubicBezTo>
                  <a:pt x="12574" y="8650"/>
                  <a:pt x="12578" y="8632"/>
                  <a:pt x="12650" y="8632"/>
                </a:cubicBezTo>
                <a:cubicBezTo>
                  <a:pt x="12711" y="8632"/>
                  <a:pt x="12697" y="8575"/>
                  <a:pt x="12725" y="8533"/>
                </a:cubicBezTo>
                <a:cubicBezTo>
                  <a:pt x="12765" y="8473"/>
                  <a:pt x="12750" y="8441"/>
                  <a:pt x="12774" y="8384"/>
                </a:cubicBezTo>
                <a:cubicBezTo>
                  <a:pt x="12792" y="8340"/>
                  <a:pt x="12799" y="8313"/>
                  <a:pt x="12799" y="8260"/>
                </a:cubicBezTo>
                <a:cubicBezTo>
                  <a:pt x="12799" y="8235"/>
                  <a:pt x="12799" y="8227"/>
                  <a:pt x="12799" y="8260"/>
                </a:cubicBezTo>
                <a:cubicBezTo>
                  <a:pt x="12799" y="8358"/>
                  <a:pt x="12803" y="8419"/>
                  <a:pt x="12824" y="8508"/>
                </a:cubicBezTo>
                <a:cubicBezTo>
                  <a:pt x="12833" y="8549"/>
                  <a:pt x="12852" y="8611"/>
                  <a:pt x="12898" y="8632"/>
                </a:cubicBezTo>
                <a:cubicBezTo>
                  <a:pt x="12936" y="8649"/>
                  <a:pt x="12965" y="8631"/>
                  <a:pt x="12973" y="8607"/>
                </a:cubicBezTo>
              </a:path>
              <a:path w="1564" h="894">
                <a:moveTo>
                  <a:pt x="13022" y="8285"/>
                </a:moveTo>
                <a:cubicBezTo>
                  <a:pt x="13022" y="8392"/>
                  <a:pt x="13022" y="8500"/>
                  <a:pt x="13022" y="8607"/>
                </a:cubicBezTo>
                <a:cubicBezTo>
                  <a:pt x="13060" y="8594"/>
                  <a:pt x="13047" y="8578"/>
                  <a:pt x="13047" y="8533"/>
                </a:cubicBezTo>
                <a:cubicBezTo>
                  <a:pt x="13047" y="8501"/>
                  <a:pt x="13061" y="8441"/>
                  <a:pt x="13072" y="8409"/>
                </a:cubicBezTo>
                <a:cubicBezTo>
                  <a:pt x="13096" y="8343"/>
                  <a:pt x="13122" y="8289"/>
                  <a:pt x="13171" y="8235"/>
                </a:cubicBezTo>
                <a:cubicBezTo>
                  <a:pt x="13186" y="8218"/>
                  <a:pt x="13274" y="8177"/>
                  <a:pt x="13295" y="8186"/>
                </a:cubicBezTo>
                <a:cubicBezTo>
                  <a:pt x="13339" y="8205"/>
                  <a:pt x="13402" y="8269"/>
                  <a:pt x="13419" y="8310"/>
                </a:cubicBezTo>
                <a:cubicBezTo>
                  <a:pt x="13447" y="8377"/>
                  <a:pt x="13450" y="8443"/>
                  <a:pt x="13469" y="8508"/>
                </a:cubicBezTo>
                <a:cubicBezTo>
                  <a:pt x="13479" y="8541"/>
                  <a:pt x="13481" y="8631"/>
                  <a:pt x="13494" y="8657"/>
                </a:cubicBezTo>
                <a:cubicBezTo>
                  <a:pt x="13502" y="8665"/>
                  <a:pt x="13511" y="8674"/>
                  <a:pt x="13519" y="86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18040" y="2867040"/>
            <a:ext cx="1500120" cy="285840"/>
          </a:xfrm>
          <a:custGeom>
            <a:avLst/>
            <a:gdLst/>
            <a:ahLst/>
            <a:rect l="l" t="t" r="r" b="b"/>
            <a:pathLst>
              <a:path w="4168" h="795">
                <a:moveTo>
                  <a:pt x="13990" y="7987"/>
                </a:moveTo>
                <a:cubicBezTo>
                  <a:pt x="13990" y="8092"/>
                  <a:pt x="13980" y="8184"/>
                  <a:pt x="13965" y="8285"/>
                </a:cubicBezTo>
                <a:cubicBezTo>
                  <a:pt x="13954" y="8364"/>
                  <a:pt x="13958" y="8432"/>
                  <a:pt x="13940" y="8508"/>
                </a:cubicBezTo>
                <a:cubicBezTo>
                  <a:pt x="13927" y="8563"/>
                  <a:pt x="13957" y="8613"/>
                  <a:pt x="13965" y="8632"/>
                </a:cubicBezTo>
                <a:cubicBezTo>
                  <a:pt x="13965" y="8657"/>
                  <a:pt x="13965" y="8665"/>
                  <a:pt x="13965" y="8632"/>
                </a:cubicBezTo>
              </a:path>
              <a:path w="4168" h="795">
                <a:moveTo>
                  <a:pt x="14163" y="8037"/>
                </a:moveTo>
                <a:cubicBezTo>
                  <a:pt x="14318" y="7969"/>
                  <a:pt x="14268" y="7977"/>
                  <a:pt x="14387" y="7987"/>
                </a:cubicBezTo>
                <a:cubicBezTo>
                  <a:pt x="14429" y="7991"/>
                  <a:pt x="14456" y="8021"/>
                  <a:pt x="14461" y="8062"/>
                </a:cubicBezTo>
                <a:cubicBezTo>
                  <a:pt x="14467" y="8117"/>
                  <a:pt x="14471" y="8171"/>
                  <a:pt x="14436" y="8210"/>
                </a:cubicBezTo>
                <a:cubicBezTo>
                  <a:pt x="14392" y="8260"/>
                  <a:pt x="14242" y="8286"/>
                  <a:pt x="14288" y="8334"/>
                </a:cubicBezTo>
                <a:cubicBezTo>
                  <a:pt x="14300" y="8346"/>
                  <a:pt x="14341" y="8292"/>
                  <a:pt x="14362" y="8285"/>
                </a:cubicBezTo>
                <a:cubicBezTo>
                  <a:pt x="14404" y="8271"/>
                  <a:pt x="14457" y="8285"/>
                  <a:pt x="14486" y="8310"/>
                </a:cubicBezTo>
                <a:cubicBezTo>
                  <a:pt x="14523" y="8342"/>
                  <a:pt x="14532" y="8387"/>
                  <a:pt x="14536" y="8434"/>
                </a:cubicBezTo>
                <a:cubicBezTo>
                  <a:pt x="14541" y="8492"/>
                  <a:pt x="14536" y="8514"/>
                  <a:pt x="14511" y="8558"/>
                </a:cubicBezTo>
                <a:cubicBezTo>
                  <a:pt x="14477" y="8616"/>
                  <a:pt x="14459" y="8650"/>
                  <a:pt x="14387" y="8657"/>
                </a:cubicBezTo>
                <a:cubicBezTo>
                  <a:pt x="14343" y="8661"/>
                  <a:pt x="14295" y="8654"/>
                  <a:pt x="14263" y="8632"/>
                </a:cubicBezTo>
                <a:cubicBezTo>
                  <a:pt x="14230" y="8610"/>
                  <a:pt x="14238" y="8592"/>
                  <a:pt x="14238" y="8558"/>
                </a:cubicBezTo>
              </a:path>
              <a:path w="4168" h="795">
                <a:moveTo>
                  <a:pt x="14784" y="8012"/>
                </a:moveTo>
                <a:cubicBezTo>
                  <a:pt x="14842" y="8037"/>
                  <a:pt x="14868" y="8037"/>
                  <a:pt x="14932" y="8037"/>
                </a:cubicBezTo>
                <a:cubicBezTo>
                  <a:pt x="15005" y="8037"/>
                  <a:pt x="15040" y="8029"/>
                  <a:pt x="15106" y="8012"/>
                </a:cubicBezTo>
                <a:cubicBezTo>
                  <a:pt x="15114" y="8012"/>
                  <a:pt x="15123" y="8012"/>
                  <a:pt x="15131" y="8012"/>
                </a:cubicBezTo>
              </a:path>
              <a:path w="4168" h="795">
                <a:moveTo>
                  <a:pt x="14759" y="8037"/>
                </a:moveTo>
                <a:cubicBezTo>
                  <a:pt x="14716" y="8130"/>
                  <a:pt x="14709" y="8128"/>
                  <a:pt x="14709" y="8210"/>
                </a:cubicBezTo>
                <a:cubicBezTo>
                  <a:pt x="14709" y="8235"/>
                  <a:pt x="14709" y="8243"/>
                  <a:pt x="14709" y="8260"/>
                </a:cubicBezTo>
                <a:cubicBezTo>
                  <a:pt x="14759" y="8260"/>
                  <a:pt x="14768" y="8249"/>
                  <a:pt x="14808" y="8235"/>
                </a:cubicBezTo>
                <a:cubicBezTo>
                  <a:pt x="14843" y="8223"/>
                  <a:pt x="14873" y="8197"/>
                  <a:pt x="14908" y="8186"/>
                </a:cubicBezTo>
                <a:cubicBezTo>
                  <a:pt x="14949" y="8173"/>
                  <a:pt x="15003" y="8213"/>
                  <a:pt x="15032" y="8235"/>
                </a:cubicBezTo>
                <a:cubicBezTo>
                  <a:pt x="15071" y="8265"/>
                  <a:pt x="15094" y="8313"/>
                  <a:pt x="15106" y="8359"/>
                </a:cubicBezTo>
                <a:cubicBezTo>
                  <a:pt x="15127" y="8444"/>
                  <a:pt x="15109" y="8456"/>
                  <a:pt x="15081" y="8533"/>
                </a:cubicBezTo>
                <a:cubicBezTo>
                  <a:pt x="15067" y="8570"/>
                  <a:pt x="15004" y="8616"/>
                  <a:pt x="14957" y="8632"/>
                </a:cubicBezTo>
                <a:cubicBezTo>
                  <a:pt x="14922" y="8644"/>
                  <a:pt x="14869" y="8653"/>
                  <a:pt x="14833" y="8657"/>
                </a:cubicBezTo>
                <a:cubicBezTo>
                  <a:pt x="14818" y="8659"/>
                  <a:pt x="14726" y="8632"/>
                  <a:pt x="14784" y="8632"/>
                </a:cubicBezTo>
                <a:cubicBezTo>
                  <a:pt x="14792" y="8632"/>
                  <a:pt x="14800" y="8632"/>
                  <a:pt x="14808" y="8632"/>
                </a:cubicBezTo>
              </a:path>
              <a:path w="4168" h="795">
                <a:moveTo>
                  <a:pt x="15751" y="7987"/>
                </a:moveTo>
                <a:cubicBezTo>
                  <a:pt x="15751" y="8076"/>
                  <a:pt x="15737" y="8153"/>
                  <a:pt x="15726" y="8235"/>
                </a:cubicBezTo>
                <a:cubicBezTo>
                  <a:pt x="15711" y="8352"/>
                  <a:pt x="15686" y="8626"/>
                  <a:pt x="15751" y="8731"/>
                </a:cubicBezTo>
                <a:cubicBezTo>
                  <a:pt x="15751" y="8723"/>
                  <a:pt x="15751" y="8714"/>
                  <a:pt x="15751" y="8706"/>
                </a:cubicBezTo>
              </a:path>
              <a:path w="4168" h="795">
                <a:moveTo>
                  <a:pt x="15478" y="8285"/>
                </a:moveTo>
                <a:cubicBezTo>
                  <a:pt x="15560" y="8285"/>
                  <a:pt x="15625" y="8297"/>
                  <a:pt x="15701" y="8310"/>
                </a:cubicBezTo>
                <a:cubicBezTo>
                  <a:pt x="15789" y="8325"/>
                  <a:pt x="15886" y="8322"/>
                  <a:pt x="15974" y="8334"/>
                </a:cubicBezTo>
                <a:cubicBezTo>
                  <a:pt x="16011" y="8339"/>
                  <a:pt x="16061" y="8334"/>
                  <a:pt x="16098" y="8334"/>
                </a:cubicBezTo>
              </a:path>
              <a:path w="4168" h="795">
                <a:moveTo>
                  <a:pt x="16321" y="8285"/>
                </a:moveTo>
                <a:cubicBezTo>
                  <a:pt x="16269" y="8285"/>
                  <a:pt x="16259" y="8297"/>
                  <a:pt x="16222" y="8334"/>
                </a:cubicBezTo>
                <a:cubicBezTo>
                  <a:pt x="16158" y="8397"/>
                  <a:pt x="16091" y="8454"/>
                  <a:pt x="16049" y="8533"/>
                </a:cubicBezTo>
                <a:cubicBezTo>
                  <a:pt x="16009" y="8609"/>
                  <a:pt x="16028" y="8644"/>
                  <a:pt x="16049" y="8706"/>
                </a:cubicBezTo>
                <a:cubicBezTo>
                  <a:pt x="16062" y="8744"/>
                  <a:pt x="16078" y="8731"/>
                  <a:pt x="16123" y="8731"/>
                </a:cubicBezTo>
                <a:cubicBezTo>
                  <a:pt x="16150" y="8731"/>
                  <a:pt x="16206" y="8705"/>
                  <a:pt x="16222" y="8682"/>
                </a:cubicBezTo>
                <a:cubicBezTo>
                  <a:pt x="16252" y="8638"/>
                  <a:pt x="16284" y="8584"/>
                  <a:pt x="16297" y="8533"/>
                </a:cubicBezTo>
                <a:cubicBezTo>
                  <a:pt x="16302" y="8513"/>
                  <a:pt x="16297" y="8373"/>
                  <a:pt x="16297" y="8434"/>
                </a:cubicBezTo>
                <a:cubicBezTo>
                  <a:pt x="16297" y="8495"/>
                  <a:pt x="16306" y="8531"/>
                  <a:pt x="16321" y="8582"/>
                </a:cubicBezTo>
                <a:cubicBezTo>
                  <a:pt x="16335" y="8630"/>
                  <a:pt x="16366" y="8664"/>
                  <a:pt x="16421" y="8682"/>
                </a:cubicBezTo>
                <a:cubicBezTo>
                  <a:pt x="16472" y="8699"/>
                  <a:pt x="16468" y="8694"/>
                  <a:pt x="16520" y="8682"/>
                </a:cubicBezTo>
              </a:path>
              <a:path w="4168" h="795">
                <a:moveTo>
                  <a:pt x="16570" y="8409"/>
                </a:moveTo>
                <a:cubicBezTo>
                  <a:pt x="16570" y="8539"/>
                  <a:pt x="16555" y="8554"/>
                  <a:pt x="16545" y="8657"/>
                </a:cubicBezTo>
                <a:cubicBezTo>
                  <a:pt x="16542" y="8688"/>
                  <a:pt x="16563" y="8702"/>
                  <a:pt x="16570" y="8731"/>
                </a:cubicBezTo>
                <a:cubicBezTo>
                  <a:pt x="16580" y="8678"/>
                  <a:pt x="16594" y="8638"/>
                  <a:pt x="16594" y="8582"/>
                </a:cubicBezTo>
                <a:cubicBezTo>
                  <a:pt x="16594" y="8519"/>
                  <a:pt x="16609" y="8482"/>
                  <a:pt x="16619" y="8434"/>
                </a:cubicBezTo>
                <a:cubicBezTo>
                  <a:pt x="16627" y="8395"/>
                  <a:pt x="16639" y="8325"/>
                  <a:pt x="16694" y="8310"/>
                </a:cubicBezTo>
                <a:cubicBezTo>
                  <a:pt x="16767" y="8289"/>
                  <a:pt x="16807" y="8281"/>
                  <a:pt x="16867" y="8334"/>
                </a:cubicBezTo>
                <a:cubicBezTo>
                  <a:pt x="16923" y="8384"/>
                  <a:pt x="16926" y="8444"/>
                  <a:pt x="16942" y="8508"/>
                </a:cubicBezTo>
                <a:cubicBezTo>
                  <a:pt x="16961" y="8581"/>
                  <a:pt x="16966" y="8631"/>
                  <a:pt x="16966" y="8706"/>
                </a:cubicBezTo>
                <a:cubicBezTo>
                  <a:pt x="16966" y="8751"/>
                  <a:pt x="17001" y="8783"/>
                  <a:pt x="16966" y="8731"/>
                </a:cubicBezTo>
              </a:path>
              <a:path w="4168" h="795">
                <a:moveTo>
                  <a:pt x="17115" y="8062"/>
                </a:moveTo>
                <a:cubicBezTo>
                  <a:pt x="17202" y="8014"/>
                  <a:pt x="17220" y="8012"/>
                  <a:pt x="17314" y="8012"/>
                </a:cubicBezTo>
                <a:cubicBezTo>
                  <a:pt x="17355" y="8012"/>
                  <a:pt x="17460" y="8005"/>
                  <a:pt x="17487" y="8037"/>
                </a:cubicBezTo>
                <a:cubicBezTo>
                  <a:pt x="17515" y="8071"/>
                  <a:pt x="17457" y="8140"/>
                  <a:pt x="17438" y="8161"/>
                </a:cubicBezTo>
                <a:cubicBezTo>
                  <a:pt x="17407" y="8196"/>
                  <a:pt x="17355" y="8243"/>
                  <a:pt x="17314" y="8260"/>
                </a:cubicBezTo>
                <a:cubicBezTo>
                  <a:pt x="17271" y="8277"/>
                  <a:pt x="17280" y="8237"/>
                  <a:pt x="17264" y="8285"/>
                </a:cubicBezTo>
                <a:cubicBezTo>
                  <a:pt x="17315" y="8272"/>
                  <a:pt x="17327" y="8260"/>
                  <a:pt x="17388" y="8260"/>
                </a:cubicBezTo>
                <a:cubicBezTo>
                  <a:pt x="17429" y="8260"/>
                  <a:pt x="17494" y="8293"/>
                  <a:pt x="17512" y="8334"/>
                </a:cubicBezTo>
                <a:cubicBezTo>
                  <a:pt x="17541" y="8398"/>
                  <a:pt x="17523" y="8409"/>
                  <a:pt x="17512" y="8458"/>
                </a:cubicBezTo>
                <a:cubicBezTo>
                  <a:pt x="17498" y="8524"/>
                  <a:pt x="17488" y="8532"/>
                  <a:pt x="17438" y="8582"/>
                </a:cubicBezTo>
                <a:cubicBezTo>
                  <a:pt x="17425" y="8595"/>
                  <a:pt x="17309" y="8635"/>
                  <a:pt x="17289" y="8632"/>
                </a:cubicBezTo>
                <a:cubicBezTo>
                  <a:pt x="17245" y="8625"/>
                  <a:pt x="17181" y="8649"/>
                  <a:pt x="17165" y="8607"/>
                </a:cubicBezTo>
                <a:cubicBezTo>
                  <a:pt x="17190" y="8582"/>
                  <a:pt x="17198" y="8574"/>
                  <a:pt x="17214" y="8558"/>
                </a:cubicBezTo>
              </a:path>
              <a:path w="4168" h="795">
                <a:moveTo>
                  <a:pt x="17785" y="8186"/>
                </a:moveTo>
                <a:cubicBezTo>
                  <a:pt x="17738" y="8286"/>
                  <a:pt x="17681" y="8398"/>
                  <a:pt x="17661" y="8508"/>
                </a:cubicBezTo>
                <a:cubicBezTo>
                  <a:pt x="17651" y="8564"/>
                  <a:pt x="17652" y="8640"/>
                  <a:pt x="17686" y="8682"/>
                </a:cubicBezTo>
                <a:cubicBezTo>
                  <a:pt x="17743" y="8752"/>
                  <a:pt x="17783" y="8742"/>
                  <a:pt x="17859" y="8731"/>
                </a:cubicBezTo>
                <a:cubicBezTo>
                  <a:pt x="17920" y="8722"/>
                  <a:pt x="17971" y="8685"/>
                  <a:pt x="18008" y="8632"/>
                </a:cubicBezTo>
                <a:cubicBezTo>
                  <a:pt x="18063" y="8554"/>
                  <a:pt x="18060" y="8467"/>
                  <a:pt x="18083" y="8384"/>
                </a:cubicBezTo>
                <a:cubicBezTo>
                  <a:pt x="18103" y="8313"/>
                  <a:pt x="18112" y="8282"/>
                  <a:pt x="18083" y="8210"/>
                </a:cubicBezTo>
                <a:cubicBezTo>
                  <a:pt x="18064" y="8162"/>
                  <a:pt x="17988" y="8099"/>
                  <a:pt x="17934" y="8086"/>
                </a:cubicBezTo>
                <a:cubicBezTo>
                  <a:pt x="17892" y="8086"/>
                  <a:pt x="17884" y="8086"/>
                  <a:pt x="17859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70000" y="3679920"/>
            <a:ext cx="536400" cy="401400"/>
          </a:xfrm>
          <a:custGeom>
            <a:avLst/>
            <a:gdLst/>
            <a:ahLst/>
            <a:rect l="l" t="t" r="r" b="b"/>
            <a:pathLst>
              <a:path w="1490" h="1117">
                <a:moveTo>
                  <a:pt x="3249" y="10592"/>
                </a:moveTo>
                <a:cubicBezTo>
                  <a:pt x="3354" y="10592"/>
                  <a:pt x="3456" y="10585"/>
                  <a:pt x="3547" y="10567"/>
                </a:cubicBezTo>
                <a:cubicBezTo>
                  <a:pt x="3611" y="10554"/>
                  <a:pt x="3837" y="10567"/>
                  <a:pt x="3820" y="10567"/>
                </a:cubicBezTo>
              </a:path>
              <a:path w="1490" h="1117">
                <a:moveTo>
                  <a:pt x="3249" y="10914"/>
                </a:moveTo>
                <a:cubicBezTo>
                  <a:pt x="3295" y="10914"/>
                  <a:pt x="3308" y="10936"/>
                  <a:pt x="3349" y="10939"/>
                </a:cubicBezTo>
                <a:cubicBezTo>
                  <a:pt x="3511" y="10951"/>
                  <a:pt x="3726" y="10963"/>
                  <a:pt x="3870" y="10914"/>
                </a:cubicBezTo>
                <a:cubicBezTo>
                  <a:pt x="3894" y="10914"/>
                  <a:pt x="3902" y="10914"/>
                  <a:pt x="3870" y="10914"/>
                </a:cubicBezTo>
              </a:path>
              <a:path w="1490" h="1117">
                <a:moveTo>
                  <a:pt x="4738" y="10220"/>
                </a:moveTo>
                <a:cubicBezTo>
                  <a:pt x="4728" y="10259"/>
                  <a:pt x="4713" y="10274"/>
                  <a:pt x="4713" y="10319"/>
                </a:cubicBezTo>
                <a:cubicBezTo>
                  <a:pt x="4713" y="10417"/>
                  <a:pt x="4717" y="10508"/>
                  <a:pt x="4688" y="10592"/>
                </a:cubicBezTo>
                <a:cubicBezTo>
                  <a:pt x="4676" y="10627"/>
                  <a:pt x="4695" y="10642"/>
                  <a:pt x="4713" y="10666"/>
                </a:cubicBezTo>
                <a:cubicBezTo>
                  <a:pt x="4666" y="10729"/>
                  <a:pt x="4736" y="10713"/>
                  <a:pt x="4713" y="10765"/>
                </a:cubicBezTo>
                <a:cubicBezTo>
                  <a:pt x="4705" y="10773"/>
                  <a:pt x="4696" y="10782"/>
                  <a:pt x="4688" y="10790"/>
                </a:cubicBezTo>
                <a:cubicBezTo>
                  <a:pt x="4726" y="10803"/>
                  <a:pt x="4713" y="10819"/>
                  <a:pt x="4713" y="10864"/>
                </a:cubicBezTo>
                <a:cubicBezTo>
                  <a:pt x="4713" y="11021"/>
                  <a:pt x="4713" y="11179"/>
                  <a:pt x="4713" y="11336"/>
                </a:cubicBezTo>
              </a:path>
              <a:path w="1490" h="1117">
                <a:moveTo>
                  <a:pt x="3919" y="10418"/>
                </a:moveTo>
                <a:cubicBezTo>
                  <a:pt x="4027" y="10418"/>
                  <a:pt x="4232" y="10456"/>
                  <a:pt x="4316" y="10393"/>
                </a:cubicBezTo>
                <a:cubicBezTo>
                  <a:pt x="4316" y="10418"/>
                  <a:pt x="4316" y="10426"/>
                  <a:pt x="4291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17800" y="3500280"/>
            <a:ext cx="741240" cy="581040"/>
          </a:xfrm>
          <a:custGeom>
            <a:avLst/>
            <a:gdLst/>
            <a:ahLst/>
            <a:rect l="l" t="t" r="r" b="b"/>
            <a:pathLst>
              <a:path w="2060" h="1614">
                <a:moveTo>
                  <a:pt x="5606" y="10691"/>
                </a:moveTo>
                <a:cubicBezTo>
                  <a:pt x="5645" y="10681"/>
                  <a:pt x="5660" y="10666"/>
                  <a:pt x="5705" y="10666"/>
                </a:cubicBezTo>
                <a:cubicBezTo>
                  <a:pt x="5785" y="10666"/>
                  <a:pt x="5854" y="10679"/>
                  <a:pt x="5928" y="10691"/>
                </a:cubicBezTo>
                <a:cubicBezTo>
                  <a:pt x="6053" y="10711"/>
                  <a:pt x="6197" y="10691"/>
                  <a:pt x="6325" y="10691"/>
                </a:cubicBezTo>
              </a:path>
              <a:path w="2060" h="1614">
                <a:moveTo>
                  <a:pt x="6945" y="10046"/>
                </a:moveTo>
                <a:cubicBezTo>
                  <a:pt x="6945" y="10187"/>
                  <a:pt x="6945" y="10559"/>
                  <a:pt x="6945" y="10418"/>
                </a:cubicBezTo>
                <a:cubicBezTo>
                  <a:pt x="6945" y="10356"/>
                  <a:pt x="6953" y="10319"/>
                  <a:pt x="6970" y="10269"/>
                </a:cubicBezTo>
                <a:cubicBezTo>
                  <a:pt x="6999" y="10181"/>
                  <a:pt x="6961" y="10046"/>
                  <a:pt x="6945" y="9971"/>
                </a:cubicBezTo>
                <a:cubicBezTo>
                  <a:pt x="6931" y="9905"/>
                  <a:pt x="6945" y="9816"/>
                  <a:pt x="6945" y="9748"/>
                </a:cubicBezTo>
                <a:cubicBezTo>
                  <a:pt x="7106" y="9748"/>
                  <a:pt x="7263" y="9743"/>
                  <a:pt x="7417" y="9723"/>
                </a:cubicBezTo>
                <a:cubicBezTo>
                  <a:pt x="7457" y="9718"/>
                  <a:pt x="7680" y="9723"/>
                  <a:pt x="7640" y="9723"/>
                </a:cubicBezTo>
              </a:path>
              <a:path w="2060" h="1614">
                <a:moveTo>
                  <a:pt x="7119" y="9971"/>
                </a:moveTo>
                <a:cubicBezTo>
                  <a:pt x="7177" y="9947"/>
                  <a:pt x="7208" y="9927"/>
                  <a:pt x="7268" y="9922"/>
                </a:cubicBezTo>
                <a:cubicBezTo>
                  <a:pt x="7328" y="9917"/>
                  <a:pt x="7396" y="9912"/>
                  <a:pt x="7441" y="9947"/>
                </a:cubicBezTo>
                <a:cubicBezTo>
                  <a:pt x="7426" y="10007"/>
                  <a:pt x="7396" y="10014"/>
                  <a:pt x="7367" y="10071"/>
                </a:cubicBezTo>
                <a:cubicBezTo>
                  <a:pt x="7351" y="10103"/>
                  <a:pt x="7305" y="10127"/>
                  <a:pt x="7293" y="10145"/>
                </a:cubicBezTo>
                <a:cubicBezTo>
                  <a:pt x="7275" y="10173"/>
                  <a:pt x="7213" y="10180"/>
                  <a:pt x="7243" y="10195"/>
                </a:cubicBezTo>
                <a:cubicBezTo>
                  <a:pt x="7280" y="10214"/>
                  <a:pt x="7310" y="10174"/>
                  <a:pt x="7342" y="10170"/>
                </a:cubicBezTo>
                <a:cubicBezTo>
                  <a:pt x="7376" y="10166"/>
                  <a:pt x="7405" y="10179"/>
                  <a:pt x="7417" y="10195"/>
                </a:cubicBezTo>
                <a:cubicBezTo>
                  <a:pt x="7466" y="10263"/>
                  <a:pt x="7461" y="10259"/>
                  <a:pt x="7441" y="10319"/>
                </a:cubicBezTo>
                <a:cubicBezTo>
                  <a:pt x="7435" y="10338"/>
                  <a:pt x="7398" y="10379"/>
                  <a:pt x="7367" y="10393"/>
                </a:cubicBezTo>
                <a:cubicBezTo>
                  <a:pt x="7322" y="10413"/>
                  <a:pt x="7298" y="10418"/>
                  <a:pt x="7243" y="10418"/>
                </a:cubicBezTo>
                <a:cubicBezTo>
                  <a:pt x="7190" y="10418"/>
                  <a:pt x="7161" y="10412"/>
                  <a:pt x="7119" y="10443"/>
                </a:cubicBezTo>
              </a:path>
              <a:path w="2060" h="1614">
                <a:moveTo>
                  <a:pt x="6672" y="10517"/>
                </a:moveTo>
                <a:cubicBezTo>
                  <a:pt x="6774" y="10545"/>
                  <a:pt x="6799" y="10521"/>
                  <a:pt x="6896" y="10517"/>
                </a:cubicBezTo>
                <a:cubicBezTo>
                  <a:pt x="7110" y="10508"/>
                  <a:pt x="7327" y="10517"/>
                  <a:pt x="7541" y="10517"/>
                </a:cubicBezTo>
                <a:cubicBezTo>
                  <a:pt x="7506" y="10543"/>
                  <a:pt x="7510" y="10542"/>
                  <a:pt x="7466" y="10542"/>
                </a:cubicBezTo>
              </a:path>
              <a:path w="2060" h="1614">
                <a:moveTo>
                  <a:pt x="6970" y="10790"/>
                </a:moveTo>
                <a:cubicBezTo>
                  <a:pt x="7012" y="10759"/>
                  <a:pt x="7067" y="10744"/>
                  <a:pt x="7119" y="10740"/>
                </a:cubicBezTo>
                <a:cubicBezTo>
                  <a:pt x="7182" y="10735"/>
                  <a:pt x="7217" y="10748"/>
                  <a:pt x="7268" y="10765"/>
                </a:cubicBezTo>
                <a:cubicBezTo>
                  <a:pt x="7322" y="10783"/>
                  <a:pt x="7280" y="10815"/>
                  <a:pt x="7268" y="10864"/>
                </a:cubicBezTo>
                <a:cubicBezTo>
                  <a:pt x="7260" y="10896"/>
                  <a:pt x="7229" y="10947"/>
                  <a:pt x="7193" y="10964"/>
                </a:cubicBezTo>
                <a:cubicBezTo>
                  <a:pt x="7162" y="10978"/>
                  <a:pt x="7148" y="10984"/>
                  <a:pt x="7119" y="11013"/>
                </a:cubicBezTo>
                <a:cubicBezTo>
                  <a:pt x="7158" y="11003"/>
                  <a:pt x="7174" y="10988"/>
                  <a:pt x="7218" y="10988"/>
                </a:cubicBezTo>
                <a:cubicBezTo>
                  <a:pt x="7242" y="10988"/>
                  <a:pt x="7305" y="11014"/>
                  <a:pt x="7317" y="11038"/>
                </a:cubicBezTo>
                <a:cubicBezTo>
                  <a:pt x="7333" y="11070"/>
                  <a:pt x="7342" y="11097"/>
                  <a:pt x="7342" y="11137"/>
                </a:cubicBezTo>
                <a:cubicBezTo>
                  <a:pt x="7342" y="11172"/>
                  <a:pt x="7323" y="11240"/>
                  <a:pt x="7293" y="11261"/>
                </a:cubicBezTo>
                <a:cubicBezTo>
                  <a:pt x="7257" y="11286"/>
                  <a:pt x="7186" y="11307"/>
                  <a:pt x="7144" y="11311"/>
                </a:cubicBezTo>
                <a:cubicBezTo>
                  <a:pt x="7072" y="11318"/>
                  <a:pt x="7057" y="11321"/>
                  <a:pt x="6995" y="11311"/>
                </a:cubicBezTo>
                <a:cubicBezTo>
                  <a:pt x="6944" y="11302"/>
                  <a:pt x="6915" y="11301"/>
                  <a:pt x="6871" y="11286"/>
                </a:cubicBezTo>
                <a:cubicBezTo>
                  <a:pt x="6820" y="11269"/>
                  <a:pt x="6823" y="11285"/>
                  <a:pt x="6821" y="11286"/>
                </a:cubicBezTo>
                <a:cubicBezTo>
                  <a:pt x="6813" y="11286"/>
                  <a:pt x="6804" y="11286"/>
                  <a:pt x="6796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81120" y="3537000"/>
            <a:ext cx="2911680" cy="1428840"/>
          </a:xfrm>
          <a:custGeom>
            <a:avLst/>
            <a:gdLst/>
            <a:ahLst/>
            <a:rect l="l" t="t" r="r" b="b"/>
            <a:pathLst>
              <a:path w="8088" h="3969">
                <a:moveTo>
                  <a:pt x="4390" y="11708"/>
                </a:moveTo>
                <a:cubicBezTo>
                  <a:pt x="4624" y="11708"/>
                  <a:pt x="4857" y="11702"/>
                  <a:pt x="5085" y="11683"/>
                </a:cubicBezTo>
                <a:cubicBezTo>
                  <a:pt x="5182" y="11675"/>
                  <a:pt x="5266" y="11699"/>
                  <a:pt x="5358" y="11708"/>
                </a:cubicBezTo>
                <a:cubicBezTo>
                  <a:pt x="5538" y="11725"/>
                  <a:pt x="5725" y="11718"/>
                  <a:pt x="5904" y="11733"/>
                </a:cubicBezTo>
                <a:cubicBezTo>
                  <a:pt x="6043" y="11745"/>
                  <a:pt x="6186" y="11754"/>
                  <a:pt x="6325" y="11757"/>
                </a:cubicBezTo>
                <a:cubicBezTo>
                  <a:pt x="6477" y="11760"/>
                  <a:pt x="6619" y="11782"/>
                  <a:pt x="6772" y="11782"/>
                </a:cubicBezTo>
                <a:cubicBezTo>
                  <a:pt x="6914" y="11782"/>
                  <a:pt x="7050" y="11807"/>
                  <a:pt x="7193" y="11807"/>
                </a:cubicBezTo>
                <a:cubicBezTo>
                  <a:pt x="7327" y="11807"/>
                  <a:pt x="7454" y="11832"/>
                  <a:pt x="7590" y="11832"/>
                </a:cubicBezTo>
                <a:cubicBezTo>
                  <a:pt x="7726" y="11832"/>
                  <a:pt x="7859" y="11846"/>
                  <a:pt x="7987" y="11857"/>
                </a:cubicBezTo>
                <a:cubicBezTo>
                  <a:pt x="8087" y="11866"/>
                  <a:pt x="8102" y="11841"/>
                  <a:pt x="8111" y="11832"/>
                </a:cubicBezTo>
              </a:path>
              <a:path w="8088" h="3969">
                <a:moveTo>
                  <a:pt x="4738" y="12328"/>
                </a:moveTo>
                <a:cubicBezTo>
                  <a:pt x="4738" y="12311"/>
                  <a:pt x="4738" y="12295"/>
                  <a:pt x="4738" y="12278"/>
                </a:cubicBezTo>
                <a:cubicBezTo>
                  <a:pt x="4769" y="12321"/>
                  <a:pt x="4782" y="12346"/>
                  <a:pt x="4787" y="12402"/>
                </a:cubicBezTo>
                <a:cubicBezTo>
                  <a:pt x="4792" y="12460"/>
                  <a:pt x="4802" y="12497"/>
                  <a:pt x="4812" y="12551"/>
                </a:cubicBezTo>
                <a:cubicBezTo>
                  <a:pt x="4839" y="12702"/>
                  <a:pt x="4820" y="12905"/>
                  <a:pt x="4787" y="13047"/>
                </a:cubicBezTo>
                <a:cubicBezTo>
                  <a:pt x="4778" y="13087"/>
                  <a:pt x="4769" y="13138"/>
                  <a:pt x="4762" y="13171"/>
                </a:cubicBezTo>
                <a:cubicBezTo>
                  <a:pt x="4755" y="13205"/>
                  <a:pt x="4764" y="13289"/>
                  <a:pt x="4787" y="13221"/>
                </a:cubicBezTo>
              </a:path>
              <a:path w="8088" h="3969">
                <a:moveTo>
                  <a:pt x="5705" y="12378"/>
                </a:moveTo>
                <a:cubicBezTo>
                  <a:pt x="5743" y="12390"/>
                  <a:pt x="5730" y="12407"/>
                  <a:pt x="5730" y="12452"/>
                </a:cubicBezTo>
                <a:cubicBezTo>
                  <a:pt x="5730" y="12613"/>
                  <a:pt x="5729" y="12770"/>
                  <a:pt x="5755" y="12923"/>
                </a:cubicBezTo>
                <a:cubicBezTo>
                  <a:pt x="5764" y="12978"/>
                  <a:pt x="5776" y="13044"/>
                  <a:pt x="5779" y="13097"/>
                </a:cubicBezTo>
                <a:cubicBezTo>
                  <a:pt x="5782" y="13150"/>
                  <a:pt x="5828" y="13198"/>
                  <a:pt x="5804" y="13246"/>
                </a:cubicBezTo>
                <a:cubicBezTo>
                  <a:pt x="5796" y="13246"/>
                  <a:pt x="5787" y="13246"/>
                  <a:pt x="5779" y="13246"/>
                </a:cubicBezTo>
              </a:path>
              <a:path w="8088" h="3969">
                <a:moveTo>
                  <a:pt x="5482" y="12824"/>
                </a:moveTo>
                <a:cubicBezTo>
                  <a:pt x="5549" y="12824"/>
                  <a:pt x="5594" y="12839"/>
                  <a:pt x="5655" y="12849"/>
                </a:cubicBezTo>
                <a:cubicBezTo>
                  <a:pt x="5753" y="12865"/>
                  <a:pt x="5865" y="12856"/>
                  <a:pt x="5953" y="12874"/>
                </a:cubicBezTo>
                <a:cubicBezTo>
                  <a:pt x="6020" y="12888"/>
                  <a:pt x="6106" y="12874"/>
                  <a:pt x="6176" y="12874"/>
                </a:cubicBezTo>
              </a:path>
              <a:path w="8088" h="3969">
                <a:moveTo>
                  <a:pt x="6548" y="12055"/>
                </a:moveTo>
                <a:cubicBezTo>
                  <a:pt x="6548" y="12091"/>
                  <a:pt x="6542" y="12128"/>
                  <a:pt x="6524" y="12154"/>
                </a:cubicBezTo>
                <a:cubicBezTo>
                  <a:pt x="6475" y="12228"/>
                  <a:pt x="6472" y="12260"/>
                  <a:pt x="6449" y="12353"/>
                </a:cubicBezTo>
                <a:cubicBezTo>
                  <a:pt x="6436" y="12405"/>
                  <a:pt x="6382" y="12494"/>
                  <a:pt x="6400" y="12551"/>
                </a:cubicBezTo>
                <a:cubicBezTo>
                  <a:pt x="6416" y="12602"/>
                  <a:pt x="6435" y="12655"/>
                  <a:pt x="6449" y="12700"/>
                </a:cubicBezTo>
                <a:cubicBezTo>
                  <a:pt x="6460" y="12738"/>
                  <a:pt x="6471" y="12768"/>
                  <a:pt x="6499" y="12799"/>
                </a:cubicBezTo>
                <a:cubicBezTo>
                  <a:pt x="6521" y="12821"/>
                  <a:pt x="6526" y="12830"/>
                  <a:pt x="6548" y="12824"/>
                </a:cubicBezTo>
              </a:path>
              <a:path w="8088" h="3969">
                <a:moveTo>
                  <a:pt x="6623" y="12526"/>
                </a:moveTo>
                <a:cubicBezTo>
                  <a:pt x="6697" y="12526"/>
                  <a:pt x="6772" y="12526"/>
                  <a:pt x="6846" y="12526"/>
                </a:cubicBezTo>
              </a:path>
              <a:path w="8088" h="3969">
                <a:moveTo>
                  <a:pt x="7020" y="12254"/>
                </a:moveTo>
                <a:cubicBezTo>
                  <a:pt x="7020" y="12398"/>
                  <a:pt x="7017" y="12546"/>
                  <a:pt x="7045" y="12675"/>
                </a:cubicBezTo>
                <a:cubicBezTo>
                  <a:pt x="7057" y="12733"/>
                  <a:pt x="7023" y="12734"/>
                  <a:pt x="7069" y="12750"/>
                </a:cubicBezTo>
              </a:path>
              <a:path w="8088" h="3969">
                <a:moveTo>
                  <a:pt x="7045" y="12055"/>
                </a:moveTo>
                <a:cubicBezTo>
                  <a:pt x="7115" y="12062"/>
                  <a:pt x="7151" y="12064"/>
                  <a:pt x="7193" y="12129"/>
                </a:cubicBezTo>
                <a:cubicBezTo>
                  <a:pt x="7236" y="12197"/>
                  <a:pt x="7267" y="12278"/>
                  <a:pt x="7293" y="12353"/>
                </a:cubicBezTo>
                <a:cubicBezTo>
                  <a:pt x="7317" y="12424"/>
                  <a:pt x="7338" y="12503"/>
                  <a:pt x="7342" y="12576"/>
                </a:cubicBezTo>
                <a:cubicBezTo>
                  <a:pt x="7345" y="12632"/>
                  <a:pt x="7323" y="12726"/>
                  <a:pt x="7293" y="12774"/>
                </a:cubicBezTo>
                <a:cubicBezTo>
                  <a:pt x="7272" y="12809"/>
                  <a:pt x="7215" y="12907"/>
                  <a:pt x="7193" y="12923"/>
                </a:cubicBezTo>
                <a:cubicBezTo>
                  <a:pt x="7164" y="12944"/>
                  <a:pt x="7152" y="12957"/>
                  <a:pt x="7119" y="12973"/>
                </a:cubicBezTo>
                <a:cubicBezTo>
                  <a:pt x="7094" y="12973"/>
                  <a:pt x="7086" y="12973"/>
                  <a:pt x="7069" y="12973"/>
                </a:cubicBezTo>
              </a:path>
              <a:path w="8088" h="3969">
                <a:moveTo>
                  <a:pt x="7516" y="12526"/>
                </a:moveTo>
                <a:cubicBezTo>
                  <a:pt x="7546" y="12576"/>
                  <a:pt x="7541" y="12613"/>
                  <a:pt x="7541" y="12675"/>
                </a:cubicBezTo>
                <a:cubicBezTo>
                  <a:pt x="7541" y="12747"/>
                  <a:pt x="7565" y="12761"/>
                  <a:pt x="7565" y="12824"/>
                </a:cubicBezTo>
                <a:cubicBezTo>
                  <a:pt x="7529" y="12811"/>
                  <a:pt x="7541" y="12794"/>
                  <a:pt x="7541" y="12750"/>
                </a:cubicBezTo>
                <a:cubicBezTo>
                  <a:pt x="7541" y="12606"/>
                  <a:pt x="7535" y="12465"/>
                  <a:pt x="7565" y="12328"/>
                </a:cubicBezTo>
                <a:cubicBezTo>
                  <a:pt x="7573" y="12292"/>
                  <a:pt x="7570" y="12259"/>
                  <a:pt x="7590" y="12229"/>
                </a:cubicBezTo>
                <a:cubicBezTo>
                  <a:pt x="7632" y="12166"/>
                  <a:pt x="7625" y="12186"/>
                  <a:pt x="7689" y="12154"/>
                </a:cubicBezTo>
                <a:cubicBezTo>
                  <a:pt x="7729" y="12134"/>
                  <a:pt x="7761" y="12108"/>
                  <a:pt x="7813" y="12105"/>
                </a:cubicBezTo>
                <a:cubicBezTo>
                  <a:pt x="7882" y="12101"/>
                  <a:pt x="7930" y="12097"/>
                  <a:pt x="7987" y="12080"/>
                </a:cubicBezTo>
                <a:cubicBezTo>
                  <a:pt x="8004" y="12075"/>
                  <a:pt x="8124" y="12080"/>
                  <a:pt x="8062" y="12080"/>
                </a:cubicBezTo>
              </a:path>
              <a:path w="8088" h="3969">
                <a:moveTo>
                  <a:pt x="7714" y="12278"/>
                </a:moveTo>
                <a:cubicBezTo>
                  <a:pt x="7727" y="12316"/>
                  <a:pt x="7744" y="12303"/>
                  <a:pt x="7789" y="12303"/>
                </a:cubicBezTo>
                <a:cubicBezTo>
                  <a:pt x="7834" y="12303"/>
                  <a:pt x="7848" y="12282"/>
                  <a:pt x="7888" y="12278"/>
                </a:cubicBezTo>
                <a:cubicBezTo>
                  <a:pt x="7930" y="12273"/>
                  <a:pt x="7959" y="12317"/>
                  <a:pt x="7962" y="12353"/>
                </a:cubicBezTo>
                <a:cubicBezTo>
                  <a:pt x="7964" y="12386"/>
                  <a:pt x="7947" y="12460"/>
                  <a:pt x="7913" y="12477"/>
                </a:cubicBezTo>
                <a:cubicBezTo>
                  <a:pt x="7872" y="12498"/>
                  <a:pt x="7851" y="12501"/>
                  <a:pt x="7838" y="12551"/>
                </a:cubicBezTo>
                <a:cubicBezTo>
                  <a:pt x="7898" y="12551"/>
                  <a:pt x="7967" y="12536"/>
                  <a:pt x="8012" y="12576"/>
                </a:cubicBezTo>
                <a:cubicBezTo>
                  <a:pt x="8045" y="12605"/>
                  <a:pt x="8071" y="12605"/>
                  <a:pt x="8086" y="12650"/>
                </a:cubicBezTo>
                <a:cubicBezTo>
                  <a:pt x="8108" y="12719"/>
                  <a:pt x="8081" y="12755"/>
                  <a:pt x="8037" y="12799"/>
                </a:cubicBezTo>
                <a:cubicBezTo>
                  <a:pt x="8012" y="12824"/>
                  <a:pt x="7972" y="12845"/>
                  <a:pt x="7938" y="12849"/>
                </a:cubicBezTo>
                <a:cubicBezTo>
                  <a:pt x="7888" y="12855"/>
                  <a:pt x="7873" y="12874"/>
                  <a:pt x="7813" y="12874"/>
                </a:cubicBezTo>
                <a:cubicBezTo>
                  <a:pt x="7789" y="12874"/>
                  <a:pt x="7780" y="12874"/>
                  <a:pt x="7764" y="12874"/>
                </a:cubicBezTo>
              </a:path>
              <a:path w="8088" h="3969">
                <a:moveTo>
                  <a:pt x="7441" y="12923"/>
                </a:moveTo>
                <a:cubicBezTo>
                  <a:pt x="7540" y="12923"/>
                  <a:pt x="7622" y="12933"/>
                  <a:pt x="7714" y="12948"/>
                </a:cubicBezTo>
                <a:cubicBezTo>
                  <a:pt x="7839" y="12969"/>
                  <a:pt x="7984" y="12948"/>
                  <a:pt x="8111" y="12948"/>
                </a:cubicBezTo>
              </a:path>
              <a:path w="8088" h="3969">
                <a:moveTo>
                  <a:pt x="7689" y="13146"/>
                </a:moveTo>
                <a:cubicBezTo>
                  <a:pt x="7706" y="13198"/>
                  <a:pt x="7718" y="13151"/>
                  <a:pt x="7764" y="13146"/>
                </a:cubicBezTo>
                <a:cubicBezTo>
                  <a:pt x="7831" y="13139"/>
                  <a:pt x="7884" y="13153"/>
                  <a:pt x="7938" y="13171"/>
                </a:cubicBezTo>
                <a:cubicBezTo>
                  <a:pt x="7978" y="13185"/>
                  <a:pt x="8007" y="13198"/>
                  <a:pt x="8012" y="13246"/>
                </a:cubicBezTo>
                <a:cubicBezTo>
                  <a:pt x="8016" y="13278"/>
                  <a:pt x="7982" y="13322"/>
                  <a:pt x="7962" y="13345"/>
                </a:cubicBezTo>
                <a:cubicBezTo>
                  <a:pt x="7941" y="13369"/>
                  <a:pt x="7875" y="13377"/>
                  <a:pt x="7863" y="13395"/>
                </a:cubicBezTo>
                <a:cubicBezTo>
                  <a:pt x="7828" y="13446"/>
                  <a:pt x="7850" y="13398"/>
                  <a:pt x="7888" y="13419"/>
                </a:cubicBezTo>
                <a:cubicBezTo>
                  <a:pt x="7928" y="13441"/>
                  <a:pt x="7947" y="13485"/>
                  <a:pt x="7962" y="13519"/>
                </a:cubicBezTo>
                <a:cubicBezTo>
                  <a:pt x="7991" y="13585"/>
                  <a:pt x="8012" y="13592"/>
                  <a:pt x="8012" y="13667"/>
                </a:cubicBezTo>
                <a:cubicBezTo>
                  <a:pt x="8012" y="13698"/>
                  <a:pt x="7969" y="13753"/>
                  <a:pt x="7938" y="13767"/>
                </a:cubicBezTo>
                <a:cubicBezTo>
                  <a:pt x="7871" y="13797"/>
                  <a:pt x="7787" y="13791"/>
                  <a:pt x="7714" y="13791"/>
                </a:cubicBezTo>
                <a:cubicBezTo>
                  <a:pt x="7646" y="13791"/>
                  <a:pt x="7576" y="13804"/>
                  <a:pt x="7516" y="13767"/>
                </a:cubicBezTo>
                <a:cubicBezTo>
                  <a:pt x="7479" y="13745"/>
                  <a:pt x="7450" y="13703"/>
                  <a:pt x="7441" y="13667"/>
                </a:cubicBezTo>
              </a:path>
              <a:path w="8088" h="3969">
                <a:moveTo>
                  <a:pt x="8434" y="11658"/>
                </a:moveTo>
                <a:cubicBezTo>
                  <a:pt x="8526" y="11658"/>
                  <a:pt x="8597" y="11661"/>
                  <a:pt x="8682" y="11683"/>
                </a:cubicBezTo>
                <a:cubicBezTo>
                  <a:pt x="8690" y="11683"/>
                  <a:pt x="8698" y="11683"/>
                  <a:pt x="8706" y="11683"/>
                </a:cubicBezTo>
              </a:path>
              <a:path w="8088" h="3969">
                <a:moveTo>
                  <a:pt x="8384" y="11881"/>
                </a:moveTo>
                <a:cubicBezTo>
                  <a:pt x="8454" y="11890"/>
                  <a:pt x="8509" y="11906"/>
                  <a:pt x="8582" y="11906"/>
                </a:cubicBezTo>
                <a:cubicBezTo>
                  <a:pt x="8648" y="11906"/>
                  <a:pt x="8665" y="11906"/>
                  <a:pt x="8706" y="11906"/>
                </a:cubicBezTo>
              </a:path>
              <a:path w="8088" h="3969">
                <a:moveTo>
                  <a:pt x="9079" y="10492"/>
                </a:moveTo>
                <a:cubicBezTo>
                  <a:pt x="9176" y="10492"/>
                  <a:pt x="9260" y="10502"/>
                  <a:pt x="9351" y="10517"/>
                </a:cubicBezTo>
                <a:cubicBezTo>
                  <a:pt x="9465" y="10536"/>
                  <a:pt x="9692" y="10625"/>
                  <a:pt x="9649" y="10517"/>
                </a:cubicBezTo>
                <a:cubicBezTo>
                  <a:pt x="9649" y="10492"/>
                  <a:pt x="9649" y="10484"/>
                  <a:pt x="9674" y="10492"/>
                </a:cubicBezTo>
              </a:path>
              <a:path w="8088" h="3969">
                <a:moveTo>
                  <a:pt x="9922" y="9922"/>
                </a:moveTo>
                <a:cubicBezTo>
                  <a:pt x="9987" y="9884"/>
                  <a:pt x="10028" y="9869"/>
                  <a:pt x="10096" y="9847"/>
                </a:cubicBezTo>
                <a:cubicBezTo>
                  <a:pt x="10166" y="9824"/>
                  <a:pt x="10202" y="9823"/>
                  <a:pt x="10269" y="9847"/>
                </a:cubicBezTo>
                <a:cubicBezTo>
                  <a:pt x="10301" y="9858"/>
                  <a:pt x="10381" y="9881"/>
                  <a:pt x="10393" y="9922"/>
                </a:cubicBezTo>
                <a:cubicBezTo>
                  <a:pt x="10411" y="9985"/>
                  <a:pt x="10379" y="10019"/>
                  <a:pt x="10344" y="10046"/>
                </a:cubicBezTo>
                <a:cubicBezTo>
                  <a:pt x="10310" y="10073"/>
                  <a:pt x="10274" y="10100"/>
                  <a:pt x="10244" y="10120"/>
                </a:cubicBezTo>
                <a:cubicBezTo>
                  <a:pt x="10214" y="10140"/>
                  <a:pt x="10137" y="10154"/>
                  <a:pt x="10170" y="10170"/>
                </a:cubicBezTo>
                <a:cubicBezTo>
                  <a:pt x="10247" y="10209"/>
                  <a:pt x="10277" y="10154"/>
                  <a:pt x="10368" y="10220"/>
                </a:cubicBezTo>
                <a:cubicBezTo>
                  <a:pt x="10423" y="10260"/>
                  <a:pt x="10463" y="10304"/>
                  <a:pt x="10468" y="10368"/>
                </a:cubicBezTo>
                <a:cubicBezTo>
                  <a:pt x="10473" y="10428"/>
                  <a:pt x="10455" y="10418"/>
                  <a:pt x="10418" y="10443"/>
                </a:cubicBezTo>
                <a:cubicBezTo>
                  <a:pt x="10384" y="10466"/>
                  <a:pt x="10331" y="10485"/>
                  <a:pt x="10294" y="10492"/>
                </a:cubicBezTo>
                <a:cubicBezTo>
                  <a:pt x="10234" y="10504"/>
                  <a:pt x="10158" y="10492"/>
                  <a:pt x="10096" y="10492"/>
                </a:cubicBezTo>
              </a:path>
              <a:path w="8088" h="3969">
                <a:moveTo>
                  <a:pt x="9823" y="10691"/>
                </a:moveTo>
                <a:cubicBezTo>
                  <a:pt x="9893" y="10700"/>
                  <a:pt x="9948" y="10716"/>
                  <a:pt x="10021" y="10716"/>
                </a:cubicBezTo>
                <a:cubicBezTo>
                  <a:pt x="10117" y="10716"/>
                  <a:pt x="10198" y="10740"/>
                  <a:pt x="10294" y="10740"/>
                </a:cubicBezTo>
                <a:cubicBezTo>
                  <a:pt x="10315" y="10740"/>
                  <a:pt x="10567" y="10748"/>
                  <a:pt x="10492" y="10716"/>
                </a:cubicBezTo>
                <a:cubicBezTo>
                  <a:pt x="10484" y="10716"/>
                  <a:pt x="10476" y="10716"/>
                  <a:pt x="10468" y="10716"/>
                </a:cubicBezTo>
              </a:path>
              <a:path w="8088" h="3969">
                <a:moveTo>
                  <a:pt x="9947" y="10988"/>
                </a:moveTo>
                <a:cubicBezTo>
                  <a:pt x="9966" y="11027"/>
                  <a:pt x="9977" y="10978"/>
                  <a:pt x="10021" y="10964"/>
                </a:cubicBezTo>
                <a:cubicBezTo>
                  <a:pt x="10057" y="10953"/>
                  <a:pt x="10109" y="10943"/>
                  <a:pt x="10145" y="10939"/>
                </a:cubicBezTo>
                <a:cubicBezTo>
                  <a:pt x="10171" y="10936"/>
                  <a:pt x="10233" y="10948"/>
                  <a:pt x="10244" y="10964"/>
                </a:cubicBezTo>
                <a:cubicBezTo>
                  <a:pt x="10273" y="11008"/>
                  <a:pt x="10262" y="10983"/>
                  <a:pt x="10244" y="11038"/>
                </a:cubicBezTo>
                <a:cubicBezTo>
                  <a:pt x="10226" y="11093"/>
                  <a:pt x="10192" y="11068"/>
                  <a:pt x="10170" y="11112"/>
                </a:cubicBezTo>
                <a:cubicBezTo>
                  <a:pt x="10153" y="11146"/>
                  <a:pt x="10138" y="11173"/>
                  <a:pt x="10096" y="11187"/>
                </a:cubicBezTo>
                <a:cubicBezTo>
                  <a:pt x="10088" y="11187"/>
                  <a:pt x="10079" y="11187"/>
                  <a:pt x="10071" y="11187"/>
                </a:cubicBezTo>
                <a:cubicBezTo>
                  <a:pt x="10121" y="11225"/>
                  <a:pt x="10167" y="11187"/>
                  <a:pt x="10220" y="11212"/>
                </a:cubicBezTo>
                <a:cubicBezTo>
                  <a:pt x="10260" y="11230"/>
                  <a:pt x="10309" y="11254"/>
                  <a:pt x="10344" y="11286"/>
                </a:cubicBezTo>
                <a:cubicBezTo>
                  <a:pt x="10370" y="11310"/>
                  <a:pt x="10415" y="11371"/>
                  <a:pt x="10393" y="11410"/>
                </a:cubicBezTo>
                <a:cubicBezTo>
                  <a:pt x="10375" y="11443"/>
                  <a:pt x="10355" y="11486"/>
                  <a:pt x="10319" y="11509"/>
                </a:cubicBezTo>
                <a:cubicBezTo>
                  <a:pt x="10264" y="11544"/>
                  <a:pt x="10207" y="11534"/>
                  <a:pt x="10145" y="11534"/>
                </a:cubicBezTo>
                <a:cubicBezTo>
                  <a:pt x="10088" y="11534"/>
                  <a:pt x="10049" y="11514"/>
                  <a:pt x="9996" y="11509"/>
                </a:cubicBezTo>
                <a:cubicBezTo>
                  <a:pt x="9937" y="11503"/>
                  <a:pt x="9927" y="11475"/>
                  <a:pt x="9947" y="11435"/>
                </a:cubicBezTo>
              </a:path>
              <a:path w="8088" h="3969">
                <a:moveTo>
                  <a:pt x="11038" y="10840"/>
                </a:moveTo>
                <a:cubicBezTo>
                  <a:pt x="11154" y="10840"/>
                  <a:pt x="11269" y="10840"/>
                  <a:pt x="11385" y="10840"/>
                </a:cubicBezTo>
              </a:path>
              <a:path w="8088" h="3969">
                <a:moveTo>
                  <a:pt x="11881" y="10294"/>
                </a:moveTo>
                <a:cubicBezTo>
                  <a:pt x="11856" y="10354"/>
                  <a:pt x="11857" y="10378"/>
                  <a:pt x="11857" y="10443"/>
                </a:cubicBezTo>
                <a:cubicBezTo>
                  <a:pt x="11857" y="10523"/>
                  <a:pt x="11861" y="10575"/>
                  <a:pt x="11881" y="10616"/>
                </a:cubicBezTo>
                <a:cubicBezTo>
                  <a:pt x="11902" y="10659"/>
                  <a:pt x="11881" y="10597"/>
                  <a:pt x="11881" y="10567"/>
                </a:cubicBezTo>
                <a:cubicBezTo>
                  <a:pt x="11881" y="10437"/>
                  <a:pt x="11888" y="10320"/>
                  <a:pt x="11906" y="10195"/>
                </a:cubicBezTo>
                <a:cubicBezTo>
                  <a:pt x="11916" y="10129"/>
                  <a:pt x="11915" y="10084"/>
                  <a:pt x="11931" y="10021"/>
                </a:cubicBezTo>
                <a:cubicBezTo>
                  <a:pt x="11943" y="9974"/>
                  <a:pt x="11974" y="9947"/>
                  <a:pt x="12005" y="9922"/>
                </a:cubicBezTo>
                <a:cubicBezTo>
                  <a:pt x="12055" y="9883"/>
                  <a:pt x="12117" y="9857"/>
                  <a:pt x="12179" y="9847"/>
                </a:cubicBezTo>
                <a:cubicBezTo>
                  <a:pt x="12265" y="9833"/>
                  <a:pt x="12364" y="9847"/>
                  <a:pt x="12452" y="9847"/>
                </a:cubicBezTo>
              </a:path>
              <a:path w="8088" h="3969">
                <a:moveTo>
                  <a:pt x="12055" y="10170"/>
                </a:moveTo>
                <a:cubicBezTo>
                  <a:pt x="12068" y="10131"/>
                  <a:pt x="12094" y="10143"/>
                  <a:pt x="12129" y="10120"/>
                </a:cubicBezTo>
                <a:cubicBezTo>
                  <a:pt x="12172" y="10092"/>
                  <a:pt x="12202" y="10096"/>
                  <a:pt x="12254" y="10096"/>
                </a:cubicBezTo>
                <a:cubicBezTo>
                  <a:pt x="12330" y="10096"/>
                  <a:pt x="12321" y="10122"/>
                  <a:pt x="12353" y="10170"/>
                </a:cubicBezTo>
                <a:cubicBezTo>
                  <a:pt x="12378" y="10208"/>
                  <a:pt x="12362" y="10231"/>
                  <a:pt x="12328" y="10269"/>
                </a:cubicBezTo>
                <a:cubicBezTo>
                  <a:pt x="12293" y="10308"/>
                  <a:pt x="12240" y="10321"/>
                  <a:pt x="12204" y="10344"/>
                </a:cubicBezTo>
                <a:cubicBezTo>
                  <a:pt x="12196" y="10352"/>
                  <a:pt x="12187" y="10360"/>
                  <a:pt x="12179" y="10368"/>
                </a:cubicBezTo>
                <a:cubicBezTo>
                  <a:pt x="12237" y="10368"/>
                  <a:pt x="12273" y="10380"/>
                  <a:pt x="12328" y="10393"/>
                </a:cubicBezTo>
                <a:cubicBezTo>
                  <a:pt x="12380" y="10405"/>
                  <a:pt x="12397" y="10436"/>
                  <a:pt x="12402" y="10492"/>
                </a:cubicBezTo>
                <a:cubicBezTo>
                  <a:pt x="12406" y="10535"/>
                  <a:pt x="12406" y="10560"/>
                  <a:pt x="12378" y="10592"/>
                </a:cubicBezTo>
                <a:cubicBezTo>
                  <a:pt x="12341" y="10633"/>
                  <a:pt x="12281" y="10616"/>
                  <a:pt x="12229" y="10616"/>
                </a:cubicBezTo>
                <a:cubicBezTo>
                  <a:pt x="12156" y="10616"/>
                  <a:pt x="12122" y="10624"/>
                  <a:pt x="12055" y="10641"/>
                </a:cubicBezTo>
                <a:cubicBezTo>
                  <a:pt x="12047" y="10641"/>
                  <a:pt x="12038" y="10641"/>
                  <a:pt x="12030" y="10641"/>
                </a:cubicBezTo>
              </a:path>
              <a:path w="8088" h="3969">
                <a:moveTo>
                  <a:pt x="11733" y="10790"/>
                </a:moveTo>
                <a:cubicBezTo>
                  <a:pt x="11788" y="10790"/>
                  <a:pt x="11825" y="10813"/>
                  <a:pt x="11881" y="10815"/>
                </a:cubicBezTo>
                <a:cubicBezTo>
                  <a:pt x="11996" y="10819"/>
                  <a:pt x="12093" y="10828"/>
                  <a:pt x="12204" y="10840"/>
                </a:cubicBezTo>
                <a:cubicBezTo>
                  <a:pt x="12257" y="10846"/>
                  <a:pt x="12480" y="10840"/>
                  <a:pt x="12452" y="10840"/>
                </a:cubicBezTo>
              </a:path>
              <a:path w="8088" h="3969">
                <a:moveTo>
                  <a:pt x="12005" y="11088"/>
                </a:moveTo>
                <a:cubicBezTo>
                  <a:pt x="12005" y="11096"/>
                  <a:pt x="12005" y="11104"/>
                  <a:pt x="12005" y="11112"/>
                </a:cubicBezTo>
                <a:cubicBezTo>
                  <a:pt x="12051" y="11097"/>
                  <a:pt x="12030" y="11088"/>
                  <a:pt x="12105" y="11088"/>
                </a:cubicBezTo>
                <a:cubicBezTo>
                  <a:pt x="12151" y="11088"/>
                  <a:pt x="12216" y="11053"/>
                  <a:pt x="12254" y="11063"/>
                </a:cubicBezTo>
                <a:cubicBezTo>
                  <a:pt x="12320" y="11081"/>
                  <a:pt x="12308" y="11088"/>
                  <a:pt x="12378" y="11088"/>
                </a:cubicBezTo>
                <a:cubicBezTo>
                  <a:pt x="12378" y="11134"/>
                  <a:pt x="12384" y="11152"/>
                  <a:pt x="12353" y="11187"/>
                </a:cubicBezTo>
                <a:cubicBezTo>
                  <a:pt x="12321" y="11222"/>
                  <a:pt x="12250" y="11271"/>
                  <a:pt x="12204" y="11286"/>
                </a:cubicBezTo>
                <a:cubicBezTo>
                  <a:pt x="12196" y="11286"/>
                  <a:pt x="12187" y="11286"/>
                  <a:pt x="12179" y="11286"/>
                </a:cubicBezTo>
                <a:cubicBezTo>
                  <a:pt x="12191" y="11322"/>
                  <a:pt x="12215" y="11319"/>
                  <a:pt x="12254" y="11336"/>
                </a:cubicBezTo>
                <a:cubicBezTo>
                  <a:pt x="12323" y="11366"/>
                  <a:pt x="12358" y="11407"/>
                  <a:pt x="12402" y="11460"/>
                </a:cubicBezTo>
                <a:cubicBezTo>
                  <a:pt x="12426" y="11489"/>
                  <a:pt x="12447" y="11543"/>
                  <a:pt x="12427" y="11584"/>
                </a:cubicBezTo>
                <a:cubicBezTo>
                  <a:pt x="12410" y="11618"/>
                  <a:pt x="12394" y="11655"/>
                  <a:pt x="12353" y="11658"/>
                </a:cubicBezTo>
                <a:cubicBezTo>
                  <a:pt x="12278" y="11663"/>
                  <a:pt x="12259" y="11662"/>
                  <a:pt x="12179" y="11658"/>
                </a:cubicBezTo>
                <a:cubicBezTo>
                  <a:pt x="12108" y="11654"/>
                  <a:pt x="12071" y="11650"/>
                  <a:pt x="12005" y="11633"/>
                </a:cubicBezTo>
                <a:cubicBezTo>
                  <a:pt x="11955" y="11633"/>
                  <a:pt x="11921" y="11639"/>
                  <a:pt x="11881" y="116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5240" y="5089680"/>
            <a:ext cx="2463840" cy="1331640"/>
          </a:xfrm>
          <a:custGeom>
            <a:avLst/>
            <a:gdLst/>
            <a:ahLst/>
            <a:rect l="l" t="t" r="r" b="b"/>
            <a:pathLst>
              <a:path w="6847" h="3697">
                <a:moveTo>
                  <a:pt x="2257" y="15280"/>
                </a:moveTo>
                <a:cubicBezTo>
                  <a:pt x="2316" y="15304"/>
                  <a:pt x="2367" y="15326"/>
                  <a:pt x="2431" y="15329"/>
                </a:cubicBezTo>
                <a:cubicBezTo>
                  <a:pt x="2512" y="15333"/>
                  <a:pt x="2577" y="15350"/>
                  <a:pt x="2654" y="15354"/>
                </a:cubicBezTo>
                <a:cubicBezTo>
                  <a:pt x="2703" y="15357"/>
                  <a:pt x="2754" y="15354"/>
                  <a:pt x="2803" y="15354"/>
                </a:cubicBezTo>
              </a:path>
              <a:path w="6847" h="3697">
                <a:moveTo>
                  <a:pt x="2952" y="14709"/>
                </a:moveTo>
                <a:cubicBezTo>
                  <a:pt x="3042" y="14653"/>
                  <a:pt x="3152" y="14551"/>
                  <a:pt x="3274" y="14585"/>
                </a:cubicBezTo>
                <a:cubicBezTo>
                  <a:pt x="3338" y="14603"/>
                  <a:pt x="3401" y="14645"/>
                  <a:pt x="3423" y="14709"/>
                </a:cubicBezTo>
                <a:cubicBezTo>
                  <a:pt x="3443" y="14769"/>
                  <a:pt x="3410" y="14830"/>
                  <a:pt x="3398" y="14883"/>
                </a:cubicBezTo>
                <a:cubicBezTo>
                  <a:pt x="3390" y="14919"/>
                  <a:pt x="3360" y="14959"/>
                  <a:pt x="3324" y="14982"/>
                </a:cubicBezTo>
                <a:cubicBezTo>
                  <a:pt x="3279" y="15011"/>
                  <a:pt x="3239" y="15025"/>
                  <a:pt x="3200" y="15056"/>
                </a:cubicBezTo>
                <a:cubicBezTo>
                  <a:pt x="3260" y="15056"/>
                  <a:pt x="3293" y="15054"/>
                  <a:pt x="3349" y="15081"/>
                </a:cubicBezTo>
                <a:cubicBezTo>
                  <a:pt x="3414" y="15112"/>
                  <a:pt x="3458" y="15162"/>
                  <a:pt x="3497" y="15230"/>
                </a:cubicBezTo>
                <a:cubicBezTo>
                  <a:pt x="3539" y="15303"/>
                  <a:pt x="3544" y="15349"/>
                  <a:pt x="3522" y="15429"/>
                </a:cubicBezTo>
                <a:cubicBezTo>
                  <a:pt x="3500" y="15509"/>
                  <a:pt x="3472" y="15516"/>
                  <a:pt x="3398" y="15553"/>
                </a:cubicBezTo>
                <a:cubicBezTo>
                  <a:pt x="3324" y="15590"/>
                  <a:pt x="3282" y="15602"/>
                  <a:pt x="3200" y="15602"/>
                </a:cubicBezTo>
                <a:cubicBezTo>
                  <a:pt x="3177" y="15602"/>
                  <a:pt x="3113" y="15577"/>
                  <a:pt x="3101" y="15553"/>
                </a:cubicBezTo>
                <a:cubicBezTo>
                  <a:pt x="3080" y="15511"/>
                  <a:pt x="3125" y="15478"/>
                  <a:pt x="3150" y="15453"/>
                </a:cubicBezTo>
              </a:path>
              <a:path w="6847" h="3697">
                <a:moveTo>
                  <a:pt x="3696" y="15205"/>
                </a:moveTo>
                <a:cubicBezTo>
                  <a:pt x="3787" y="15205"/>
                  <a:pt x="3878" y="15205"/>
                  <a:pt x="3969" y="15205"/>
                </a:cubicBezTo>
              </a:path>
              <a:path w="6847" h="3697">
                <a:moveTo>
                  <a:pt x="4217" y="14908"/>
                </a:moveTo>
                <a:cubicBezTo>
                  <a:pt x="4244" y="14951"/>
                  <a:pt x="4257" y="15027"/>
                  <a:pt x="4266" y="15081"/>
                </a:cubicBezTo>
                <a:cubicBezTo>
                  <a:pt x="4291" y="15234"/>
                  <a:pt x="4269" y="15403"/>
                  <a:pt x="4291" y="15553"/>
                </a:cubicBezTo>
                <a:cubicBezTo>
                  <a:pt x="4293" y="15564"/>
                  <a:pt x="4291" y="15669"/>
                  <a:pt x="4291" y="15602"/>
                </a:cubicBezTo>
                <a:cubicBezTo>
                  <a:pt x="4291" y="15417"/>
                  <a:pt x="4292" y="15236"/>
                  <a:pt x="4266" y="15056"/>
                </a:cubicBezTo>
                <a:cubicBezTo>
                  <a:pt x="4256" y="14990"/>
                  <a:pt x="4245" y="14923"/>
                  <a:pt x="4242" y="14858"/>
                </a:cubicBezTo>
                <a:cubicBezTo>
                  <a:pt x="4238" y="14785"/>
                  <a:pt x="4237" y="14720"/>
                  <a:pt x="4266" y="14684"/>
                </a:cubicBezTo>
                <a:cubicBezTo>
                  <a:pt x="4298" y="14644"/>
                  <a:pt x="4344" y="14662"/>
                  <a:pt x="4390" y="14660"/>
                </a:cubicBezTo>
                <a:cubicBezTo>
                  <a:pt x="4605" y="14650"/>
                  <a:pt x="4826" y="14655"/>
                  <a:pt x="5035" y="14684"/>
                </a:cubicBezTo>
                <a:cubicBezTo>
                  <a:pt x="5092" y="14692"/>
                  <a:pt x="5149" y="14663"/>
                  <a:pt x="5209" y="14660"/>
                </a:cubicBezTo>
                <a:cubicBezTo>
                  <a:pt x="5234" y="14659"/>
                  <a:pt x="5258" y="14660"/>
                  <a:pt x="5283" y="14660"/>
                </a:cubicBezTo>
              </a:path>
              <a:path w="6847" h="3697">
                <a:moveTo>
                  <a:pt x="4688" y="14932"/>
                </a:moveTo>
                <a:cubicBezTo>
                  <a:pt x="4729" y="14915"/>
                  <a:pt x="4775" y="14895"/>
                  <a:pt x="4812" y="14883"/>
                </a:cubicBezTo>
                <a:cubicBezTo>
                  <a:pt x="4867" y="14865"/>
                  <a:pt x="4944" y="14886"/>
                  <a:pt x="4986" y="14908"/>
                </a:cubicBezTo>
                <a:cubicBezTo>
                  <a:pt x="5027" y="14930"/>
                  <a:pt x="5095" y="14984"/>
                  <a:pt x="5085" y="15032"/>
                </a:cubicBezTo>
                <a:cubicBezTo>
                  <a:pt x="5077" y="15072"/>
                  <a:pt x="5040" y="15141"/>
                  <a:pt x="5011" y="15180"/>
                </a:cubicBezTo>
                <a:cubicBezTo>
                  <a:pt x="4989" y="15210"/>
                  <a:pt x="4943" y="15244"/>
                  <a:pt x="4911" y="15255"/>
                </a:cubicBezTo>
                <a:cubicBezTo>
                  <a:pt x="4883" y="15255"/>
                  <a:pt x="4873" y="15258"/>
                  <a:pt x="4862" y="15280"/>
                </a:cubicBezTo>
                <a:cubicBezTo>
                  <a:pt x="4898" y="15271"/>
                  <a:pt x="4918" y="15246"/>
                  <a:pt x="4961" y="15255"/>
                </a:cubicBezTo>
                <a:cubicBezTo>
                  <a:pt x="5046" y="15273"/>
                  <a:pt x="5184" y="15273"/>
                  <a:pt x="5209" y="15379"/>
                </a:cubicBezTo>
                <a:cubicBezTo>
                  <a:pt x="5222" y="15435"/>
                  <a:pt x="5236" y="15495"/>
                  <a:pt x="5209" y="15553"/>
                </a:cubicBezTo>
                <a:cubicBezTo>
                  <a:pt x="5183" y="15609"/>
                  <a:pt x="5140" y="15649"/>
                  <a:pt x="5085" y="15677"/>
                </a:cubicBezTo>
                <a:cubicBezTo>
                  <a:pt x="5036" y="15702"/>
                  <a:pt x="4983" y="15741"/>
                  <a:pt x="4936" y="15751"/>
                </a:cubicBezTo>
                <a:cubicBezTo>
                  <a:pt x="4863" y="15766"/>
                  <a:pt x="4803" y="15738"/>
                  <a:pt x="4738" y="15726"/>
                </a:cubicBezTo>
                <a:cubicBezTo>
                  <a:pt x="4721" y="15726"/>
                  <a:pt x="4705" y="15726"/>
                  <a:pt x="4688" y="15726"/>
                </a:cubicBezTo>
              </a:path>
              <a:path w="6847" h="3697">
                <a:moveTo>
                  <a:pt x="2952" y="15925"/>
                </a:moveTo>
                <a:cubicBezTo>
                  <a:pt x="3408" y="15925"/>
                  <a:pt x="3861" y="15926"/>
                  <a:pt x="4316" y="15949"/>
                </a:cubicBezTo>
                <a:cubicBezTo>
                  <a:pt x="4459" y="15956"/>
                  <a:pt x="4598" y="15962"/>
                  <a:pt x="4738" y="15974"/>
                </a:cubicBezTo>
                <a:cubicBezTo>
                  <a:pt x="4840" y="15983"/>
                  <a:pt x="4936" y="15988"/>
                  <a:pt x="5035" y="15999"/>
                </a:cubicBezTo>
                <a:cubicBezTo>
                  <a:pt x="5093" y="16006"/>
                  <a:pt x="5101" y="15999"/>
                  <a:pt x="5159" y="15999"/>
                </a:cubicBezTo>
              </a:path>
              <a:path w="6847" h="3697">
                <a:moveTo>
                  <a:pt x="2902" y="16470"/>
                </a:moveTo>
                <a:cubicBezTo>
                  <a:pt x="2944" y="16440"/>
                  <a:pt x="2971" y="16446"/>
                  <a:pt x="3026" y="16446"/>
                </a:cubicBezTo>
                <a:cubicBezTo>
                  <a:pt x="3074" y="16446"/>
                  <a:pt x="3135" y="16446"/>
                  <a:pt x="3175" y="16470"/>
                </a:cubicBezTo>
                <a:cubicBezTo>
                  <a:pt x="3217" y="16495"/>
                  <a:pt x="3226" y="16533"/>
                  <a:pt x="3274" y="16545"/>
                </a:cubicBezTo>
                <a:cubicBezTo>
                  <a:pt x="3243" y="16586"/>
                  <a:pt x="3238" y="16593"/>
                  <a:pt x="3200" y="16619"/>
                </a:cubicBezTo>
                <a:cubicBezTo>
                  <a:pt x="3167" y="16641"/>
                  <a:pt x="3125" y="16637"/>
                  <a:pt x="3101" y="16669"/>
                </a:cubicBezTo>
                <a:cubicBezTo>
                  <a:pt x="3085" y="16689"/>
                  <a:pt x="3085" y="16692"/>
                  <a:pt x="3076" y="16718"/>
                </a:cubicBezTo>
                <a:cubicBezTo>
                  <a:pt x="3099" y="16726"/>
                  <a:pt x="3144" y="16749"/>
                  <a:pt x="3175" y="16768"/>
                </a:cubicBezTo>
                <a:cubicBezTo>
                  <a:pt x="3223" y="16797"/>
                  <a:pt x="3243" y="16851"/>
                  <a:pt x="3274" y="16892"/>
                </a:cubicBezTo>
                <a:cubicBezTo>
                  <a:pt x="3296" y="16922"/>
                  <a:pt x="3320" y="16974"/>
                  <a:pt x="3299" y="17016"/>
                </a:cubicBezTo>
                <a:cubicBezTo>
                  <a:pt x="3275" y="17063"/>
                  <a:pt x="3213" y="17087"/>
                  <a:pt x="3175" y="17115"/>
                </a:cubicBezTo>
                <a:cubicBezTo>
                  <a:pt x="3112" y="17163"/>
                  <a:pt x="3080" y="17165"/>
                  <a:pt x="3001" y="17165"/>
                </a:cubicBezTo>
                <a:cubicBezTo>
                  <a:pt x="2968" y="17165"/>
                  <a:pt x="2935" y="17165"/>
                  <a:pt x="2902" y="17165"/>
                </a:cubicBezTo>
                <a:cubicBezTo>
                  <a:pt x="2902" y="17116"/>
                  <a:pt x="2910" y="17097"/>
                  <a:pt x="2952" y="17066"/>
                </a:cubicBezTo>
                <a:cubicBezTo>
                  <a:pt x="2977" y="17049"/>
                  <a:pt x="3001" y="17033"/>
                  <a:pt x="3026" y="17016"/>
                </a:cubicBezTo>
              </a:path>
              <a:path w="6847" h="3697">
                <a:moveTo>
                  <a:pt x="3646" y="16793"/>
                </a:moveTo>
                <a:cubicBezTo>
                  <a:pt x="3742" y="16793"/>
                  <a:pt x="3807" y="16803"/>
                  <a:pt x="3894" y="16818"/>
                </a:cubicBezTo>
                <a:cubicBezTo>
                  <a:pt x="3948" y="16827"/>
                  <a:pt x="4039" y="16797"/>
                  <a:pt x="4093" y="16793"/>
                </a:cubicBezTo>
              </a:path>
              <a:path w="6847" h="3697">
                <a:moveTo>
                  <a:pt x="4415" y="16619"/>
                </a:moveTo>
                <a:cubicBezTo>
                  <a:pt x="4415" y="16790"/>
                  <a:pt x="4354" y="17122"/>
                  <a:pt x="4440" y="17264"/>
                </a:cubicBezTo>
                <a:cubicBezTo>
                  <a:pt x="4440" y="17214"/>
                  <a:pt x="4440" y="17215"/>
                  <a:pt x="4440" y="17165"/>
                </a:cubicBezTo>
                <a:cubicBezTo>
                  <a:pt x="4440" y="17077"/>
                  <a:pt x="4424" y="17001"/>
                  <a:pt x="4415" y="16917"/>
                </a:cubicBezTo>
                <a:cubicBezTo>
                  <a:pt x="4402" y="16796"/>
                  <a:pt x="4400" y="16663"/>
                  <a:pt x="4390" y="16545"/>
                </a:cubicBezTo>
                <a:cubicBezTo>
                  <a:pt x="4386" y="16492"/>
                  <a:pt x="4349" y="16358"/>
                  <a:pt x="4366" y="16297"/>
                </a:cubicBezTo>
                <a:cubicBezTo>
                  <a:pt x="4371" y="16278"/>
                  <a:pt x="4410" y="16225"/>
                  <a:pt x="4415" y="16222"/>
                </a:cubicBezTo>
                <a:cubicBezTo>
                  <a:pt x="4467" y="16185"/>
                  <a:pt x="4528" y="16197"/>
                  <a:pt x="4589" y="16197"/>
                </a:cubicBezTo>
                <a:cubicBezTo>
                  <a:pt x="4663" y="16197"/>
                  <a:pt x="4717" y="16218"/>
                  <a:pt x="4787" y="16222"/>
                </a:cubicBezTo>
                <a:cubicBezTo>
                  <a:pt x="4884" y="16227"/>
                  <a:pt x="5004" y="16238"/>
                  <a:pt x="5085" y="16197"/>
                </a:cubicBezTo>
              </a:path>
              <a:path w="6847" h="3697">
                <a:moveTo>
                  <a:pt x="4787" y="16470"/>
                </a:moveTo>
                <a:cubicBezTo>
                  <a:pt x="4846" y="16514"/>
                  <a:pt x="4831" y="16482"/>
                  <a:pt x="4887" y="16470"/>
                </a:cubicBezTo>
                <a:cubicBezTo>
                  <a:pt x="4933" y="16460"/>
                  <a:pt x="4979" y="16466"/>
                  <a:pt x="5011" y="16495"/>
                </a:cubicBezTo>
                <a:cubicBezTo>
                  <a:pt x="5045" y="16526"/>
                  <a:pt x="5100" y="16548"/>
                  <a:pt x="5110" y="16594"/>
                </a:cubicBezTo>
                <a:cubicBezTo>
                  <a:pt x="5123" y="16655"/>
                  <a:pt x="5100" y="16700"/>
                  <a:pt x="5060" y="16743"/>
                </a:cubicBezTo>
                <a:cubicBezTo>
                  <a:pt x="4999" y="16809"/>
                  <a:pt x="4944" y="16821"/>
                  <a:pt x="4887" y="16867"/>
                </a:cubicBezTo>
                <a:cubicBezTo>
                  <a:pt x="4853" y="16895"/>
                  <a:pt x="4855" y="16892"/>
                  <a:pt x="4812" y="16892"/>
                </a:cubicBezTo>
                <a:cubicBezTo>
                  <a:pt x="4818" y="16911"/>
                  <a:pt x="4857" y="16936"/>
                  <a:pt x="4887" y="16942"/>
                </a:cubicBezTo>
                <a:cubicBezTo>
                  <a:pt x="4962" y="16958"/>
                  <a:pt x="4974" y="16959"/>
                  <a:pt x="5035" y="17016"/>
                </a:cubicBezTo>
                <a:cubicBezTo>
                  <a:pt x="5089" y="17066"/>
                  <a:pt x="5117" y="17128"/>
                  <a:pt x="5135" y="17190"/>
                </a:cubicBezTo>
                <a:cubicBezTo>
                  <a:pt x="5162" y="17281"/>
                  <a:pt x="5167" y="17312"/>
                  <a:pt x="5110" y="17388"/>
                </a:cubicBezTo>
                <a:cubicBezTo>
                  <a:pt x="5068" y="17444"/>
                  <a:pt x="5042" y="17442"/>
                  <a:pt x="4986" y="17462"/>
                </a:cubicBezTo>
                <a:cubicBezTo>
                  <a:pt x="4906" y="17490"/>
                  <a:pt x="4903" y="17484"/>
                  <a:pt x="4837" y="17462"/>
                </a:cubicBezTo>
                <a:cubicBezTo>
                  <a:pt x="4788" y="17446"/>
                  <a:pt x="4760" y="17450"/>
                  <a:pt x="4713" y="17413"/>
                </a:cubicBezTo>
              </a:path>
              <a:path w="6847" h="3697">
                <a:moveTo>
                  <a:pt x="5631" y="15925"/>
                </a:moveTo>
                <a:cubicBezTo>
                  <a:pt x="5889" y="15925"/>
                  <a:pt x="6144" y="15932"/>
                  <a:pt x="6400" y="15949"/>
                </a:cubicBezTo>
                <a:cubicBezTo>
                  <a:pt x="6878" y="15981"/>
                  <a:pt x="7391" y="15967"/>
                  <a:pt x="7863" y="15925"/>
                </a:cubicBezTo>
                <a:cubicBezTo>
                  <a:pt x="7963" y="15916"/>
                  <a:pt x="8074" y="15913"/>
                  <a:pt x="8161" y="15900"/>
                </a:cubicBezTo>
                <a:cubicBezTo>
                  <a:pt x="8191" y="15896"/>
                  <a:pt x="8229" y="15900"/>
                  <a:pt x="8260" y="15900"/>
                </a:cubicBezTo>
              </a:path>
              <a:path w="6847" h="3697">
                <a:moveTo>
                  <a:pt x="6127" y="16520"/>
                </a:moveTo>
                <a:cubicBezTo>
                  <a:pt x="6171" y="16487"/>
                  <a:pt x="6193" y="16495"/>
                  <a:pt x="6251" y="16495"/>
                </a:cubicBezTo>
                <a:cubicBezTo>
                  <a:pt x="6318" y="16495"/>
                  <a:pt x="6362" y="16492"/>
                  <a:pt x="6424" y="16520"/>
                </a:cubicBezTo>
                <a:cubicBezTo>
                  <a:pt x="6483" y="16546"/>
                  <a:pt x="6519" y="16577"/>
                  <a:pt x="6524" y="16644"/>
                </a:cubicBezTo>
                <a:cubicBezTo>
                  <a:pt x="6529" y="16723"/>
                  <a:pt x="6436" y="16756"/>
                  <a:pt x="6375" y="16793"/>
                </a:cubicBezTo>
                <a:cubicBezTo>
                  <a:pt x="6319" y="16826"/>
                  <a:pt x="6275" y="16807"/>
                  <a:pt x="6226" y="16842"/>
                </a:cubicBezTo>
                <a:cubicBezTo>
                  <a:pt x="6273" y="16842"/>
                  <a:pt x="6289" y="16859"/>
                  <a:pt x="6325" y="16867"/>
                </a:cubicBezTo>
                <a:cubicBezTo>
                  <a:pt x="6420" y="16887"/>
                  <a:pt x="6381" y="16908"/>
                  <a:pt x="6449" y="16966"/>
                </a:cubicBezTo>
                <a:cubicBezTo>
                  <a:pt x="6511" y="17018"/>
                  <a:pt x="6517" y="17072"/>
                  <a:pt x="6524" y="17165"/>
                </a:cubicBezTo>
                <a:cubicBezTo>
                  <a:pt x="6529" y="17234"/>
                  <a:pt x="6521" y="17265"/>
                  <a:pt x="6449" y="17289"/>
                </a:cubicBezTo>
                <a:cubicBezTo>
                  <a:pt x="6382" y="17311"/>
                  <a:pt x="6288" y="17291"/>
                  <a:pt x="6226" y="17264"/>
                </a:cubicBezTo>
                <a:cubicBezTo>
                  <a:pt x="6194" y="17250"/>
                  <a:pt x="6089" y="17198"/>
                  <a:pt x="6077" y="17165"/>
                </a:cubicBezTo>
                <a:cubicBezTo>
                  <a:pt x="6061" y="17119"/>
                  <a:pt x="6079" y="17096"/>
                  <a:pt x="6102" y="17066"/>
                </a:cubicBezTo>
              </a:path>
              <a:path w="6847" h="3697">
                <a:moveTo>
                  <a:pt x="7020" y="16669"/>
                </a:moveTo>
                <a:cubicBezTo>
                  <a:pt x="6999" y="16773"/>
                  <a:pt x="6995" y="16860"/>
                  <a:pt x="6995" y="16966"/>
                </a:cubicBezTo>
                <a:cubicBezTo>
                  <a:pt x="6995" y="17058"/>
                  <a:pt x="7025" y="17130"/>
                  <a:pt x="7045" y="17214"/>
                </a:cubicBezTo>
                <a:cubicBezTo>
                  <a:pt x="7056" y="17261"/>
                  <a:pt x="7081" y="17321"/>
                  <a:pt x="7045" y="17264"/>
                </a:cubicBezTo>
              </a:path>
              <a:path w="6847" h="3697">
                <a:moveTo>
                  <a:pt x="6772" y="16867"/>
                </a:moveTo>
                <a:cubicBezTo>
                  <a:pt x="6884" y="16883"/>
                  <a:pt x="6978" y="16917"/>
                  <a:pt x="7094" y="16917"/>
                </a:cubicBezTo>
                <a:cubicBezTo>
                  <a:pt x="7111" y="16917"/>
                  <a:pt x="7127" y="16917"/>
                  <a:pt x="7144" y="16917"/>
                </a:cubicBezTo>
              </a:path>
              <a:path w="6847" h="3697">
                <a:moveTo>
                  <a:pt x="7342" y="16793"/>
                </a:moveTo>
                <a:cubicBezTo>
                  <a:pt x="7364" y="16874"/>
                  <a:pt x="7367" y="16933"/>
                  <a:pt x="7367" y="17016"/>
                </a:cubicBezTo>
                <a:cubicBezTo>
                  <a:pt x="7367" y="17097"/>
                  <a:pt x="7392" y="17157"/>
                  <a:pt x="7392" y="17239"/>
                </a:cubicBezTo>
                <a:cubicBezTo>
                  <a:pt x="7392" y="17247"/>
                  <a:pt x="7392" y="17256"/>
                  <a:pt x="7392" y="17264"/>
                </a:cubicBezTo>
                <a:cubicBezTo>
                  <a:pt x="7392" y="17333"/>
                  <a:pt x="7396" y="17178"/>
                  <a:pt x="7392" y="17165"/>
                </a:cubicBezTo>
                <a:cubicBezTo>
                  <a:pt x="7371" y="17089"/>
                  <a:pt x="7383" y="17019"/>
                  <a:pt x="7367" y="16942"/>
                </a:cubicBezTo>
                <a:cubicBezTo>
                  <a:pt x="7349" y="16854"/>
                  <a:pt x="7342" y="16786"/>
                  <a:pt x="7342" y="16694"/>
                </a:cubicBezTo>
                <a:cubicBezTo>
                  <a:pt x="7342" y="16629"/>
                  <a:pt x="7340" y="16550"/>
                  <a:pt x="7367" y="16495"/>
                </a:cubicBezTo>
                <a:cubicBezTo>
                  <a:pt x="7401" y="16427"/>
                  <a:pt x="7473" y="16400"/>
                  <a:pt x="7541" y="16396"/>
                </a:cubicBezTo>
                <a:cubicBezTo>
                  <a:pt x="7638" y="16391"/>
                  <a:pt x="7725" y="16431"/>
                  <a:pt x="7813" y="16446"/>
                </a:cubicBezTo>
                <a:cubicBezTo>
                  <a:pt x="7859" y="16454"/>
                  <a:pt x="7872" y="16460"/>
                  <a:pt x="7913" y="16470"/>
                </a:cubicBezTo>
              </a:path>
              <a:path w="6847" h="3697">
                <a:moveTo>
                  <a:pt x="7640" y="16694"/>
                </a:moveTo>
                <a:cubicBezTo>
                  <a:pt x="7697" y="16694"/>
                  <a:pt x="7736" y="16674"/>
                  <a:pt x="7789" y="16669"/>
                </a:cubicBezTo>
                <a:cubicBezTo>
                  <a:pt x="7839" y="16664"/>
                  <a:pt x="7891" y="16706"/>
                  <a:pt x="7938" y="16718"/>
                </a:cubicBezTo>
                <a:cubicBezTo>
                  <a:pt x="7970" y="16726"/>
                  <a:pt x="8020" y="16773"/>
                  <a:pt x="8012" y="16818"/>
                </a:cubicBezTo>
                <a:cubicBezTo>
                  <a:pt x="8007" y="16846"/>
                  <a:pt x="7942" y="16924"/>
                  <a:pt x="7913" y="16942"/>
                </a:cubicBezTo>
                <a:cubicBezTo>
                  <a:pt x="7867" y="16971"/>
                  <a:pt x="7828" y="16986"/>
                  <a:pt x="7789" y="17016"/>
                </a:cubicBezTo>
                <a:cubicBezTo>
                  <a:pt x="7832" y="17027"/>
                  <a:pt x="7855" y="17057"/>
                  <a:pt x="7888" y="17090"/>
                </a:cubicBezTo>
                <a:cubicBezTo>
                  <a:pt x="7925" y="17127"/>
                  <a:pt x="8003" y="17182"/>
                  <a:pt x="8012" y="17239"/>
                </a:cubicBezTo>
                <a:cubicBezTo>
                  <a:pt x="8024" y="17318"/>
                  <a:pt x="8004" y="17370"/>
                  <a:pt x="7938" y="17413"/>
                </a:cubicBezTo>
                <a:cubicBezTo>
                  <a:pt x="7871" y="17456"/>
                  <a:pt x="7756" y="17446"/>
                  <a:pt x="7689" y="17413"/>
                </a:cubicBezTo>
                <a:cubicBezTo>
                  <a:pt x="7640" y="17363"/>
                  <a:pt x="7624" y="17346"/>
                  <a:pt x="7590" y="17314"/>
                </a:cubicBezTo>
              </a:path>
              <a:path w="6847" h="3697">
                <a:moveTo>
                  <a:pt x="5655" y="14982"/>
                </a:moveTo>
                <a:cubicBezTo>
                  <a:pt x="5666" y="14949"/>
                  <a:pt x="5707" y="14935"/>
                  <a:pt x="5755" y="14932"/>
                </a:cubicBezTo>
                <a:cubicBezTo>
                  <a:pt x="5829" y="14927"/>
                  <a:pt x="5940" y="14969"/>
                  <a:pt x="6003" y="15007"/>
                </a:cubicBezTo>
                <a:cubicBezTo>
                  <a:pt x="6028" y="15022"/>
                  <a:pt x="6085" y="15103"/>
                  <a:pt x="6077" y="15131"/>
                </a:cubicBezTo>
                <a:cubicBezTo>
                  <a:pt x="6062" y="15183"/>
                  <a:pt x="6015" y="15218"/>
                  <a:pt x="5978" y="15255"/>
                </a:cubicBezTo>
                <a:cubicBezTo>
                  <a:pt x="5945" y="15288"/>
                  <a:pt x="5917" y="15277"/>
                  <a:pt x="5879" y="15304"/>
                </a:cubicBezTo>
                <a:cubicBezTo>
                  <a:pt x="5923" y="15331"/>
                  <a:pt x="5989" y="15328"/>
                  <a:pt x="6028" y="15354"/>
                </a:cubicBezTo>
                <a:cubicBezTo>
                  <a:pt x="6073" y="15383"/>
                  <a:pt x="6157" y="15481"/>
                  <a:pt x="6176" y="15528"/>
                </a:cubicBezTo>
                <a:cubicBezTo>
                  <a:pt x="6190" y="15563"/>
                  <a:pt x="6169" y="15626"/>
                  <a:pt x="6152" y="15652"/>
                </a:cubicBezTo>
                <a:cubicBezTo>
                  <a:pt x="6126" y="15691"/>
                  <a:pt x="6049" y="15720"/>
                  <a:pt x="6003" y="15701"/>
                </a:cubicBezTo>
                <a:cubicBezTo>
                  <a:pt x="5958" y="15683"/>
                  <a:pt x="5914" y="15637"/>
                  <a:pt x="5879" y="15602"/>
                </a:cubicBezTo>
              </a:path>
              <a:path w="6847" h="3697">
                <a:moveTo>
                  <a:pt x="6499" y="15106"/>
                </a:moveTo>
                <a:cubicBezTo>
                  <a:pt x="6525" y="15184"/>
                  <a:pt x="6563" y="15276"/>
                  <a:pt x="6573" y="15354"/>
                </a:cubicBezTo>
                <a:cubicBezTo>
                  <a:pt x="6582" y="15424"/>
                  <a:pt x="6598" y="15483"/>
                  <a:pt x="6598" y="15553"/>
                </a:cubicBezTo>
                <a:cubicBezTo>
                  <a:pt x="6598" y="15561"/>
                  <a:pt x="6598" y="15569"/>
                  <a:pt x="6598" y="15577"/>
                </a:cubicBezTo>
              </a:path>
              <a:path w="6847" h="3697">
                <a:moveTo>
                  <a:pt x="6300" y="15329"/>
                </a:moveTo>
                <a:cubicBezTo>
                  <a:pt x="6371" y="15298"/>
                  <a:pt x="6419" y="15304"/>
                  <a:pt x="6499" y="15304"/>
                </a:cubicBezTo>
                <a:cubicBezTo>
                  <a:pt x="6573" y="15304"/>
                  <a:pt x="6648" y="15304"/>
                  <a:pt x="6722" y="15304"/>
                </a:cubicBezTo>
              </a:path>
              <a:path w="6847" h="3697">
                <a:moveTo>
                  <a:pt x="6995" y="15205"/>
                </a:moveTo>
                <a:cubicBezTo>
                  <a:pt x="6995" y="15346"/>
                  <a:pt x="6982" y="15502"/>
                  <a:pt x="7020" y="15627"/>
                </a:cubicBezTo>
                <a:cubicBezTo>
                  <a:pt x="7038" y="15687"/>
                  <a:pt x="7023" y="15589"/>
                  <a:pt x="7020" y="15577"/>
                </a:cubicBezTo>
                <a:cubicBezTo>
                  <a:pt x="7001" y="15507"/>
                  <a:pt x="6995" y="15456"/>
                  <a:pt x="6995" y="15379"/>
                </a:cubicBezTo>
                <a:cubicBezTo>
                  <a:pt x="6995" y="15302"/>
                  <a:pt x="6957" y="15230"/>
                  <a:pt x="6945" y="15156"/>
                </a:cubicBezTo>
                <a:cubicBezTo>
                  <a:pt x="6933" y="15083"/>
                  <a:pt x="6925" y="15004"/>
                  <a:pt x="6921" y="14932"/>
                </a:cubicBezTo>
                <a:cubicBezTo>
                  <a:pt x="6917" y="14866"/>
                  <a:pt x="6910" y="14792"/>
                  <a:pt x="6945" y="14734"/>
                </a:cubicBezTo>
                <a:cubicBezTo>
                  <a:pt x="6967" y="14697"/>
                  <a:pt x="7031" y="14686"/>
                  <a:pt x="7069" y="14684"/>
                </a:cubicBezTo>
                <a:cubicBezTo>
                  <a:pt x="7144" y="14680"/>
                  <a:pt x="7223" y="14691"/>
                  <a:pt x="7293" y="14709"/>
                </a:cubicBezTo>
                <a:cubicBezTo>
                  <a:pt x="7365" y="14727"/>
                  <a:pt x="7444" y="14754"/>
                  <a:pt x="7516" y="14759"/>
                </a:cubicBezTo>
                <a:cubicBezTo>
                  <a:pt x="7560" y="14759"/>
                  <a:pt x="7574" y="14756"/>
                  <a:pt x="7590" y="14784"/>
                </a:cubicBezTo>
              </a:path>
              <a:path w="6847" h="3697">
                <a:moveTo>
                  <a:pt x="7293" y="14957"/>
                </a:moveTo>
                <a:cubicBezTo>
                  <a:pt x="7330" y="14986"/>
                  <a:pt x="7344" y="14982"/>
                  <a:pt x="7392" y="14982"/>
                </a:cubicBezTo>
                <a:cubicBezTo>
                  <a:pt x="7432" y="14982"/>
                  <a:pt x="7485" y="14988"/>
                  <a:pt x="7516" y="15007"/>
                </a:cubicBezTo>
                <a:cubicBezTo>
                  <a:pt x="7557" y="15032"/>
                  <a:pt x="7610" y="15086"/>
                  <a:pt x="7615" y="15131"/>
                </a:cubicBezTo>
                <a:cubicBezTo>
                  <a:pt x="7621" y="15185"/>
                  <a:pt x="7575" y="15221"/>
                  <a:pt x="7541" y="15255"/>
                </a:cubicBezTo>
                <a:cubicBezTo>
                  <a:pt x="7515" y="15281"/>
                  <a:pt x="7433" y="15288"/>
                  <a:pt x="7466" y="15304"/>
                </a:cubicBezTo>
                <a:cubicBezTo>
                  <a:pt x="7533" y="15336"/>
                  <a:pt x="7555" y="15324"/>
                  <a:pt x="7615" y="15379"/>
                </a:cubicBezTo>
                <a:cubicBezTo>
                  <a:pt x="7666" y="15426"/>
                  <a:pt x="7685" y="15487"/>
                  <a:pt x="7689" y="15553"/>
                </a:cubicBezTo>
                <a:cubicBezTo>
                  <a:pt x="7693" y="15626"/>
                  <a:pt x="7659" y="15667"/>
                  <a:pt x="7615" y="15701"/>
                </a:cubicBezTo>
                <a:cubicBezTo>
                  <a:pt x="7562" y="15742"/>
                  <a:pt x="7502" y="15750"/>
                  <a:pt x="7441" y="15726"/>
                </a:cubicBezTo>
                <a:cubicBezTo>
                  <a:pt x="7347" y="15689"/>
                  <a:pt x="7273" y="15611"/>
                  <a:pt x="7193" y="15553"/>
                </a:cubicBezTo>
              </a:path>
              <a:path w="6847" h="3697">
                <a:moveTo>
                  <a:pt x="5705" y="14610"/>
                </a:moveTo>
                <a:cubicBezTo>
                  <a:pt x="5623" y="14700"/>
                  <a:pt x="5611" y="14755"/>
                  <a:pt x="5556" y="14858"/>
                </a:cubicBezTo>
                <a:cubicBezTo>
                  <a:pt x="5518" y="14929"/>
                  <a:pt x="5455" y="15068"/>
                  <a:pt x="5482" y="15156"/>
                </a:cubicBezTo>
                <a:cubicBezTo>
                  <a:pt x="5574" y="15452"/>
                  <a:pt x="5612" y="15528"/>
                  <a:pt x="5854" y="15652"/>
                </a:cubicBezTo>
                <a:cubicBezTo>
                  <a:pt x="5958" y="15703"/>
                  <a:pt x="5996" y="15721"/>
                  <a:pt x="6077" y="15726"/>
                </a:cubicBezTo>
              </a:path>
              <a:path w="6847" h="3697">
                <a:moveTo>
                  <a:pt x="7565" y="14635"/>
                </a:moveTo>
                <a:cubicBezTo>
                  <a:pt x="7703" y="14656"/>
                  <a:pt x="7721" y="14687"/>
                  <a:pt x="7764" y="14833"/>
                </a:cubicBezTo>
                <a:cubicBezTo>
                  <a:pt x="7805" y="14970"/>
                  <a:pt x="7853" y="15137"/>
                  <a:pt x="7838" y="15280"/>
                </a:cubicBezTo>
                <a:cubicBezTo>
                  <a:pt x="7828" y="15376"/>
                  <a:pt x="7795" y="15547"/>
                  <a:pt x="7739" y="15627"/>
                </a:cubicBezTo>
                <a:cubicBezTo>
                  <a:pt x="7693" y="15673"/>
                  <a:pt x="7681" y="15687"/>
                  <a:pt x="7640" y="15701"/>
                </a:cubicBezTo>
              </a:path>
              <a:path w="6847" h="3697">
                <a:moveTo>
                  <a:pt x="5283" y="14362"/>
                </a:moveTo>
                <a:cubicBezTo>
                  <a:pt x="5318" y="14458"/>
                  <a:pt x="5339" y="14536"/>
                  <a:pt x="5358" y="14635"/>
                </a:cubicBezTo>
                <a:cubicBezTo>
                  <a:pt x="5389" y="14799"/>
                  <a:pt x="5395" y="14890"/>
                  <a:pt x="5383" y="15056"/>
                </a:cubicBezTo>
                <a:cubicBezTo>
                  <a:pt x="5373" y="15195"/>
                  <a:pt x="5389" y="15320"/>
                  <a:pt x="5333" y="15453"/>
                </a:cubicBezTo>
                <a:cubicBezTo>
                  <a:pt x="5275" y="15569"/>
                  <a:pt x="5267" y="15586"/>
                  <a:pt x="5234" y="15652"/>
                </a:cubicBezTo>
              </a:path>
              <a:path w="6847" h="3697">
                <a:moveTo>
                  <a:pt x="2654" y="14139"/>
                </a:moveTo>
                <a:cubicBezTo>
                  <a:pt x="2541" y="14235"/>
                  <a:pt x="2460" y="14314"/>
                  <a:pt x="2381" y="14436"/>
                </a:cubicBezTo>
                <a:cubicBezTo>
                  <a:pt x="2312" y="14541"/>
                  <a:pt x="2231" y="14682"/>
                  <a:pt x="2208" y="14808"/>
                </a:cubicBezTo>
                <a:cubicBezTo>
                  <a:pt x="2183" y="14947"/>
                  <a:pt x="2224" y="15097"/>
                  <a:pt x="2257" y="15230"/>
                </a:cubicBezTo>
                <a:cubicBezTo>
                  <a:pt x="2283" y="15338"/>
                  <a:pt x="2312" y="15427"/>
                  <a:pt x="2356" y="15528"/>
                </a:cubicBezTo>
              </a:path>
              <a:path w="6847" h="3697">
                <a:moveTo>
                  <a:pt x="3051" y="16098"/>
                </a:moveTo>
                <a:cubicBezTo>
                  <a:pt x="2995" y="16154"/>
                  <a:pt x="2951" y="16213"/>
                  <a:pt x="2902" y="16272"/>
                </a:cubicBezTo>
                <a:cubicBezTo>
                  <a:pt x="2831" y="16358"/>
                  <a:pt x="2741" y="16463"/>
                  <a:pt x="2704" y="16570"/>
                </a:cubicBezTo>
                <a:cubicBezTo>
                  <a:pt x="2647" y="16738"/>
                  <a:pt x="2635" y="16896"/>
                  <a:pt x="2679" y="17066"/>
                </a:cubicBezTo>
                <a:cubicBezTo>
                  <a:pt x="2712" y="17194"/>
                  <a:pt x="2763" y="17268"/>
                  <a:pt x="2853" y="17363"/>
                </a:cubicBezTo>
                <a:cubicBezTo>
                  <a:pt x="2869" y="17380"/>
                  <a:pt x="2886" y="17396"/>
                  <a:pt x="2902" y="17413"/>
                </a:cubicBezTo>
              </a:path>
              <a:path w="6847" h="3697">
                <a:moveTo>
                  <a:pt x="5333" y="16346"/>
                </a:moveTo>
                <a:cubicBezTo>
                  <a:pt x="5402" y="16465"/>
                  <a:pt x="5459" y="16580"/>
                  <a:pt x="5482" y="16718"/>
                </a:cubicBezTo>
                <a:cubicBezTo>
                  <a:pt x="5509" y="16876"/>
                  <a:pt x="5526" y="17036"/>
                  <a:pt x="5482" y="17190"/>
                </a:cubicBezTo>
                <a:cubicBezTo>
                  <a:pt x="5454" y="17287"/>
                  <a:pt x="5402" y="17369"/>
                  <a:pt x="5308" y="17413"/>
                </a:cubicBezTo>
                <a:cubicBezTo>
                  <a:pt x="5227" y="17451"/>
                  <a:pt x="5292" y="17333"/>
                  <a:pt x="5308" y="17314"/>
                </a:cubicBezTo>
              </a:path>
              <a:path w="6847" h="3697">
                <a:moveTo>
                  <a:pt x="5978" y="16272"/>
                </a:moveTo>
                <a:cubicBezTo>
                  <a:pt x="5926" y="16336"/>
                  <a:pt x="5884" y="16392"/>
                  <a:pt x="5854" y="16470"/>
                </a:cubicBezTo>
                <a:cubicBezTo>
                  <a:pt x="5808" y="16588"/>
                  <a:pt x="5806" y="16721"/>
                  <a:pt x="5829" y="16842"/>
                </a:cubicBezTo>
                <a:cubicBezTo>
                  <a:pt x="5861" y="17010"/>
                  <a:pt x="5903" y="17125"/>
                  <a:pt x="6003" y="17264"/>
                </a:cubicBezTo>
                <a:cubicBezTo>
                  <a:pt x="6106" y="17406"/>
                  <a:pt x="6223" y="17486"/>
                  <a:pt x="6375" y="17562"/>
                </a:cubicBezTo>
              </a:path>
              <a:path w="6847" h="3697">
                <a:moveTo>
                  <a:pt x="7888" y="16346"/>
                </a:moveTo>
                <a:cubicBezTo>
                  <a:pt x="8057" y="16564"/>
                  <a:pt x="8079" y="16698"/>
                  <a:pt x="8161" y="16966"/>
                </a:cubicBezTo>
                <a:cubicBezTo>
                  <a:pt x="8211" y="17130"/>
                  <a:pt x="8259" y="17287"/>
                  <a:pt x="8235" y="17462"/>
                </a:cubicBezTo>
                <a:cubicBezTo>
                  <a:pt x="8219" y="17582"/>
                  <a:pt x="8171" y="17666"/>
                  <a:pt x="8111" y="17760"/>
                </a:cubicBezTo>
                <a:cubicBezTo>
                  <a:pt x="8074" y="17818"/>
                  <a:pt x="8037" y="17835"/>
                  <a:pt x="7987" y="17810"/>
                </a:cubicBezTo>
                <a:cubicBezTo>
                  <a:pt x="7921" y="17776"/>
                  <a:pt x="7935" y="17761"/>
                  <a:pt x="7962" y="17686"/>
                </a:cubicBezTo>
              </a:path>
              <a:path w="6847" h="3697">
                <a:moveTo>
                  <a:pt x="8657" y="15925"/>
                </a:moveTo>
                <a:cubicBezTo>
                  <a:pt x="8748" y="15941"/>
                  <a:pt x="8815" y="15949"/>
                  <a:pt x="8905" y="15949"/>
                </a:cubicBezTo>
                <a:cubicBezTo>
                  <a:pt x="8921" y="15949"/>
                  <a:pt x="8938" y="15949"/>
                  <a:pt x="8954" y="15949"/>
                </a:cubicBezTo>
              </a:path>
              <a:path w="6847" h="3697">
                <a:moveTo>
                  <a:pt x="8731" y="16148"/>
                </a:moveTo>
                <a:cubicBezTo>
                  <a:pt x="8812" y="16171"/>
                  <a:pt x="8897" y="16218"/>
                  <a:pt x="8979" y="16222"/>
                </a:cubicBezTo>
                <a:cubicBezTo>
                  <a:pt x="9004" y="16222"/>
                  <a:pt x="9029" y="16222"/>
                  <a:pt x="9054" y="162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62680" y="3633840"/>
            <a:ext cx="1188720" cy="1751040"/>
          </a:xfrm>
          <a:custGeom>
            <a:avLst/>
            <a:gdLst/>
            <a:ahLst/>
            <a:rect l="l" t="t" r="r" b="b"/>
            <a:pathLst>
              <a:path w="3300" h="4862">
                <a:moveTo>
                  <a:pt x="14064" y="11782"/>
                </a:moveTo>
                <a:cubicBezTo>
                  <a:pt x="14257" y="11782"/>
                  <a:pt x="14451" y="11776"/>
                  <a:pt x="14635" y="11807"/>
                </a:cubicBezTo>
                <a:cubicBezTo>
                  <a:pt x="14688" y="11816"/>
                  <a:pt x="14719" y="11786"/>
                  <a:pt x="14734" y="11832"/>
                </a:cubicBezTo>
              </a:path>
              <a:path w="3300" h="4862">
                <a:moveTo>
                  <a:pt x="14163" y="12055"/>
                </a:moveTo>
                <a:cubicBezTo>
                  <a:pt x="14172" y="12083"/>
                  <a:pt x="14221" y="12094"/>
                  <a:pt x="14263" y="12105"/>
                </a:cubicBezTo>
                <a:cubicBezTo>
                  <a:pt x="14320" y="12119"/>
                  <a:pt x="14403" y="12120"/>
                  <a:pt x="14461" y="12129"/>
                </a:cubicBezTo>
                <a:cubicBezTo>
                  <a:pt x="14542" y="12142"/>
                  <a:pt x="14614" y="12130"/>
                  <a:pt x="14684" y="12154"/>
                </a:cubicBezTo>
                <a:cubicBezTo>
                  <a:pt x="14724" y="12167"/>
                  <a:pt x="14668" y="12155"/>
                  <a:pt x="14660" y="12129"/>
                </a:cubicBezTo>
              </a:path>
              <a:path w="3300" h="4862">
                <a:moveTo>
                  <a:pt x="14660" y="10616"/>
                </a:moveTo>
                <a:cubicBezTo>
                  <a:pt x="14756" y="10616"/>
                  <a:pt x="14842" y="10606"/>
                  <a:pt x="14932" y="10592"/>
                </a:cubicBezTo>
                <a:cubicBezTo>
                  <a:pt x="14949" y="10592"/>
                  <a:pt x="14965" y="10592"/>
                  <a:pt x="14982" y="10592"/>
                </a:cubicBezTo>
              </a:path>
              <a:path w="3300" h="4862">
                <a:moveTo>
                  <a:pt x="15230" y="10294"/>
                </a:moveTo>
                <a:cubicBezTo>
                  <a:pt x="15286" y="10246"/>
                  <a:pt x="15306" y="10223"/>
                  <a:pt x="15379" y="10220"/>
                </a:cubicBezTo>
                <a:cubicBezTo>
                  <a:pt x="15464" y="10216"/>
                  <a:pt x="15524" y="10227"/>
                  <a:pt x="15602" y="10244"/>
                </a:cubicBezTo>
                <a:cubicBezTo>
                  <a:pt x="15655" y="10256"/>
                  <a:pt x="15674" y="10311"/>
                  <a:pt x="15652" y="10368"/>
                </a:cubicBezTo>
                <a:cubicBezTo>
                  <a:pt x="15632" y="10419"/>
                  <a:pt x="15545" y="10514"/>
                  <a:pt x="15503" y="10542"/>
                </a:cubicBezTo>
                <a:cubicBezTo>
                  <a:pt x="15480" y="10558"/>
                  <a:pt x="15409" y="10589"/>
                  <a:pt x="15379" y="10592"/>
                </a:cubicBezTo>
                <a:cubicBezTo>
                  <a:pt x="15371" y="10592"/>
                  <a:pt x="15362" y="10592"/>
                  <a:pt x="15354" y="10592"/>
                </a:cubicBezTo>
                <a:cubicBezTo>
                  <a:pt x="15298" y="10592"/>
                  <a:pt x="15385" y="10569"/>
                  <a:pt x="15404" y="10567"/>
                </a:cubicBezTo>
                <a:cubicBezTo>
                  <a:pt x="15451" y="10562"/>
                  <a:pt x="15491" y="10588"/>
                  <a:pt x="15528" y="10616"/>
                </a:cubicBezTo>
                <a:cubicBezTo>
                  <a:pt x="15582" y="10656"/>
                  <a:pt x="15615" y="10726"/>
                  <a:pt x="15627" y="10790"/>
                </a:cubicBezTo>
                <a:cubicBezTo>
                  <a:pt x="15642" y="10868"/>
                  <a:pt x="15598" y="10901"/>
                  <a:pt x="15553" y="10939"/>
                </a:cubicBezTo>
                <a:cubicBezTo>
                  <a:pt x="15499" y="10984"/>
                  <a:pt x="15450" y="11009"/>
                  <a:pt x="15379" y="11013"/>
                </a:cubicBezTo>
                <a:cubicBezTo>
                  <a:pt x="15313" y="11017"/>
                  <a:pt x="15240" y="11008"/>
                  <a:pt x="15180" y="10988"/>
                </a:cubicBezTo>
                <a:cubicBezTo>
                  <a:pt x="15136" y="10974"/>
                  <a:pt x="15098" y="10922"/>
                  <a:pt x="15081" y="10914"/>
                </a:cubicBezTo>
                <a:cubicBezTo>
                  <a:pt x="15041" y="10894"/>
                  <a:pt x="15098" y="10889"/>
                  <a:pt x="15131" y="10864"/>
                </a:cubicBezTo>
              </a:path>
              <a:path w="3300" h="4862">
                <a:moveTo>
                  <a:pt x="15850" y="10691"/>
                </a:moveTo>
                <a:cubicBezTo>
                  <a:pt x="15979" y="10691"/>
                  <a:pt x="16099" y="10700"/>
                  <a:pt x="16222" y="10666"/>
                </a:cubicBezTo>
              </a:path>
              <a:path w="3300" h="4862">
                <a:moveTo>
                  <a:pt x="16396" y="10443"/>
                </a:moveTo>
                <a:cubicBezTo>
                  <a:pt x="16396" y="10603"/>
                  <a:pt x="16386" y="10763"/>
                  <a:pt x="16421" y="10914"/>
                </a:cubicBezTo>
                <a:cubicBezTo>
                  <a:pt x="16427" y="10940"/>
                  <a:pt x="16443" y="11003"/>
                  <a:pt x="16421" y="10964"/>
                </a:cubicBezTo>
                <a:cubicBezTo>
                  <a:pt x="16380" y="10890"/>
                  <a:pt x="16379" y="10774"/>
                  <a:pt x="16371" y="10691"/>
                </a:cubicBezTo>
                <a:cubicBezTo>
                  <a:pt x="16361" y="10592"/>
                  <a:pt x="16381" y="10509"/>
                  <a:pt x="16396" y="10418"/>
                </a:cubicBezTo>
                <a:cubicBezTo>
                  <a:pt x="16407" y="10349"/>
                  <a:pt x="16421" y="10299"/>
                  <a:pt x="16470" y="10244"/>
                </a:cubicBezTo>
                <a:cubicBezTo>
                  <a:pt x="16520" y="10189"/>
                  <a:pt x="16555" y="10191"/>
                  <a:pt x="16619" y="10170"/>
                </a:cubicBezTo>
                <a:cubicBezTo>
                  <a:pt x="16698" y="10143"/>
                  <a:pt x="16731" y="10120"/>
                  <a:pt x="16818" y="10120"/>
                </a:cubicBezTo>
                <a:cubicBezTo>
                  <a:pt x="16899" y="10120"/>
                  <a:pt x="16964" y="10102"/>
                  <a:pt x="17041" y="10096"/>
                </a:cubicBezTo>
                <a:cubicBezTo>
                  <a:pt x="17066" y="10096"/>
                  <a:pt x="17074" y="10096"/>
                  <a:pt x="17090" y="10096"/>
                </a:cubicBezTo>
              </a:path>
              <a:path w="3300" h="4862">
                <a:moveTo>
                  <a:pt x="16669" y="10393"/>
                </a:moveTo>
                <a:cubicBezTo>
                  <a:pt x="16772" y="10412"/>
                  <a:pt x="16774" y="10391"/>
                  <a:pt x="16867" y="10368"/>
                </a:cubicBezTo>
                <a:cubicBezTo>
                  <a:pt x="16901" y="10360"/>
                  <a:pt x="16973" y="10356"/>
                  <a:pt x="16991" y="10393"/>
                </a:cubicBezTo>
                <a:cubicBezTo>
                  <a:pt x="17010" y="10431"/>
                  <a:pt x="16980" y="10466"/>
                  <a:pt x="16966" y="10492"/>
                </a:cubicBezTo>
                <a:cubicBezTo>
                  <a:pt x="16934" y="10549"/>
                  <a:pt x="16909" y="10594"/>
                  <a:pt x="16842" y="10616"/>
                </a:cubicBezTo>
                <a:cubicBezTo>
                  <a:pt x="16814" y="10616"/>
                  <a:pt x="16804" y="10619"/>
                  <a:pt x="16793" y="10641"/>
                </a:cubicBezTo>
                <a:cubicBezTo>
                  <a:pt x="16853" y="10641"/>
                  <a:pt x="16892" y="10639"/>
                  <a:pt x="16942" y="10666"/>
                </a:cubicBezTo>
                <a:cubicBezTo>
                  <a:pt x="16997" y="10696"/>
                  <a:pt x="17045" y="10727"/>
                  <a:pt x="17066" y="10790"/>
                </a:cubicBezTo>
                <a:cubicBezTo>
                  <a:pt x="17081" y="10835"/>
                  <a:pt x="17063" y="10898"/>
                  <a:pt x="17041" y="10914"/>
                </a:cubicBezTo>
                <a:cubicBezTo>
                  <a:pt x="17002" y="10942"/>
                  <a:pt x="16913" y="10961"/>
                  <a:pt x="16867" y="10964"/>
                </a:cubicBezTo>
                <a:cubicBezTo>
                  <a:pt x="16791" y="10969"/>
                  <a:pt x="16715" y="10924"/>
                  <a:pt x="16644" y="10939"/>
                </a:cubicBezTo>
                <a:cubicBezTo>
                  <a:pt x="16627" y="10947"/>
                  <a:pt x="16611" y="10956"/>
                  <a:pt x="16594" y="10964"/>
                </a:cubicBezTo>
              </a:path>
              <a:path w="3300" h="4862">
                <a:moveTo>
                  <a:pt x="15255" y="11063"/>
                </a:moveTo>
                <a:cubicBezTo>
                  <a:pt x="15372" y="11087"/>
                  <a:pt x="15483" y="11109"/>
                  <a:pt x="15602" y="11112"/>
                </a:cubicBezTo>
                <a:cubicBezTo>
                  <a:pt x="15885" y="11120"/>
                  <a:pt x="16167" y="11114"/>
                  <a:pt x="16446" y="11088"/>
                </a:cubicBezTo>
                <a:cubicBezTo>
                  <a:pt x="16501" y="11083"/>
                  <a:pt x="16722" y="11088"/>
                  <a:pt x="16694" y="11088"/>
                </a:cubicBezTo>
                <a:cubicBezTo>
                  <a:pt x="16686" y="11088"/>
                  <a:pt x="16677" y="11088"/>
                  <a:pt x="16669" y="11088"/>
                </a:cubicBezTo>
              </a:path>
              <a:path w="3300" h="4862">
                <a:moveTo>
                  <a:pt x="15925" y="11336"/>
                </a:moveTo>
                <a:cubicBezTo>
                  <a:pt x="15977" y="11323"/>
                  <a:pt x="16010" y="11311"/>
                  <a:pt x="16073" y="11311"/>
                </a:cubicBezTo>
                <a:cubicBezTo>
                  <a:pt x="16111" y="11311"/>
                  <a:pt x="16176" y="11293"/>
                  <a:pt x="16197" y="11336"/>
                </a:cubicBezTo>
                <a:cubicBezTo>
                  <a:pt x="16213" y="11368"/>
                  <a:pt x="16189" y="11436"/>
                  <a:pt x="16173" y="11460"/>
                </a:cubicBezTo>
                <a:cubicBezTo>
                  <a:pt x="16145" y="11502"/>
                  <a:pt x="16097" y="11548"/>
                  <a:pt x="16073" y="11584"/>
                </a:cubicBezTo>
                <a:cubicBezTo>
                  <a:pt x="16051" y="11616"/>
                  <a:pt x="16032" y="11625"/>
                  <a:pt x="15999" y="11633"/>
                </a:cubicBezTo>
                <a:cubicBezTo>
                  <a:pt x="16005" y="11651"/>
                  <a:pt x="16043" y="11694"/>
                  <a:pt x="16073" y="11708"/>
                </a:cubicBezTo>
                <a:cubicBezTo>
                  <a:pt x="16110" y="11725"/>
                  <a:pt x="16168" y="11788"/>
                  <a:pt x="16197" y="11832"/>
                </a:cubicBezTo>
                <a:cubicBezTo>
                  <a:pt x="16218" y="11864"/>
                  <a:pt x="16241" y="11943"/>
                  <a:pt x="16222" y="11981"/>
                </a:cubicBezTo>
                <a:cubicBezTo>
                  <a:pt x="16206" y="12012"/>
                  <a:pt x="16128" y="12028"/>
                  <a:pt x="16098" y="12030"/>
                </a:cubicBezTo>
                <a:cubicBezTo>
                  <a:pt x="16074" y="12032"/>
                  <a:pt x="15974" y="12015"/>
                  <a:pt x="15949" y="12005"/>
                </a:cubicBezTo>
                <a:cubicBezTo>
                  <a:pt x="15907" y="11988"/>
                  <a:pt x="15869" y="11967"/>
                  <a:pt x="15825" y="11956"/>
                </a:cubicBezTo>
              </a:path>
              <a:path w="3300" h="4862">
                <a:moveTo>
                  <a:pt x="15205" y="12278"/>
                </a:moveTo>
                <a:cubicBezTo>
                  <a:pt x="15304" y="12314"/>
                  <a:pt x="15397" y="12344"/>
                  <a:pt x="15503" y="12353"/>
                </a:cubicBezTo>
                <a:cubicBezTo>
                  <a:pt x="15652" y="12366"/>
                  <a:pt x="15800" y="12392"/>
                  <a:pt x="15949" y="12402"/>
                </a:cubicBezTo>
                <a:cubicBezTo>
                  <a:pt x="16123" y="12413"/>
                  <a:pt x="16298" y="12415"/>
                  <a:pt x="16470" y="12427"/>
                </a:cubicBezTo>
                <a:cubicBezTo>
                  <a:pt x="16728" y="12444"/>
                  <a:pt x="17015" y="12441"/>
                  <a:pt x="17264" y="12402"/>
                </a:cubicBezTo>
                <a:cubicBezTo>
                  <a:pt x="17284" y="12399"/>
                  <a:pt x="17355" y="12373"/>
                  <a:pt x="17363" y="12378"/>
                </a:cubicBezTo>
                <a:cubicBezTo>
                  <a:pt x="17328" y="12412"/>
                  <a:pt x="17305" y="12425"/>
                  <a:pt x="17264" y="12427"/>
                </a:cubicBezTo>
              </a:path>
              <a:path w="3300" h="4862">
                <a:moveTo>
                  <a:pt x="14957" y="12774"/>
                </a:moveTo>
                <a:cubicBezTo>
                  <a:pt x="15020" y="12774"/>
                  <a:pt x="15034" y="12736"/>
                  <a:pt x="15106" y="12750"/>
                </a:cubicBezTo>
                <a:cubicBezTo>
                  <a:pt x="15194" y="12767"/>
                  <a:pt x="15247" y="12813"/>
                  <a:pt x="15329" y="12849"/>
                </a:cubicBezTo>
                <a:cubicBezTo>
                  <a:pt x="15367" y="12866"/>
                  <a:pt x="15362" y="12886"/>
                  <a:pt x="15329" y="12923"/>
                </a:cubicBezTo>
                <a:cubicBezTo>
                  <a:pt x="15281" y="12977"/>
                  <a:pt x="15260" y="12971"/>
                  <a:pt x="15205" y="12998"/>
                </a:cubicBezTo>
                <a:cubicBezTo>
                  <a:pt x="15166" y="13017"/>
                  <a:pt x="15177" y="13022"/>
                  <a:pt x="15131" y="13022"/>
                </a:cubicBezTo>
                <a:cubicBezTo>
                  <a:pt x="15145" y="13079"/>
                  <a:pt x="15182" y="13071"/>
                  <a:pt x="15230" y="13097"/>
                </a:cubicBezTo>
                <a:cubicBezTo>
                  <a:pt x="15296" y="13133"/>
                  <a:pt x="15358" y="13156"/>
                  <a:pt x="15404" y="13221"/>
                </a:cubicBezTo>
                <a:cubicBezTo>
                  <a:pt x="15440" y="13272"/>
                  <a:pt x="15440" y="13324"/>
                  <a:pt x="15404" y="13370"/>
                </a:cubicBezTo>
                <a:cubicBezTo>
                  <a:pt x="15362" y="13422"/>
                  <a:pt x="15291" y="13439"/>
                  <a:pt x="15230" y="13444"/>
                </a:cubicBezTo>
                <a:cubicBezTo>
                  <a:pt x="15159" y="13449"/>
                  <a:pt x="15112" y="13438"/>
                  <a:pt x="15056" y="13419"/>
                </a:cubicBezTo>
                <a:cubicBezTo>
                  <a:pt x="15016" y="13405"/>
                  <a:pt x="15030" y="13406"/>
                  <a:pt x="15056" y="13370"/>
                </a:cubicBezTo>
              </a:path>
              <a:path w="3300" h="4862">
                <a:moveTo>
                  <a:pt x="15801" y="13246"/>
                </a:moveTo>
                <a:cubicBezTo>
                  <a:pt x="15879" y="13246"/>
                  <a:pt x="16052" y="13274"/>
                  <a:pt x="16123" y="13221"/>
                </a:cubicBezTo>
              </a:path>
              <a:path w="3300" h="4862">
                <a:moveTo>
                  <a:pt x="16321" y="12998"/>
                </a:moveTo>
                <a:cubicBezTo>
                  <a:pt x="16321" y="13053"/>
                  <a:pt x="16343" y="13091"/>
                  <a:pt x="16346" y="13146"/>
                </a:cubicBezTo>
                <a:cubicBezTo>
                  <a:pt x="16351" y="13240"/>
                  <a:pt x="16357" y="13338"/>
                  <a:pt x="16371" y="13419"/>
                </a:cubicBezTo>
                <a:cubicBezTo>
                  <a:pt x="16376" y="13448"/>
                  <a:pt x="16371" y="13488"/>
                  <a:pt x="16371" y="13519"/>
                </a:cubicBezTo>
                <a:cubicBezTo>
                  <a:pt x="16371" y="13452"/>
                  <a:pt x="16357" y="13406"/>
                  <a:pt x="16346" y="13345"/>
                </a:cubicBezTo>
                <a:cubicBezTo>
                  <a:pt x="16325" y="13226"/>
                  <a:pt x="16325" y="13006"/>
                  <a:pt x="16371" y="12898"/>
                </a:cubicBezTo>
                <a:cubicBezTo>
                  <a:pt x="16387" y="12861"/>
                  <a:pt x="16423" y="12763"/>
                  <a:pt x="16470" y="12750"/>
                </a:cubicBezTo>
                <a:cubicBezTo>
                  <a:pt x="16521" y="12736"/>
                  <a:pt x="16591" y="12709"/>
                  <a:pt x="16644" y="12700"/>
                </a:cubicBezTo>
                <a:cubicBezTo>
                  <a:pt x="16713" y="12688"/>
                  <a:pt x="16796" y="12700"/>
                  <a:pt x="16867" y="12700"/>
                </a:cubicBezTo>
              </a:path>
              <a:path w="3300" h="4862">
                <a:moveTo>
                  <a:pt x="16644" y="12923"/>
                </a:moveTo>
                <a:cubicBezTo>
                  <a:pt x="16644" y="12975"/>
                  <a:pt x="16658" y="12976"/>
                  <a:pt x="16669" y="12998"/>
                </a:cubicBezTo>
                <a:cubicBezTo>
                  <a:pt x="16686" y="13031"/>
                  <a:pt x="16696" y="13022"/>
                  <a:pt x="16743" y="13022"/>
                </a:cubicBezTo>
                <a:cubicBezTo>
                  <a:pt x="16812" y="13022"/>
                  <a:pt x="16854" y="13032"/>
                  <a:pt x="16917" y="13047"/>
                </a:cubicBezTo>
                <a:cubicBezTo>
                  <a:pt x="16948" y="13054"/>
                  <a:pt x="16990" y="13078"/>
                  <a:pt x="16966" y="13122"/>
                </a:cubicBezTo>
                <a:cubicBezTo>
                  <a:pt x="16943" y="13165"/>
                  <a:pt x="16891" y="13233"/>
                  <a:pt x="16842" y="13246"/>
                </a:cubicBezTo>
                <a:cubicBezTo>
                  <a:pt x="16798" y="13258"/>
                  <a:pt x="16765" y="13271"/>
                  <a:pt x="16718" y="13271"/>
                </a:cubicBezTo>
                <a:cubicBezTo>
                  <a:pt x="16731" y="13307"/>
                  <a:pt x="16749" y="13295"/>
                  <a:pt x="16793" y="13295"/>
                </a:cubicBezTo>
                <a:cubicBezTo>
                  <a:pt x="16837" y="13295"/>
                  <a:pt x="16911" y="13334"/>
                  <a:pt x="16942" y="13370"/>
                </a:cubicBezTo>
                <a:cubicBezTo>
                  <a:pt x="16977" y="13411"/>
                  <a:pt x="17013" y="13487"/>
                  <a:pt x="16991" y="13543"/>
                </a:cubicBezTo>
                <a:cubicBezTo>
                  <a:pt x="16963" y="13616"/>
                  <a:pt x="16927" y="13622"/>
                  <a:pt x="16867" y="13643"/>
                </a:cubicBezTo>
                <a:cubicBezTo>
                  <a:pt x="16809" y="13663"/>
                  <a:pt x="16734" y="13684"/>
                  <a:pt x="16669" y="13667"/>
                </a:cubicBezTo>
                <a:cubicBezTo>
                  <a:pt x="16621" y="13644"/>
                  <a:pt x="16606" y="13636"/>
                  <a:pt x="16570" y="13643"/>
                </a:cubicBezTo>
              </a:path>
              <a:path w="3300" h="4862">
                <a:moveTo>
                  <a:pt x="15280" y="13618"/>
                </a:moveTo>
                <a:cubicBezTo>
                  <a:pt x="15390" y="13638"/>
                  <a:pt x="15494" y="13627"/>
                  <a:pt x="15602" y="13643"/>
                </a:cubicBezTo>
                <a:cubicBezTo>
                  <a:pt x="15764" y="13668"/>
                  <a:pt x="15933" y="13682"/>
                  <a:pt x="16098" y="13692"/>
                </a:cubicBezTo>
                <a:cubicBezTo>
                  <a:pt x="16264" y="13702"/>
                  <a:pt x="16430" y="13712"/>
                  <a:pt x="16594" y="13717"/>
                </a:cubicBezTo>
                <a:cubicBezTo>
                  <a:pt x="16641" y="13719"/>
                  <a:pt x="16763" y="13740"/>
                  <a:pt x="16793" y="13692"/>
                </a:cubicBezTo>
                <a:cubicBezTo>
                  <a:pt x="16793" y="13684"/>
                  <a:pt x="16793" y="13675"/>
                  <a:pt x="16793" y="13667"/>
                </a:cubicBezTo>
              </a:path>
              <a:path w="3300" h="4862">
                <a:moveTo>
                  <a:pt x="16024" y="13965"/>
                </a:moveTo>
                <a:cubicBezTo>
                  <a:pt x="16024" y="13982"/>
                  <a:pt x="16024" y="13998"/>
                  <a:pt x="16024" y="14015"/>
                </a:cubicBezTo>
                <a:cubicBezTo>
                  <a:pt x="16066" y="14008"/>
                  <a:pt x="16106" y="13993"/>
                  <a:pt x="16148" y="13990"/>
                </a:cubicBezTo>
                <a:cubicBezTo>
                  <a:pt x="16213" y="13986"/>
                  <a:pt x="16262" y="13989"/>
                  <a:pt x="16321" y="14015"/>
                </a:cubicBezTo>
                <a:cubicBezTo>
                  <a:pt x="16411" y="14054"/>
                  <a:pt x="16435" y="14029"/>
                  <a:pt x="16446" y="14139"/>
                </a:cubicBezTo>
                <a:cubicBezTo>
                  <a:pt x="16451" y="14190"/>
                  <a:pt x="16411" y="14278"/>
                  <a:pt x="16371" y="14312"/>
                </a:cubicBezTo>
                <a:cubicBezTo>
                  <a:pt x="16343" y="14335"/>
                  <a:pt x="16255" y="14384"/>
                  <a:pt x="16247" y="14387"/>
                </a:cubicBezTo>
                <a:cubicBezTo>
                  <a:pt x="16222" y="14387"/>
                  <a:pt x="16214" y="14387"/>
                  <a:pt x="16222" y="14412"/>
                </a:cubicBezTo>
                <a:cubicBezTo>
                  <a:pt x="16274" y="14412"/>
                  <a:pt x="16302" y="14413"/>
                  <a:pt x="16346" y="14436"/>
                </a:cubicBezTo>
                <a:cubicBezTo>
                  <a:pt x="16424" y="14477"/>
                  <a:pt x="16493" y="14546"/>
                  <a:pt x="16520" y="14635"/>
                </a:cubicBezTo>
                <a:cubicBezTo>
                  <a:pt x="16537" y="14690"/>
                  <a:pt x="16524" y="14786"/>
                  <a:pt x="16495" y="14833"/>
                </a:cubicBezTo>
                <a:cubicBezTo>
                  <a:pt x="16459" y="14891"/>
                  <a:pt x="16438" y="14916"/>
                  <a:pt x="16371" y="14932"/>
                </a:cubicBezTo>
                <a:cubicBezTo>
                  <a:pt x="16289" y="14952"/>
                  <a:pt x="16224" y="14954"/>
                  <a:pt x="16148" y="14908"/>
                </a:cubicBezTo>
                <a:cubicBezTo>
                  <a:pt x="16109" y="14884"/>
                  <a:pt x="16047" y="14885"/>
                  <a:pt x="16024" y="14833"/>
                </a:cubicBezTo>
                <a:cubicBezTo>
                  <a:pt x="16009" y="14798"/>
                  <a:pt x="15990" y="14802"/>
                  <a:pt x="15949" y="14784"/>
                </a:cubicBezTo>
                <a:cubicBezTo>
                  <a:pt x="15933" y="14776"/>
                  <a:pt x="15916" y="14767"/>
                  <a:pt x="15900" y="147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86080" y="4259160"/>
            <a:ext cx="1938240" cy="169920"/>
          </a:xfrm>
          <a:custGeom>
            <a:avLst/>
            <a:gdLst/>
            <a:ahLst/>
            <a:rect l="l" t="t" r="r" b="b"/>
            <a:pathLst>
              <a:path w="5384" h="472">
                <a:moveTo>
                  <a:pt x="9128" y="11832"/>
                </a:moveTo>
                <a:cubicBezTo>
                  <a:pt x="9193" y="11848"/>
                  <a:pt x="9235" y="11847"/>
                  <a:pt x="9302" y="11857"/>
                </a:cubicBezTo>
                <a:cubicBezTo>
                  <a:pt x="9347" y="11864"/>
                  <a:pt x="9420" y="11872"/>
                  <a:pt x="9475" y="11881"/>
                </a:cubicBezTo>
                <a:cubicBezTo>
                  <a:pt x="9584" y="11899"/>
                  <a:pt x="9691" y="11913"/>
                  <a:pt x="9798" y="11931"/>
                </a:cubicBezTo>
                <a:cubicBezTo>
                  <a:pt x="9906" y="11949"/>
                  <a:pt x="10011" y="11944"/>
                  <a:pt x="10120" y="11956"/>
                </a:cubicBezTo>
                <a:cubicBezTo>
                  <a:pt x="10275" y="11974"/>
                  <a:pt x="10434" y="12001"/>
                  <a:pt x="10592" y="12005"/>
                </a:cubicBezTo>
                <a:cubicBezTo>
                  <a:pt x="10735" y="12009"/>
                  <a:pt x="10871" y="12027"/>
                  <a:pt x="11013" y="12030"/>
                </a:cubicBezTo>
                <a:cubicBezTo>
                  <a:pt x="11165" y="12034"/>
                  <a:pt x="11311" y="12044"/>
                  <a:pt x="11460" y="12055"/>
                </a:cubicBezTo>
                <a:cubicBezTo>
                  <a:pt x="11656" y="12069"/>
                  <a:pt x="11859" y="12076"/>
                  <a:pt x="12055" y="12080"/>
                </a:cubicBezTo>
                <a:cubicBezTo>
                  <a:pt x="12232" y="12083"/>
                  <a:pt x="12401" y="12116"/>
                  <a:pt x="12576" y="12129"/>
                </a:cubicBezTo>
                <a:cubicBezTo>
                  <a:pt x="12781" y="12144"/>
                  <a:pt x="12992" y="12156"/>
                  <a:pt x="13196" y="12179"/>
                </a:cubicBezTo>
                <a:cubicBezTo>
                  <a:pt x="13360" y="12198"/>
                  <a:pt x="13529" y="12207"/>
                  <a:pt x="13692" y="12229"/>
                </a:cubicBezTo>
                <a:cubicBezTo>
                  <a:pt x="13833" y="12248"/>
                  <a:pt x="13974" y="12260"/>
                  <a:pt x="14114" y="12278"/>
                </a:cubicBezTo>
                <a:cubicBezTo>
                  <a:pt x="14204" y="12290"/>
                  <a:pt x="14295" y="12312"/>
                  <a:pt x="14387" y="12303"/>
                </a:cubicBezTo>
                <a:cubicBezTo>
                  <a:pt x="14430" y="12299"/>
                  <a:pt x="14480" y="12305"/>
                  <a:pt x="14511" y="12278"/>
                </a:cubicBezTo>
                <a:cubicBezTo>
                  <a:pt x="14511" y="12250"/>
                  <a:pt x="14508" y="12240"/>
                  <a:pt x="14486" y="122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17960" y="4419720"/>
            <a:ext cx="689040" cy="671400"/>
          </a:xfrm>
          <a:custGeom>
            <a:avLst/>
            <a:gdLst/>
            <a:ahLst/>
            <a:rect l="l" t="t" r="r" b="b"/>
            <a:pathLst>
              <a:path w="1911" h="1862">
                <a:moveTo>
                  <a:pt x="11162" y="13047"/>
                </a:moveTo>
                <a:cubicBezTo>
                  <a:pt x="11282" y="13047"/>
                  <a:pt x="11859" y="13114"/>
                  <a:pt x="11906" y="13022"/>
                </a:cubicBezTo>
                <a:cubicBezTo>
                  <a:pt x="11906" y="12998"/>
                  <a:pt x="11906" y="12990"/>
                  <a:pt x="11931" y="12998"/>
                </a:cubicBezTo>
              </a:path>
              <a:path w="1911" h="1862">
                <a:moveTo>
                  <a:pt x="12427" y="12675"/>
                </a:moveTo>
                <a:cubicBezTo>
                  <a:pt x="12408" y="12755"/>
                  <a:pt x="12402" y="12796"/>
                  <a:pt x="12402" y="12874"/>
                </a:cubicBezTo>
                <a:cubicBezTo>
                  <a:pt x="12402" y="12937"/>
                  <a:pt x="12410" y="12971"/>
                  <a:pt x="12427" y="13022"/>
                </a:cubicBezTo>
                <a:cubicBezTo>
                  <a:pt x="12441" y="13063"/>
                  <a:pt x="12413" y="12990"/>
                  <a:pt x="12402" y="12948"/>
                </a:cubicBezTo>
                <a:cubicBezTo>
                  <a:pt x="12375" y="12839"/>
                  <a:pt x="12357" y="12382"/>
                  <a:pt x="12427" y="12303"/>
                </a:cubicBezTo>
                <a:cubicBezTo>
                  <a:pt x="12461" y="12265"/>
                  <a:pt x="12502" y="12278"/>
                  <a:pt x="12551" y="12278"/>
                </a:cubicBezTo>
                <a:cubicBezTo>
                  <a:pt x="12656" y="12278"/>
                  <a:pt x="12757" y="12278"/>
                  <a:pt x="12849" y="12303"/>
                </a:cubicBezTo>
                <a:cubicBezTo>
                  <a:pt x="12857" y="12303"/>
                  <a:pt x="12866" y="12303"/>
                  <a:pt x="12874" y="12303"/>
                </a:cubicBezTo>
              </a:path>
              <a:path w="1911" h="1862">
                <a:moveTo>
                  <a:pt x="12601" y="12502"/>
                </a:moveTo>
                <a:cubicBezTo>
                  <a:pt x="12601" y="12510"/>
                  <a:pt x="12601" y="12518"/>
                  <a:pt x="12601" y="12526"/>
                </a:cubicBezTo>
                <a:cubicBezTo>
                  <a:pt x="12639" y="12514"/>
                  <a:pt x="12622" y="12502"/>
                  <a:pt x="12675" y="12502"/>
                </a:cubicBezTo>
                <a:cubicBezTo>
                  <a:pt x="12723" y="12502"/>
                  <a:pt x="12753" y="12462"/>
                  <a:pt x="12799" y="12477"/>
                </a:cubicBezTo>
                <a:cubicBezTo>
                  <a:pt x="12834" y="12489"/>
                  <a:pt x="12861" y="12508"/>
                  <a:pt x="12874" y="12526"/>
                </a:cubicBezTo>
                <a:cubicBezTo>
                  <a:pt x="12892" y="12550"/>
                  <a:pt x="12885" y="12619"/>
                  <a:pt x="12849" y="12650"/>
                </a:cubicBezTo>
                <a:cubicBezTo>
                  <a:pt x="12837" y="12660"/>
                  <a:pt x="12745" y="12693"/>
                  <a:pt x="12725" y="12700"/>
                </a:cubicBezTo>
                <a:cubicBezTo>
                  <a:pt x="12682" y="12714"/>
                  <a:pt x="12661" y="12700"/>
                  <a:pt x="12725" y="12700"/>
                </a:cubicBezTo>
                <a:cubicBezTo>
                  <a:pt x="12800" y="12700"/>
                  <a:pt x="12807" y="12724"/>
                  <a:pt x="12849" y="12774"/>
                </a:cubicBezTo>
                <a:cubicBezTo>
                  <a:pt x="12878" y="12809"/>
                  <a:pt x="12920" y="12855"/>
                  <a:pt x="12923" y="12898"/>
                </a:cubicBezTo>
                <a:cubicBezTo>
                  <a:pt x="12928" y="12967"/>
                  <a:pt x="12922" y="12998"/>
                  <a:pt x="12849" y="13022"/>
                </a:cubicBezTo>
                <a:cubicBezTo>
                  <a:pt x="12805" y="13036"/>
                  <a:pt x="12778" y="13047"/>
                  <a:pt x="12725" y="13047"/>
                </a:cubicBezTo>
                <a:cubicBezTo>
                  <a:pt x="12655" y="13047"/>
                  <a:pt x="12649" y="13044"/>
                  <a:pt x="12576" y="13022"/>
                </a:cubicBezTo>
              </a:path>
              <a:path w="1911" h="1862">
                <a:moveTo>
                  <a:pt x="12254" y="12998"/>
                </a:moveTo>
                <a:cubicBezTo>
                  <a:pt x="12315" y="13028"/>
                  <a:pt x="12386" y="13063"/>
                  <a:pt x="12452" y="13072"/>
                </a:cubicBezTo>
                <a:cubicBezTo>
                  <a:pt x="12560" y="13086"/>
                  <a:pt x="12665" y="13109"/>
                  <a:pt x="12774" y="13122"/>
                </a:cubicBezTo>
                <a:cubicBezTo>
                  <a:pt x="12869" y="13134"/>
                  <a:pt x="12967" y="13124"/>
                  <a:pt x="13047" y="13097"/>
                </a:cubicBezTo>
                <a:cubicBezTo>
                  <a:pt x="13055" y="13097"/>
                  <a:pt x="13064" y="13097"/>
                  <a:pt x="13072" y="13097"/>
                </a:cubicBezTo>
              </a:path>
              <a:path w="1911" h="1862">
                <a:moveTo>
                  <a:pt x="12502" y="13469"/>
                </a:moveTo>
                <a:cubicBezTo>
                  <a:pt x="12561" y="13469"/>
                  <a:pt x="12580" y="13460"/>
                  <a:pt x="12626" y="13444"/>
                </a:cubicBezTo>
                <a:cubicBezTo>
                  <a:pt x="12673" y="13428"/>
                  <a:pt x="12715" y="13458"/>
                  <a:pt x="12750" y="13469"/>
                </a:cubicBezTo>
                <a:cubicBezTo>
                  <a:pt x="12777" y="13477"/>
                  <a:pt x="12837" y="13499"/>
                  <a:pt x="12824" y="13543"/>
                </a:cubicBezTo>
                <a:cubicBezTo>
                  <a:pt x="12799" y="13629"/>
                  <a:pt x="12758" y="13615"/>
                  <a:pt x="12700" y="13643"/>
                </a:cubicBezTo>
                <a:cubicBezTo>
                  <a:pt x="12656" y="13664"/>
                  <a:pt x="12628" y="13667"/>
                  <a:pt x="12576" y="13667"/>
                </a:cubicBezTo>
                <a:cubicBezTo>
                  <a:pt x="12568" y="13667"/>
                  <a:pt x="12559" y="13667"/>
                  <a:pt x="12551" y="13667"/>
                </a:cubicBezTo>
                <a:cubicBezTo>
                  <a:pt x="12591" y="13707"/>
                  <a:pt x="12634" y="13731"/>
                  <a:pt x="12675" y="13767"/>
                </a:cubicBezTo>
                <a:cubicBezTo>
                  <a:pt x="12730" y="13816"/>
                  <a:pt x="12767" y="13895"/>
                  <a:pt x="12774" y="13965"/>
                </a:cubicBezTo>
                <a:cubicBezTo>
                  <a:pt x="12780" y="14019"/>
                  <a:pt x="12785" y="14074"/>
                  <a:pt x="12750" y="14114"/>
                </a:cubicBezTo>
                <a:cubicBezTo>
                  <a:pt x="12701" y="14170"/>
                  <a:pt x="12670" y="14129"/>
                  <a:pt x="12626" y="14114"/>
                </a:cubicBezTo>
                <a:cubicBezTo>
                  <a:pt x="12581" y="14099"/>
                  <a:pt x="12524" y="14076"/>
                  <a:pt x="12477" y="14064"/>
                </a:cubicBezTo>
                <a:cubicBezTo>
                  <a:pt x="12437" y="14054"/>
                  <a:pt x="12394" y="14047"/>
                  <a:pt x="12353" y="140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17920" y="4419720"/>
            <a:ext cx="295200" cy="250560"/>
          </a:xfrm>
          <a:custGeom>
            <a:avLst/>
            <a:gdLst/>
            <a:ahLst/>
            <a:rect l="l" t="t" r="r" b="b"/>
            <a:pathLst>
              <a:path w="820" h="696">
                <a:moveTo>
                  <a:pt x="10046" y="12427"/>
                </a:moveTo>
                <a:cubicBezTo>
                  <a:pt x="10046" y="12396"/>
                  <a:pt x="10054" y="12361"/>
                  <a:pt x="10071" y="12353"/>
                </a:cubicBezTo>
                <a:cubicBezTo>
                  <a:pt x="10100" y="12338"/>
                  <a:pt x="10099" y="12308"/>
                  <a:pt x="10145" y="12303"/>
                </a:cubicBezTo>
                <a:cubicBezTo>
                  <a:pt x="10201" y="12297"/>
                  <a:pt x="10235" y="12278"/>
                  <a:pt x="10294" y="12278"/>
                </a:cubicBezTo>
                <a:cubicBezTo>
                  <a:pt x="10321" y="12278"/>
                  <a:pt x="10407" y="12293"/>
                  <a:pt x="10418" y="12328"/>
                </a:cubicBezTo>
                <a:cubicBezTo>
                  <a:pt x="10436" y="12385"/>
                  <a:pt x="10399" y="12458"/>
                  <a:pt x="10368" y="12502"/>
                </a:cubicBezTo>
                <a:cubicBezTo>
                  <a:pt x="10339" y="12545"/>
                  <a:pt x="10278" y="12553"/>
                  <a:pt x="10244" y="12576"/>
                </a:cubicBezTo>
                <a:cubicBezTo>
                  <a:pt x="10215" y="12596"/>
                  <a:pt x="10120" y="12601"/>
                  <a:pt x="10170" y="12601"/>
                </a:cubicBezTo>
                <a:cubicBezTo>
                  <a:pt x="10215" y="12601"/>
                  <a:pt x="10238" y="12576"/>
                  <a:pt x="10294" y="12576"/>
                </a:cubicBezTo>
                <a:cubicBezTo>
                  <a:pt x="10350" y="12576"/>
                  <a:pt x="10381" y="12614"/>
                  <a:pt x="10418" y="12650"/>
                </a:cubicBezTo>
                <a:cubicBezTo>
                  <a:pt x="10465" y="12696"/>
                  <a:pt x="10487" y="12708"/>
                  <a:pt x="10492" y="12774"/>
                </a:cubicBezTo>
                <a:cubicBezTo>
                  <a:pt x="10498" y="12846"/>
                  <a:pt x="10489" y="12844"/>
                  <a:pt x="10443" y="12874"/>
                </a:cubicBezTo>
                <a:cubicBezTo>
                  <a:pt x="10397" y="12904"/>
                  <a:pt x="10377" y="12918"/>
                  <a:pt x="10319" y="12923"/>
                </a:cubicBezTo>
                <a:cubicBezTo>
                  <a:pt x="10260" y="12928"/>
                  <a:pt x="10223" y="12921"/>
                  <a:pt x="10170" y="12898"/>
                </a:cubicBezTo>
              </a:path>
              <a:path w="820" h="696">
                <a:moveTo>
                  <a:pt x="9773" y="12948"/>
                </a:moveTo>
                <a:cubicBezTo>
                  <a:pt x="9843" y="12974"/>
                  <a:pt x="9895" y="12973"/>
                  <a:pt x="9971" y="12973"/>
                </a:cubicBezTo>
                <a:cubicBezTo>
                  <a:pt x="10186" y="12973"/>
                  <a:pt x="10782" y="12973"/>
                  <a:pt x="10567" y="129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2920" y="4776840"/>
            <a:ext cx="187200" cy="250920"/>
          </a:xfrm>
          <a:custGeom>
            <a:avLst/>
            <a:gdLst/>
            <a:ahLst/>
            <a:rect l="l" t="t" r="r" b="b"/>
            <a:pathLst>
              <a:path w="522" h="695">
                <a:moveTo>
                  <a:pt x="10145" y="13320"/>
                </a:moveTo>
                <a:cubicBezTo>
                  <a:pt x="10176" y="13310"/>
                  <a:pt x="10199" y="13313"/>
                  <a:pt x="10244" y="13295"/>
                </a:cubicBezTo>
                <a:cubicBezTo>
                  <a:pt x="10297" y="13274"/>
                  <a:pt x="10330" y="13271"/>
                  <a:pt x="10393" y="13271"/>
                </a:cubicBezTo>
                <a:cubicBezTo>
                  <a:pt x="10450" y="13271"/>
                  <a:pt x="10491" y="13284"/>
                  <a:pt x="10517" y="13295"/>
                </a:cubicBezTo>
                <a:cubicBezTo>
                  <a:pt x="10534" y="13302"/>
                  <a:pt x="10566" y="13336"/>
                  <a:pt x="10542" y="13370"/>
                </a:cubicBezTo>
                <a:cubicBezTo>
                  <a:pt x="10506" y="13420"/>
                  <a:pt x="10459" y="13441"/>
                  <a:pt x="10418" y="13469"/>
                </a:cubicBezTo>
                <a:cubicBezTo>
                  <a:pt x="10378" y="13496"/>
                  <a:pt x="10260" y="13485"/>
                  <a:pt x="10294" y="13519"/>
                </a:cubicBezTo>
                <a:cubicBezTo>
                  <a:pt x="10298" y="13523"/>
                  <a:pt x="10340" y="13494"/>
                  <a:pt x="10368" y="13494"/>
                </a:cubicBezTo>
                <a:cubicBezTo>
                  <a:pt x="10424" y="13494"/>
                  <a:pt x="10475" y="13482"/>
                  <a:pt x="10517" y="13519"/>
                </a:cubicBezTo>
                <a:cubicBezTo>
                  <a:pt x="10574" y="13569"/>
                  <a:pt x="10586" y="13610"/>
                  <a:pt x="10616" y="13667"/>
                </a:cubicBezTo>
                <a:cubicBezTo>
                  <a:pt x="10654" y="13739"/>
                  <a:pt x="10652" y="13769"/>
                  <a:pt x="10641" y="13841"/>
                </a:cubicBezTo>
                <a:cubicBezTo>
                  <a:pt x="10633" y="13894"/>
                  <a:pt x="10633" y="13899"/>
                  <a:pt x="10592" y="13940"/>
                </a:cubicBezTo>
                <a:cubicBezTo>
                  <a:pt x="10549" y="13983"/>
                  <a:pt x="10477" y="13965"/>
                  <a:pt x="10418" y="13965"/>
                </a:cubicBezTo>
                <a:cubicBezTo>
                  <a:pt x="10357" y="13965"/>
                  <a:pt x="10321" y="13931"/>
                  <a:pt x="10269" y="13915"/>
                </a:cubicBezTo>
                <a:cubicBezTo>
                  <a:pt x="10243" y="13907"/>
                  <a:pt x="10185" y="13896"/>
                  <a:pt x="10170" y="13866"/>
                </a:cubicBezTo>
                <a:cubicBezTo>
                  <a:pt x="10159" y="13844"/>
                  <a:pt x="10188" y="13837"/>
                  <a:pt x="10195" y="138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2040" y="4054320"/>
            <a:ext cx="1973160" cy="776520"/>
          </a:xfrm>
          <a:custGeom>
            <a:avLst/>
            <a:gdLst/>
            <a:ahLst/>
            <a:rect l="l" t="t" r="r" b="b"/>
            <a:pathLst>
              <a:path w="5483" h="2159">
                <a:moveTo>
                  <a:pt x="17338" y="12229"/>
                </a:moveTo>
                <a:cubicBezTo>
                  <a:pt x="17413" y="12229"/>
                  <a:pt x="17487" y="12229"/>
                  <a:pt x="17562" y="12229"/>
                </a:cubicBezTo>
              </a:path>
              <a:path w="5483" h="2159">
                <a:moveTo>
                  <a:pt x="17388" y="12402"/>
                </a:moveTo>
                <a:cubicBezTo>
                  <a:pt x="17432" y="12435"/>
                  <a:pt x="17454" y="12427"/>
                  <a:pt x="17512" y="12427"/>
                </a:cubicBezTo>
                <a:cubicBezTo>
                  <a:pt x="17547" y="12427"/>
                  <a:pt x="17565" y="12422"/>
                  <a:pt x="17587" y="12402"/>
                </a:cubicBezTo>
              </a:path>
              <a:path w="5483" h="2159">
                <a:moveTo>
                  <a:pt x="17959" y="11757"/>
                </a:moveTo>
                <a:cubicBezTo>
                  <a:pt x="18027" y="11757"/>
                  <a:pt x="18077" y="11741"/>
                  <a:pt x="18132" y="11733"/>
                </a:cubicBezTo>
                <a:cubicBezTo>
                  <a:pt x="18157" y="11733"/>
                  <a:pt x="18182" y="11733"/>
                  <a:pt x="18207" y="11733"/>
                </a:cubicBezTo>
              </a:path>
              <a:path w="5483" h="2159">
                <a:moveTo>
                  <a:pt x="18504" y="11361"/>
                </a:moveTo>
                <a:cubicBezTo>
                  <a:pt x="18581" y="11342"/>
                  <a:pt x="18656" y="11318"/>
                  <a:pt x="18728" y="11361"/>
                </a:cubicBezTo>
                <a:cubicBezTo>
                  <a:pt x="18790" y="11398"/>
                  <a:pt x="18777" y="11441"/>
                  <a:pt x="18752" y="11485"/>
                </a:cubicBezTo>
                <a:cubicBezTo>
                  <a:pt x="18714" y="11553"/>
                  <a:pt x="18685" y="11585"/>
                  <a:pt x="18628" y="11633"/>
                </a:cubicBezTo>
                <a:cubicBezTo>
                  <a:pt x="18589" y="11665"/>
                  <a:pt x="18539" y="11684"/>
                  <a:pt x="18504" y="11708"/>
                </a:cubicBezTo>
                <a:cubicBezTo>
                  <a:pt x="18482" y="11730"/>
                  <a:pt x="18473" y="11735"/>
                  <a:pt x="18479" y="11757"/>
                </a:cubicBezTo>
                <a:cubicBezTo>
                  <a:pt x="18547" y="11741"/>
                  <a:pt x="18553" y="11740"/>
                  <a:pt x="18628" y="11757"/>
                </a:cubicBezTo>
                <a:cubicBezTo>
                  <a:pt x="18701" y="11773"/>
                  <a:pt x="18724" y="11804"/>
                  <a:pt x="18777" y="11857"/>
                </a:cubicBezTo>
                <a:cubicBezTo>
                  <a:pt x="18847" y="11926"/>
                  <a:pt x="18815" y="11951"/>
                  <a:pt x="18802" y="12030"/>
                </a:cubicBezTo>
                <a:cubicBezTo>
                  <a:pt x="18786" y="12123"/>
                  <a:pt x="18754" y="12101"/>
                  <a:pt x="18678" y="12154"/>
                </a:cubicBezTo>
                <a:cubicBezTo>
                  <a:pt x="18626" y="12190"/>
                  <a:pt x="18570" y="12179"/>
                  <a:pt x="18504" y="12179"/>
                </a:cubicBezTo>
                <a:cubicBezTo>
                  <a:pt x="18449" y="12179"/>
                  <a:pt x="18400" y="12139"/>
                  <a:pt x="18355" y="12105"/>
                </a:cubicBezTo>
                <a:cubicBezTo>
                  <a:pt x="18331" y="12080"/>
                  <a:pt x="18323" y="12072"/>
                  <a:pt x="18355" y="12055"/>
                </a:cubicBezTo>
              </a:path>
              <a:path w="5483" h="2159">
                <a:moveTo>
                  <a:pt x="18976" y="11807"/>
                </a:moveTo>
                <a:cubicBezTo>
                  <a:pt x="19064" y="11788"/>
                  <a:pt x="19175" y="11789"/>
                  <a:pt x="19248" y="11757"/>
                </a:cubicBezTo>
              </a:path>
              <a:path w="5483" h="2159">
                <a:moveTo>
                  <a:pt x="19472" y="11534"/>
                </a:moveTo>
                <a:cubicBezTo>
                  <a:pt x="19472" y="11679"/>
                  <a:pt x="19476" y="11815"/>
                  <a:pt x="19496" y="11956"/>
                </a:cubicBezTo>
                <a:cubicBezTo>
                  <a:pt x="19507" y="12036"/>
                  <a:pt x="19496" y="12124"/>
                  <a:pt x="19496" y="12204"/>
                </a:cubicBezTo>
                <a:cubicBezTo>
                  <a:pt x="19496" y="12134"/>
                  <a:pt x="19483" y="12094"/>
                  <a:pt x="19472" y="12030"/>
                </a:cubicBezTo>
                <a:cubicBezTo>
                  <a:pt x="19449" y="11897"/>
                  <a:pt x="19474" y="11728"/>
                  <a:pt x="19496" y="11609"/>
                </a:cubicBezTo>
                <a:cubicBezTo>
                  <a:pt x="19509" y="11539"/>
                  <a:pt x="19521" y="11491"/>
                  <a:pt x="19571" y="11435"/>
                </a:cubicBezTo>
                <a:cubicBezTo>
                  <a:pt x="19603" y="11399"/>
                  <a:pt x="19673" y="11369"/>
                  <a:pt x="19720" y="11361"/>
                </a:cubicBezTo>
                <a:cubicBezTo>
                  <a:pt x="19758" y="11354"/>
                  <a:pt x="19893" y="11327"/>
                  <a:pt x="19918" y="11336"/>
                </a:cubicBezTo>
                <a:cubicBezTo>
                  <a:pt x="19957" y="11350"/>
                  <a:pt x="19947" y="11361"/>
                  <a:pt x="19993" y="11361"/>
                </a:cubicBezTo>
              </a:path>
              <a:path w="5483" h="2159">
                <a:moveTo>
                  <a:pt x="19695" y="11609"/>
                </a:moveTo>
                <a:cubicBezTo>
                  <a:pt x="19749" y="11609"/>
                  <a:pt x="19777" y="11593"/>
                  <a:pt x="19819" y="11584"/>
                </a:cubicBezTo>
                <a:cubicBezTo>
                  <a:pt x="19847" y="11578"/>
                  <a:pt x="19946" y="11552"/>
                  <a:pt x="19968" y="11559"/>
                </a:cubicBezTo>
                <a:cubicBezTo>
                  <a:pt x="19990" y="11581"/>
                  <a:pt x="19995" y="11590"/>
                  <a:pt x="20017" y="11584"/>
                </a:cubicBezTo>
                <a:cubicBezTo>
                  <a:pt x="20001" y="11667"/>
                  <a:pt x="19986" y="11654"/>
                  <a:pt x="19943" y="11708"/>
                </a:cubicBezTo>
                <a:cubicBezTo>
                  <a:pt x="19896" y="11768"/>
                  <a:pt x="19876" y="11807"/>
                  <a:pt x="19794" y="11832"/>
                </a:cubicBezTo>
                <a:cubicBezTo>
                  <a:pt x="19769" y="11832"/>
                  <a:pt x="19761" y="11832"/>
                  <a:pt x="19745" y="11832"/>
                </a:cubicBezTo>
                <a:cubicBezTo>
                  <a:pt x="19759" y="11860"/>
                  <a:pt x="19767" y="11832"/>
                  <a:pt x="19819" y="11832"/>
                </a:cubicBezTo>
                <a:cubicBezTo>
                  <a:pt x="19886" y="11832"/>
                  <a:pt x="19936" y="11841"/>
                  <a:pt x="19993" y="11881"/>
                </a:cubicBezTo>
                <a:cubicBezTo>
                  <a:pt x="20020" y="11900"/>
                  <a:pt x="20071" y="12009"/>
                  <a:pt x="20067" y="12030"/>
                </a:cubicBezTo>
                <a:cubicBezTo>
                  <a:pt x="20063" y="12051"/>
                  <a:pt x="19996" y="12146"/>
                  <a:pt x="19968" y="12154"/>
                </a:cubicBezTo>
                <a:cubicBezTo>
                  <a:pt x="19914" y="12169"/>
                  <a:pt x="19879" y="12179"/>
                  <a:pt x="19819" y="12179"/>
                </a:cubicBezTo>
                <a:cubicBezTo>
                  <a:pt x="19745" y="12179"/>
                  <a:pt x="19670" y="12179"/>
                  <a:pt x="19596" y="12179"/>
                </a:cubicBezTo>
              </a:path>
              <a:path w="5483" h="2159">
                <a:moveTo>
                  <a:pt x="18355" y="12353"/>
                </a:moveTo>
                <a:cubicBezTo>
                  <a:pt x="18444" y="12380"/>
                  <a:pt x="18510" y="12378"/>
                  <a:pt x="18604" y="12378"/>
                </a:cubicBezTo>
                <a:cubicBezTo>
                  <a:pt x="18879" y="12378"/>
                  <a:pt x="19151" y="12380"/>
                  <a:pt x="19422" y="12353"/>
                </a:cubicBezTo>
                <a:cubicBezTo>
                  <a:pt x="19527" y="12342"/>
                  <a:pt x="19628" y="12359"/>
                  <a:pt x="19720" y="12328"/>
                </a:cubicBezTo>
                <a:cubicBezTo>
                  <a:pt x="19748" y="12328"/>
                  <a:pt x="19754" y="12326"/>
                  <a:pt x="19720" y="12303"/>
                </a:cubicBezTo>
              </a:path>
              <a:path w="5483" h="2159">
                <a:moveTo>
                  <a:pt x="18876" y="12650"/>
                </a:moveTo>
                <a:cubicBezTo>
                  <a:pt x="18913" y="12623"/>
                  <a:pt x="18978" y="12609"/>
                  <a:pt x="19025" y="12601"/>
                </a:cubicBezTo>
                <a:cubicBezTo>
                  <a:pt x="19069" y="12594"/>
                  <a:pt x="19223" y="12575"/>
                  <a:pt x="19248" y="12626"/>
                </a:cubicBezTo>
                <a:cubicBezTo>
                  <a:pt x="19267" y="12665"/>
                  <a:pt x="19229" y="12729"/>
                  <a:pt x="19199" y="12750"/>
                </a:cubicBezTo>
                <a:cubicBezTo>
                  <a:pt x="19166" y="12773"/>
                  <a:pt x="19085" y="12810"/>
                  <a:pt x="19050" y="12824"/>
                </a:cubicBezTo>
                <a:cubicBezTo>
                  <a:pt x="19042" y="12824"/>
                  <a:pt x="19033" y="12824"/>
                  <a:pt x="19025" y="12824"/>
                </a:cubicBezTo>
                <a:cubicBezTo>
                  <a:pt x="19066" y="12834"/>
                  <a:pt x="19111" y="12866"/>
                  <a:pt x="19149" y="12874"/>
                </a:cubicBezTo>
                <a:cubicBezTo>
                  <a:pt x="19216" y="12887"/>
                  <a:pt x="19259" y="12933"/>
                  <a:pt x="19298" y="12998"/>
                </a:cubicBezTo>
                <a:cubicBezTo>
                  <a:pt x="19332" y="13055"/>
                  <a:pt x="19323" y="13107"/>
                  <a:pt x="19323" y="13171"/>
                </a:cubicBezTo>
                <a:cubicBezTo>
                  <a:pt x="19323" y="13218"/>
                  <a:pt x="19298" y="13273"/>
                  <a:pt x="19248" y="13295"/>
                </a:cubicBezTo>
                <a:cubicBezTo>
                  <a:pt x="19185" y="13323"/>
                  <a:pt x="19107" y="13281"/>
                  <a:pt x="19050" y="13271"/>
                </a:cubicBezTo>
                <a:cubicBezTo>
                  <a:pt x="19004" y="13263"/>
                  <a:pt x="18903" y="13264"/>
                  <a:pt x="18876" y="13221"/>
                </a:cubicBezTo>
                <a:cubicBezTo>
                  <a:pt x="18851" y="13181"/>
                  <a:pt x="18855" y="13212"/>
                  <a:pt x="18876" y="13146"/>
                </a:cubicBezTo>
              </a:path>
              <a:path w="5483" h="2159">
                <a:moveTo>
                  <a:pt x="20315" y="12378"/>
                </a:moveTo>
                <a:cubicBezTo>
                  <a:pt x="20282" y="12410"/>
                  <a:pt x="20251" y="12422"/>
                  <a:pt x="20241" y="12452"/>
                </a:cubicBezTo>
                <a:cubicBezTo>
                  <a:pt x="20282" y="12452"/>
                  <a:pt x="20335" y="12469"/>
                  <a:pt x="20340" y="12427"/>
                </a:cubicBezTo>
                <a:cubicBezTo>
                  <a:pt x="20347" y="12372"/>
                  <a:pt x="20329" y="12376"/>
                  <a:pt x="20290" y="12402"/>
                </a:cubicBezTo>
                <a:cubicBezTo>
                  <a:pt x="20267" y="12425"/>
                  <a:pt x="20259" y="12429"/>
                  <a:pt x="20265" y="12452"/>
                </a:cubicBezTo>
                <a:cubicBezTo>
                  <a:pt x="20284" y="12452"/>
                  <a:pt x="20359" y="12437"/>
                  <a:pt x="20315" y="12402"/>
                </a:cubicBezTo>
                <a:cubicBezTo>
                  <a:pt x="20302" y="12392"/>
                  <a:pt x="20243" y="12403"/>
                  <a:pt x="20290" y="12427"/>
                </a:cubicBezTo>
              </a:path>
              <a:path w="5483" h="2159">
                <a:moveTo>
                  <a:pt x="21258" y="11410"/>
                </a:moveTo>
                <a:cubicBezTo>
                  <a:pt x="21258" y="11365"/>
                  <a:pt x="21253" y="11301"/>
                  <a:pt x="21282" y="11286"/>
                </a:cubicBezTo>
                <a:cubicBezTo>
                  <a:pt x="21351" y="11251"/>
                  <a:pt x="21540" y="11280"/>
                  <a:pt x="21605" y="11311"/>
                </a:cubicBezTo>
                <a:cubicBezTo>
                  <a:pt x="21671" y="11342"/>
                  <a:pt x="21684" y="11333"/>
                  <a:pt x="21704" y="11410"/>
                </a:cubicBezTo>
                <a:cubicBezTo>
                  <a:pt x="21709" y="11430"/>
                  <a:pt x="21644" y="11522"/>
                  <a:pt x="21630" y="11534"/>
                </a:cubicBezTo>
                <a:cubicBezTo>
                  <a:pt x="21585" y="11573"/>
                  <a:pt x="21510" y="11604"/>
                  <a:pt x="21456" y="11609"/>
                </a:cubicBezTo>
                <a:cubicBezTo>
                  <a:pt x="21432" y="11611"/>
                  <a:pt x="21406" y="11609"/>
                  <a:pt x="21382" y="11609"/>
                </a:cubicBezTo>
                <a:cubicBezTo>
                  <a:pt x="21382" y="11654"/>
                  <a:pt x="21390" y="11593"/>
                  <a:pt x="21431" y="11584"/>
                </a:cubicBezTo>
                <a:cubicBezTo>
                  <a:pt x="21489" y="11572"/>
                  <a:pt x="21581" y="11576"/>
                  <a:pt x="21630" y="11609"/>
                </a:cubicBezTo>
                <a:cubicBezTo>
                  <a:pt x="21677" y="11640"/>
                  <a:pt x="21695" y="11706"/>
                  <a:pt x="21704" y="11757"/>
                </a:cubicBezTo>
                <a:cubicBezTo>
                  <a:pt x="21716" y="11828"/>
                  <a:pt x="21686" y="11851"/>
                  <a:pt x="21654" y="11906"/>
                </a:cubicBezTo>
                <a:cubicBezTo>
                  <a:pt x="21621" y="11963"/>
                  <a:pt x="21598" y="12007"/>
                  <a:pt x="21530" y="12030"/>
                </a:cubicBezTo>
                <a:cubicBezTo>
                  <a:pt x="21474" y="12049"/>
                  <a:pt x="21427" y="12055"/>
                  <a:pt x="21357" y="12055"/>
                </a:cubicBezTo>
              </a:path>
              <a:path w="5483" h="2159">
                <a:moveTo>
                  <a:pt x="20861" y="12179"/>
                </a:moveTo>
                <a:cubicBezTo>
                  <a:pt x="21103" y="12179"/>
                  <a:pt x="21342" y="12186"/>
                  <a:pt x="21580" y="12204"/>
                </a:cubicBezTo>
                <a:cubicBezTo>
                  <a:pt x="21744" y="12216"/>
                  <a:pt x="22207" y="12284"/>
                  <a:pt x="22349" y="12179"/>
                </a:cubicBezTo>
                <a:cubicBezTo>
                  <a:pt x="22349" y="12154"/>
                  <a:pt x="22349" y="12146"/>
                  <a:pt x="22349" y="12129"/>
                </a:cubicBezTo>
              </a:path>
              <a:path w="5483" h="2159">
                <a:moveTo>
                  <a:pt x="21059" y="12650"/>
                </a:moveTo>
                <a:cubicBezTo>
                  <a:pt x="21099" y="12619"/>
                  <a:pt x="21157" y="12585"/>
                  <a:pt x="21208" y="12576"/>
                </a:cubicBezTo>
                <a:cubicBezTo>
                  <a:pt x="21277" y="12564"/>
                  <a:pt x="21334" y="12551"/>
                  <a:pt x="21406" y="12551"/>
                </a:cubicBezTo>
                <a:cubicBezTo>
                  <a:pt x="21451" y="12551"/>
                  <a:pt x="21464" y="12548"/>
                  <a:pt x="21481" y="12576"/>
                </a:cubicBezTo>
                <a:cubicBezTo>
                  <a:pt x="21441" y="12645"/>
                  <a:pt x="21418" y="12654"/>
                  <a:pt x="21357" y="12700"/>
                </a:cubicBezTo>
                <a:cubicBezTo>
                  <a:pt x="21306" y="12739"/>
                  <a:pt x="21259" y="12747"/>
                  <a:pt x="21208" y="12774"/>
                </a:cubicBezTo>
                <a:cubicBezTo>
                  <a:pt x="21170" y="12794"/>
                  <a:pt x="21070" y="12805"/>
                  <a:pt x="21109" y="12824"/>
                </a:cubicBezTo>
                <a:cubicBezTo>
                  <a:pt x="21135" y="12837"/>
                  <a:pt x="21205" y="12847"/>
                  <a:pt x="21233" y="12849"/>
                </a:cubicBezTo>
                <a:cubicBezTo>
                  <a:pt x="21303" y="12854"/>
                  <a:pt x="21306" y="12848"/>
                  <a:pt x="21357" y="12898"/>
                </a:cubicBezTo>
                <a:cubicBezTo>
                  <a:pt x="21391" y="12931"/>
                  <a:pt x="21415" y="13024"/>
                  <a:pt x="21406" y="13072"/>
                </a:cubicBezTo>
                <a:cubicBezTo>
                  <a:pt x="21392" y="13144"/>
                  <a:pt x="21330" y="13197"/>
                  <a:pt x="21282" y="13246"/>
                </a:cubicBezTo>
                <a:cubicBezTo>
                  <a:pt x="21252" y="13277"/>
                  <a:pt x="21179" y="13292"/>
                  <a:pt x="21134" y="13295"/>
                </a:cubicBezTo>
                <a:cubicBezTo>
                  <a:pt x="21065" y="13299"/>
                  <a:pt x="21016" y="13289"/>
                  <a:pt x="20960" y="13271"/>
                </a:cubicBezTo>
                <a:cubicBezTo>
                  <a:pt x="20920" y="13258"/>
                  <a:pt x="20913" y="13254"/>
                  <a:pt x="20935" y="13221"/>
                </a:cubicBezTo>
              </a:path>
              <a:path w="5483" h="2159">
                <a:moveTo>
                  <a:pt x="21506" y="13022"/>
                </a:moveTo>
                <a:cubicBezTo>
                  <a:pt x="21593" y="13022"/>
                  <a:pt x="21657" y="13012"/>
                  <a:pt x="21729" y="12998"/>
                </a:cubicBezTo>
                <a:cubicBezTo>
                  <a:pt x="21805" y="12983"/>
                  <a:pt x="21817" y="12963"/>
                  <a:pt x="21878" y="12923"/>
                </a:cubicBezTo>
                <a:cubicBezTo>
                  <a:pt x="21944" y="12890"/>
                  <a:pt x="21968" y="12865"/>
                  <a:pt x="21977" y="12799"/>
                </a:cubicBezTo>
              </a:path>
              <a:path w="5483" h="2159">
                <a:moveTo>
                  <a:pt x="22027" y="12675"/>
                </a:moveTo>
                <a:cubicBezTo>
                  <a:pt x="22027" y="12807"/>
                  <a:pt x="22016" y="12917"/>
                  <a:pt x="22002" y="13047"/>
                </a:cubicBezTo>
                <a:cubicBezTo>
                  <a:pt x="21991" y="13146"/>
                  <a:pt x="22071" y="13409"/>
                  <a:pt x="22027" y="13320"/>
                </a:cubicBezTo>
                <a:cubicBezTo>
                  <a:pt x="22001" y="13268"/>
                  <a:pt x="22002" y="13238"/>
                  <a:pt x="22002" y="13171"/>
                </a:cubicBezTo>
                <a:cubicBezTo>
                  <a:pt x="22002" y="13097"/>
                  <a:pt x="21981" y="13043"/>
                  <a:pt x="21977" y="12973"/>
                </a:cubicBezTo>
                <a:cubicBezTo>
                  <a:pt x="21972" y="12881"/>
                  <a:pt x="22010" y="12837"/>
                  <a:pt x="22027" y="12750"/>
                </a:cubicBezTo>
                <a:cubicBezTo>
                  <a:pt x="22043" y="12664"/>
                  <a:pt x="22056" y="12678"/>
                  <a:pt x="22126" y="12626"/>
                </a:cubicBezTo>
                <a:cubicBezTo>
                  <a:pt x="22187" y="12581"/>
                  <a:pt x="22232" y="12573"/>
                  <a:pt x="22299" y="12551"/>
                </a:cubicBezTo>
                <a:cubicBezTo>
                  <a:pt x="22386" y="12522"/>
                  <a:pt x="22478" y="12505"/>
                  <a:pt x="22572" y="12502"/>
                </a:cubicBezTo>
                <a:cubicBezTo>
                  <a:pt x="22654" y="12499"/>
                  <a:pt x="22737" y="12502"/>
                  <a:pt x="22820" y="12502"/>
                </a:cubicBezTo>
              </a:path>
              <a:path w="5483" h="2159">
                <a:moveTo>
                  <a:pt x="22299" y="12750"/>
                </a:moveTo>
                <a:cubicBezTo>
                  <a:pt x="22291" y="12758"/>
                  <a:pt x="22283" y="12766"/>
                  <a:pt x="22275" y="12774"/>
                </a:cubicBezTo>
                <a:cubicBezTo>
                  <a:pt x="22319" y="12765"/>
                  <a:pt x="22363" y="12733"/>
                  <a:pt x="22399" y="12725"/>
                </a:cubicBezTo>
                <a:cubicBezTo>
                  <a:pt x="22446" y="12715"/>
                  <a:pt x="22520" y="12685"/>
                  <a:pt x="22572" y="12700"/>
                </a:cubicBezTo>
                <a:cubicBezTo>
                  <a:pt x="22617" y="12713"/>
                  <a:pt x="22668" y="12752"/>
                  <a:pt x="22671" y="12799"/>
                </a:cubicBezTo>
                <a:cubicBezTo>
                  <a:pt x="22676" y="12875"/>
                  <a:pt x="22632" y="12868"/>
                  <a:pt x="22597" y="12923"/>
                </a:cubicBezTo>
                <a:cubicBezTo>
                  <a:pt x="22565" y="12972"/>
                  <a:pt x="22527" y="13005"/>
                  <a:pt x="22473" y="13022"/>
                </a:cubicBezTo>
                <a:cubicBezTo>
                  <a:pt x="22430" y="13036"/>
                  <a:pt x="22440" y="13015"/>
                  <a:pt x="22399" y="13047"/>
                </a:cubicBezTo>
                <a:cubicBezTo>
                  <a:pt x="22437" y="13037"/>
                  <a:pt x="22475" y="13002"/>
                  <a:pt x="22523" y="13022"/>
                </a:cubicBezTo>
                <a:cubicBezTo>
                  <a:pt x="22585" y="13048"/>
                  <a:pt x="22632" y="13079"/>
                  <a:pt x="22671" y="13122"/>
                </a:cubicBezTo>
                <a:cubicBezTo>
                  <a:pt x="22707" y="13162"/>
                  <a:pt x="22764" y="13236"/>
                  <a:pt x="22746" y="13295"/>
                </a:cubicBezTo>
                <a:cubicBezTo>
                  <a:pt x="22731" y="13342"/>
                  <a:pt x="22698" y="13398"/>
                  <a:pt x="22647" y="13419"/>
                </a:cubicBezTo>
                <a:cubicBezTo>
                  <a:pt x="22578" y="13447"/>
                  <a:pt x="22480" y="13407"/>
                  <a:pt x="22423" y="13395"/>
                </a:cubicBezTo>
                <a:cubicBezTo>
                  <a:pt x="22411" y="13393"/>
                  <a:pt x="22328" y="13341"/>
                  <a:pt x="22324" y="13345"/>
                </a:cubicBezTo>
                <a:cubicBezTo>
                  <a:pt x="22324" y="13353"/>
                  <a:pt x="22324" y="13362"/>
                  <a:pt x="22324" y="13370"/>
                </a:cubicBezTo>
              </a:path>
              <a:path w="5483" h="2159">
                <a:moveTo>
                  <a:pt x="18554" y="13171"/>
                </a:moveTo>
                <a:cubicBezTo>
                  <a:pt x="18607" y="13125"/>
                  <a:pt x="18662" y="13074"/>
                  <a:pt x="18728" y="13047"/>
                </a:cubicBezTo>
                <a:cubicBezTo>
                  <a:pt x="18826" y="13007"/>
                  <a:pt x="18902" y="12941"/>
                  <a:pt x="19000" y="12898"/>
                </a:cubicBezTo>
                <a:cubicBezTo>
                  <a:pt x="19097" y="12855"/>
                  <a:pt x="19200" y="12813"/>
                  <a:pt x="19298" y="12774"/>
                </a:cubicBezTo>
                <a:cubicBezTo>
                  <a:pt x="19352" y="12752"/>
                  <a:pt x="19428" y="12730"/>
                  <a:pt x="19472" y="12700"/>
                </a:cubicBezTo>
                <a:cubicBezTo>
                  <a:pt x="19510" y="12674"/>
                  <a:pt x="19534" y="12672"/>
                  <a:pt x="19546" y="12626"/>
                </a:cubicBezTo>
              </a:path>
              <a:path w="5483" h="2159">
                <a:moveTo>
                  <a:pt x="20762" y="11881"/>
                </a:moveTo>
                <a:cubicBezTo>
                  <a:pt x="20814" y="11851"/>
                  <a:pt x="20860" y="11812"/>
                  <a:pt x="20910" y="11782"/>
                </a:cubicBezTo>
                <a:cubicBezTo>
                  <a:pt x="20991" y="11733"/>
                  <a:pt x="21076" y="11702"/>
                  <a:pt x="21158" y="11658"/>
                </a:cubicBezTo>
                <a:cubicBezTo>
                  <a:pt x="21276" y="11595"/>
                  <a:pt x="21417" y="11551"/>
                  <a:pt x="21530" y="11485"/>
                </a:cubicBezTo>
                <a:cubicBezTo>
                  <a:pt x="21625" y="11430"/>
                  <a:pt x="21732" y="11381"/>
                  <a:pt x="21828" y="11336"/>
                </a:cubicBezTo>
                <a:cubicBezTo>
                  <a:pt x="21867" y="11318"/>
                  <a:pt x="21916" y="11303"/>
                  <a:pt x="21952" y="11286"/>
                </a:cubicBezTo>
                <a:cubicBezTo>
                  <a:pt x="21975" y="11263"/>
                  <a:pt x="21983" y="11252"/>
                  <a:pt x="21977" y="11286"/>
                </a:cubicBezTo>
                <a:cubicBezTo>
                  <a:pt x="21944" y="11286"/>
                  <a:pt x="21911" y="11286"/>
                  <a:pt x="21878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14800" y="5116680"/>
            <a:ext cx="4875120" cy="1349280"/>
          </a:xfrm>
          <a:custGeom>
            <a:avLst/>
            <a:gdLst/>
            <a:ahLst/>
            <a:rect l="l" t="t" r="r" b="b"/>
            <a:pathLst>
              <a:path w="13544" h="3747">
                <a:moveTo>
                  <a:pt x="8930" y="15081"/>
                </a:moveTo>
                <a:cubicBezTo>
                  <a:pt x="9080" y="15081"/>
                  <a:pt x="9233" y="15096"/>
                  <a:pt x="9376" y="15056"/>
                </a:cubicBezTo>
              </a:path>
              <a:path w="13544" h="3747">
                <a:moveTo>
                  <a:pt x="9897" y="14784"/>
                </a:moveTo>
                <a:cubicBezTo>
                  <a:pt x="9935" y="14661"/>
                  <a:pt x="9928" y="14673"/>
                  <a:pt x="9922" y="14560"/>
                </a:cubicBezTo>
                <a:cubicBezTo>
                  <a:pt x="9915" y="14443"/>
                  <a:pt x="9838" y="14417"/>
                  <a:pt x="9723" y="14387"/>
                </a:cubicBezTo>
                <a:cubicBezTo>
                  <a:pt x="9665" y="14372"/>
                  <a:pt x="9596" y="14404"/>
                  <a:pt x="9550" y="14436"/>
                </a:cubicBezTo>
                <a:cubicBezTo>
                  <a:pt x="9481" y="14484"/>
                  <a:pt x="9458" y="14586"/>
                  <a:pt x="9451" y="14660"/>
                </a:cubicBezTo>
                <a:cubicBezTo>
                  <a:pt x="9444" y="14741"/>
                  <a:pt x="9465" y="14787"/>
                  <a:pt x="9500" y="14858"/>
                </a:cubicBezTo>
                <a:cubicBezTo>
                  <a:pt x="9526" y="14911"/>
                  <a:pt x="9564" y="14989"/>
                  <a:pt x="9624" y="15007"/>
                </a:cubicBezTo>
                <a:cubicBezTo>
                  <a:pt x="9673" y="15022"/>
                  <a:pt x="9764" y="15010"/>
                  <a:pt x="9798" y="14982"/>
                </a:cubicBezTo>
                <a:cubicBezTo>
                  <a:pt x="9835" y="14953"/>
                  <a:pt x="9879" y="14898"/>
                  <a:pt x="9897" y="14858"/>
                </a:cubicBezTo>
                <a:cubicBezTo>
                  <a:pt x="9925" y="14796"/>
                  <a:pt x="9918" y="14769"/>
                  <a:pt x="9922" y="14709"/>
                </a:cubicBezTo>
                <a:cubicBezTo>
                  <a:pt x="9922" y="14701"/>
                  <a:pt x="9922" y="14692"/>
                  <a:pt x="9922" y="14684"/>
                </a:cubicBezTo>
                <a:cubicBezTo>
                  <a:pt x="9922" y="14805"/>
                  <a:pt x="9933" y="14915"/>
                  <a:pt x="9947" y="15032"/>
                </a:cubicBezTo>
                <a:cubicBezTo>
                  <a:pt x="9958" y="15130"/>
                  <a:pt x="9949" y="15232"/>
                  <a:pt x="9971" y="15329"/>
                </a:cubicBezTo>
                <a:cubicBezTo>
                  <a:pt x="9988" y="15403"/>
                  <a:pt x="10009" y="15481"/>
                  <a:pt x="10021" y="15553"/>
                </a:cubicBezTo>
                <a:cubicBezTo>
                  <a:pt x="10028" y="15594"/>
                  <a:pt x="10021" y="15586"/>
                  <a:pt x="10021" y="15627"/>
                </a:cubicBezTo>
              </a:path>
              <a:path w="13544" h="3747">
                <a:moveTo>
                  <a:pt x="10418" y="15156"/>
                </a:moveTo>
                <a:cubicBezTo>
                  <a:pt x="10482" y="15128"/>
                  <a:pt x="10521" y="15131"/>
                  <a:pt x="10592" y="15131"/>
                </a:cubicBezTo>
                <a:cubicBezTo>
                  <a:pt x="10646" y="15131"/>
                  <a:pt x="10687" y="15113"/>
                  <a:pt x="10740" y="15106"/>
                </a:cubicBezTo>
              </a:path>
              <a:path w="13544" h="3747">
                <a:moveTo>
                  <a:pt x="11137" y="14684"/>
                </a:moveTo>
                <a:cubicBezTo>
                  <a:pt x="11130" y="14764"/>
                  <a:pt x="11121" y="14834"/>
                  <a:pt x="11088" y="14908"/>
                </a:cubicBezTo>
                <a:cubicBezTo>
                  <a:pt x="11059" y="14973"/>
                  <a:pt x="11000" y="15062"/>
                  <a:pt x="10988" y="15131"/>
                </a:cubicBezTo>
                <a:cubicBezTo>
                  <a:pt x="10972" y="15224"/>
                  <a:pt x="10976" y="15369"/>
                  <a:pt x="11013" y="15453"/>
                </a:cubicBezTo>
                <a:cubicBezTo>
                  <a:pt x="11051" y="15538"/>
                  <a:pt x="11098" y="15522"/>
                  <a:pt x="11162" y="15553"/>
                </a:cubicBezTo>
                <a:cubicBezTo>
                  <a:pt x="11228" y="15585"/>
                  <a:pt x="11228" y="15561"/>
                  <a:pt x="11286" y="15503"/>
                </a:cubicBezTo>
                <a:cubicBezTo>
                  <a:pt x="11319" y="15470"/>
                  <a:pt x="11374" y="15401"/>
                  <a:pt x="11385" y="15354"/>
                </a:cubicBezTo>
                <a:cubicBezTo>
                  <a:pt x="11394" y="15313"/>
                  <a:pt x="11402" y="15176"/>
                  <a:pt x="11361" y="15156"/>
                </a:cubicBezTo>
                <a:cubicBezTo>
                  <a:pt x="11320" y="15136"/>
                  <a:pt x="11298" y="15165"/>
                  <a:pt x="11286" y="15180"/>
                </a:cubicBezTo>
                <a:cubicBezTo>
                  <a:pt x="11236" y="15246"/>
                  <a:pt x="11253" y="15241"/>
                  <a:pt x="11261" y="15329"/>
                </a:cubicBezTo>
                <a:cubicBezTo>
                  <a:pt x="11269" y="15410"/>
                  <a:pt x="11312" y="15431"/>
                  <a:pt x="11336" y="15503"/>
                </a:cubicBezTo>
                <a:cubicBezTo>
                  <a:pt x="11336" y="15528"/>
                  <a:pt x="11336" y="15536"/>
                  <a:pt x="11361" y="15528"/>
                </a:cubicBezTo>
              </a:path>
              <a:path w="13544" h="3747">
                <a:moveTo>
                  <a:pt x="11584" y="15106"/>
                </a:moveTo>
                <a:cubicBezTo>
                  <a:pt x="11584" y="15239"/>
                  <a:pt x="11570" y="15386"/>
                  <a:pt x="11609" y="15503"/>
                </a:cubicBezTo>
                <a:cubicBezTo>
                  <a:pt x="11609" y="15511"/>
                  <a:pt x="11609" y="15520"/>
                  <a:pt x="11609" y="15528"/>
                </a:cubicBezTo>
                <a:cubicBezTo>
                  <a:pt x="11577" y="15486"/>
                  <a:pt x="11584" y="15460"/>
                  <a:pt x="11584" y="15404"/>
                </a:cubicBezTo>
                <a:cubicBezTo>
                  <a:pt x="11584" y="15322"/>
                  <a:pt x="11563" y="15261"/>
                  <a:pt x="11559" y="15180"/>
                </a:cubicBezTo>
                <a:cubicBezTo>
                  <a:pt x="11554" y="15082"/>
                  <a:pt x="11554" y="14999"/>
                  <a:pt x="11534" y="14908"/>
                </a:cubicBezTo>
                <a:cubicBezTo>
                  <a:pt x="11521" y="14849"/>
                  <a:pt x="11554" y="14814"/>
                  <a:pt x="11559" y="14759"/>
                </a:cubicBezTo>
                <a:cubicBezTo>
                  <a:pt x="11564" y="14705"/>
                  <a:pt x="11569" y="14700"/>
                  <a:pt x="11609" y="14660"/>
                </a:cubicBezTo>
                <a:cubicBezTo>
                  <a:pt x="11639" y="14630"/>
                  <a:pt x="11672" y="14626"/>
                  <a:pt x="11708" y="14610"/>
                </a:cubicBezTo>
                <a:cubicBezTo>
                  <a:pt x="11776" y="14580"/>
                  <a:pt x="11831" y="14585"/>
                  <a:pt x="11906" y="14585"/>
                </a:cubicBezTo>
                <a:cubicBezTo>
                  <a:pt x="11980" y="14585"/>
                  <a:pt x="12034" y="14604"/>
                  <a:pt x="12105" y="14610"/>
                </a:cubicBezTo>
                <a:cubicBezTo>
                  <a:pt x="12129" y="14612"/>
                  <a:pt x="12155" y="14610"/>
                  <a:pt x="12179" y="14610"/>
                </a:cubicBezTo>
              </a:path>
              <a:path w="13544" h="3747">
                <a:moveTo>
                  <a:pt x="11857" y="14808"/>
                </a:moveTo>
                <a:cubicBezTo>
                  <a:pt x="11832" y="14833"/>
                  <a:pt x="11824" y="14841"/>
                  <a:pt x="11857" y="14858"/>
                </a:cubicBezTo>
                <a:cubicBezTo>
                  <a:pt x="11896" y="14848"/>
                  <a:pt x="11920" y="14820"/>
                  <a:pt x="11956" y="14808"/>
                </a:cubicBezTo>
                <a:cubicBezTo>
                  <a:pt x="12001" y="14793"/>
                  <a:pt x="12074" y="14807"/>
                  <a:pt x="12105" y="14833"/>
                </a:cubicBezTo>
                <a:cubicBezTo>
                  <a:pt x="12134" y="14857"/>
                  <a:pt x="12169" y="14890"/>
                  <a:pt x="12154" y="14932"/>
                </a:cubicBezTo>
                <a:cubicBezTo>
                  <a:pt x="12132" y="14994"/>
                  <a:pt x="12069" y="15050"/>
                  <a:pt x="12030" y="15081"/>
                </a:cubicBezTo>
                <a:cubicBezTo>
                  <a:pt x="11997" y="15107"/>
                  <a:pt x="11965" y="15130"/>
                  <a:pt x="11956" y="15156"/>
                </a:cubicBezTo>
                <a:cubicBezTo>
                  <a:pt x="12011" y="15156"/>
                  <a:pt x="12035" y="15154"/>
                  <a:pt x="12080" y="15180"/>
                </a:cubicBezTo>
                <a:cubicBezTo>
                  <a:pt x="12138" y="15213"/>
                  <a:pt x="12169" y="15247"/>
                  <a:pt x="12204" y="15304"/>
                </a:cubicBezTo>
                <a:cubicBezTo>
                  <a:pt x="12236" y="15357"/>
                  <a:pt x="12246" y="15466"/>
                  <a:pt x="12229" y="15528"/>
                </a:cubicBezTo>
                <a:cubicBezTo>
                  <a:pt x="12218" y="15568"/>
                  <a:pt x="12162" y="15656"/>
                  <a:pt x="12129" y="15677"/>
                </a:cubicBezTo>
                <a:cubicBezTo>
                  <a:pt x="12102" y="15695"/>
                  <a:pt x="12066" y="15701"/>
                  <a:pt x="12030" y="15701"/>
                </a:cubicBezTo>
                <a:cubicBezTo>
                  <a:pt x="11999" y="15701"/>
                  <a:pt x="11972" y="15664"/>
                  <a:pt x="11931" y="15652"/>
                </a:cubicBezTo>
                <a:cubicBezTo>
                  <a:pt x="11906" y="15652"/>
                  <a:pt x="11898" y="15652"/>
                  <a:pt x="11881" y="15652"/>
                </a:cubicBezTo>
              </a:path>
              <a:path w="13544" h="3747">
                <a:moveTo>
                  <a:pt x="12477" y="15131"/>
                </a:moveTo>
                <a:cubicBezTo>
                  <a:pt x="12538" y="15131"/>
                  <a:pt x="12554" y="15116"/>
                  <a:pt x="12601" y="15106"/>
                </a:cubicBezTo>
                <a:cubicBezTo>
                  <a:pt x="12644" y="15097"/>
                  <a:pt x="12708" y="15084"/>
                  <a:pt x="12750" y="15081"/>
                </a:cubicBezTo>
                <a:cubicBezTo>
                  <a:pt x="12821" y="15076"/>
                  <a:pt x="12849" y="15057"/>
                  <a:pt x="12898" y="15007"/>
                </a:cubicBezTo>
              </a:path>
              <a:path w="13544" h="3747">
                <a:moveTo>
                  <a:pt x="13022" y="14759"/>
                </a:moveTo>
                <a:cubicBezTo>
                  <a:pt x="13089" y="14759"/>
                  <a:pt x="13109" y="14779"/>
                  <a:pt x="13171" y="14784"/>
                </a:cubicBezTo>
                <a:cubicBezTo>
                  <a:pt x="13197" y="14786"/>
                  <a:pt x="13273" y="14822"/>
                  <a:pt x="13295" y="14833"/>
                </a:cubicBezTo>
                <a:cubicBezTo>
                  <a:pt x="13325" y="14848"/>
                  <a:pt x="13370" y="14892"/>
                  <a:pt x="13395" y="14908"/>
                </a:cubicBezTo>
                <a:cubicBezTo>
                  <a:pt x="13418" y="14923"/>
                  <a:pt x="13434" y="14980"/>
                  <a:pt x="13419" y="15007"/>
                </a:cubicBezTo>
                <a:cubicBezTo>
                  <a:pt x="13396" y="15050"/>
                  <a:pt x="13352" y="15053"/>
                  <a:pt x="13320" y="15081"/>
                </a:cubicBezTo>
                <a:cubicBezTo>
                  <a:pt x="13278" y="15119"/>
                  <a:pt x="13260" y="15109"/>
                  <a:pt x="13221" y="15131"/>
                </a:cubicBezTo>
                <a:cubicBezTo>
                  <a:pt x="13180" y="15154"/>
                  <a:pt x="13135" y="15182"/>
                  <a:pt x="13122" y="15156"/>
                </a:cubicBezTo>
                <a:cubicBezTo>
                  <a:pt x="13167" y="15156"/>
                  <a:pt x="13181" y="15176"/>
                  <a:pt x="13221" y="15180"/>
                </a:cubicBezTo>
                <a:cubicBezTo>
                  <a:pt x="13259" y="15184"/>
                  <a:pt x="13316" y="15229"/>
                  <a:pt x="13345" y="15255"/>
                </a:cubicBezTo>
                <a:cubicBezTo>
                  <a:pt x="13370" y="15277"/>
                  <a:pt x="13411" y="15346"/>
                  <a:pt x="13419" y="15379"/>
                </a:cubicBezTo>
                <a:cubicBezTo>
                  <a:pt x="13446" y="15499"/>
                  <a:pt x="13413" y="15609"/>
                  <a:pt x="13345" y="15701"/>
                </a:cubicBezTo>
                <a:cubicBezTo>
                  <a:pt x="13316" y="15740"/>
                  <a:pt x="13221" y="15772"/>
                  <a:pt x="13171" y="15751"/>
                </a:cubicBezTo>
                <a:cubicBezTo>
                  <a:pt x="13136" y="15737"/>
                  <a:pt x="13082" y="15724"/>
                  <a:pt x="13047" y="15701"/>
                </a:cubicBezTo>
                <a:cubicBezTo>
                  <a:pt x="13034" y="15692"/>
                  <a:pt x="12950" y="15629"/>
                  <a:pt x="12948" y="15627"/>
                </a:cubicBezTo>
                <a:cubicBezTo>
                  <a:pt x="12948" y="15599"/>
                  <a:pt x="12946" y="15588"/>
                  <a:pt x="12923" y="15577"/>
                </a:cubicBezTo>
              </a:path>
              <a:path w="13544" h="3747">
                <a:moveTo>
                  <a:pt x="10046" y="16321"/>
                </a:moveTo>
                <a:cubicBezTo>
                  <a:pt x="10065" y="16327"/>
                  <a:pt x="10106" y="16365"/>
                  <a:pt x="10120" y="16396"/>
                </a:cubicBezTo>
                <a:cubicBezTo>
                  <a:pt x="10120" y="16404"/>
                  <a:pt x="10120" y="16413"/>
                  <a:pt x="10120" y="16421"/>
                </a:cubicBezTo>
                <a:cubicBezTo>
                  <a:pt x="10149" y="16383"/>
                  <a:pt x="10145" y="16370"/>
                  <a:pt x="10145" y="16321"/>
                </a:cubicBezTo>
                <a:cubicBezTo>
                  <a:pt x="10145" y="16271"/>
                  <a:pt x="10134" y="16263"/>
                  <a:pt x="10120" y="16222"/>
                </a:cubicBezTo>
                <a:cubicBezTo>
                  <a:pt x="10099" y="16159"/>
                  <a:pt x="10092" y="16154"/>
                  <a:pt x="10046" y="16123"/>
                </a:cubicBezTo>
                <a:cubicBezTo>
                  <a:pt x="10000" y="16092"/>
                  <a:pt x="9979" y="16073"/>
                  <a:pt x="9922" y="16073"/>
                </a:cubicBezTo>
                <a:cubicBezTo>
                  <a:pt x="9849" y="16073"/>
                  <a:pt x="9833" y="16107"/>
                  <a:pt x="9773" y="16123"/>
                </a:cubicBezTo>
                <a:cubicBezTo>
                  <a:pt x="9714" y="16139"/>
                  <a:pt x="9643" y="16175"/>
                  <a:pt x="9624" y="16247"/>
                </a:cubicBezTo>
                <a:cubicBezTo>
                  <a:pt x="9609" y="16305"/>
                  <a:pt x="9625" y="16370"/>
                  <a:pt x="9649" y="16421"/>
                </a:cubicBezTo>
                <a:cubicBezTo>
                  <a:pt x="9671" y="16467"/>
                  <a:pt x="9722" y="16531"/>
                  <a:pt x="9773" y="16545"/>
                </a:cubicBezTo>
                <a:cubicBezTo>
                  <a:pt x="9813" y="16556"/>
                  <a:pt x="9869" y="16539"/>
                  <a:pt x="9897" y="16520"/>
                </a:cubicBezTo>
                <a:cubicBezTo>
                  <a:pt x="9943" y="16489"/>
                  <a:pt x="9961" y="16435"/>
                  <a:pt x="9996" y="16396"/>
                </a:cubicBezTo>
                <a:cubicBezTo>
                  <a:pt x="10026" y="16363"/>
                  <a:pt x="10043" y="16330"/>
                  <a:pt x="10071" y="16321"/>
                </a:cubicBezTo>
                <a:cubicBezTo>
                  <a:pt x="10071" y="16450"/>
                  <a:pt x="10078" y="16569"/>
                  <a:pt x="10096" y="16694"/>
                </a:cubicBezTo>
                <a:cubicBezTo>
                  <a:pt x="10107" y="16771"/>
                  <a:pt x="10105" y="16843"/>
                  <a:pt x="10120" y="16917"/>
                </a:cubicBezTo>
                <a:cubicBezTo>
                  <a:pt x="10132" y="16976"/>
                  <a:pt x="10128" y="17015"/>
                  <a:pt x="10145" y="17066"/>
                </a:cubicBezTo>
                <a:cubicBezTo>
                  <a:pt x="10145" y="17074"/>
                  <a:pt x="10145" y="17082"/>
                  <a:pt x="10145" y="17090"/>
                </a:cubicBezTo>
              </a:path>
              <a:path w="13544" h="3747">
                <a:moveTo>
                  <a:pt x="10765" y="16545"/>
                </a:moveTo>
                <a:cubicBezTo>
                  <a:pt x="10842" y="16537"/>
                  <a:pt x="10884" y="16520"/>
                  <a:pt x="10964" y="16520"/>
                </a:cubicBezTo>
                <a:cubicBezTo>
                  <a:pt x="11042" y="16520"/>
                  <a:pt x="11098" y="16516"/>
                  <a:pt x="11162" y="16495"/>
                </a:cubicBezTo>
                <a:cubicBezTo>
                  <a:pt x="11190" y="16495"/>
                  <a:pt x="11201" y="16493"/>
                  <a:pt x="11212" y="16470"/>
                </a:cubicBezTo>
              </a:path>
              <a:path w="13544" h="3747">
                <a:moveTo>
                  <a:pt x="11460" y="16197"/>
                </a:moveTo>
                <a:cubicBezTo>
                  <a:pt x="11514" y="16197"/>
                  <a:pt x="11544" y="16187"/>
                  <a:pt x="11584" y="16222"/>
                </a:cubicBezTo>
                <a:cubicBezTo>
                  <a:pt x="11627" y="16260"/>
                  <a:pt x="11681" y="16258"/>
                  <a:pt x="11733" y="16297"/>
                </a:cubicBezTo>
                <a:cubicBezTo>
                  <a:pt x="11775" y="16328"/>
                  <a:pt x="11822" y="16339"/>
                  <a:pt x="11857" y="16371"/>
                </a:cubicBezTo>
                <a:cubicBezTo>
                  <a:pt x="11898" y="16408"/>
                  <a:pt x="11902" y="16419"/>
                  <a:pt x="11906" y="16470"/>
                </a:cubicBezTo>
                <a:cubicBezTo>
                  <a:pt x="11908" y="16498"/>
                  <a:pt x="11839" y="16534"/>
                  <a:pt x="11807" y="16545"/>
                </a:cubicBezTo>
                <a:cubicBezTo>
                  <a:pt x="11782" y="16553"/>
                  <a:pt x="11730" y="16557"/>
                  <a:pt x="11708" y="16570"/>
                </a:cubicBezTo>
                <a:cubicBezTo>
                  <a:pt x="11677" y="16588"/>
                  <a:pt x="11635" y="16601"/>
                  <a:pt x="11609" y="16619"/>
                </a:cubicBezTo>
                <a:cubicBezTo>
                  <a:pt x="11601" y="16627"/>
                  <a:pt x="11592" y="16636"/>
                  <a:pt x="11584" y="16644"/>
                </a:cubicBezTo>
                <a:cubicBezTo>
                  <a:pt x="11668" y="16644"/>
                  <a:pt x="11736" y="16645"/>
                  <a:pt x="11807" y="16669"/>
                </a:cubicBezTo>
                <a:cubicBezTo>
                  <a:pt x="11834" y="16678"/>
                  <a:pt x="11917" y="16715"/>
                  <a:pt x="11931" y="16743"/>
                </a:cubicBezTo>
                <a:cubicBezTo>
                  <a:pt x="11944" y="16769"/>
                  <a:pt x="11962" y="16888"/>
                  <a:pt x="11956" y="16917"/>
                </a:cubicBezTo>
                <a:cubicBezTo>
                  <a:pt x="11935" y="17009"/>
                  <a:pt x="11923" y="17079"/>
                  <a:pt x="11881" y="17165"/>
                </a:cubicBezTo>
                <a:cubicBezTo>
                  <a:pt x="11855" y="17218"/>
                  <a:pt x="11823" y="17248"/>
                  <a:pt x="11782" y="17289"/>
                </a:cubicBezTo>
                <a:cubicBezTo>
                  <a:pt x="11749" y="17322"/>
                  <a:pt x="11728" y="17314"/>
                  <a:pt x="11683" y="17314"/>
                </a:cubicBezTo>
                <a:cubicBezTo>
                  <a:pt x="11644" y="17314"/>
                  <a:pt x="11596" y="17312"/>
                  <a:pt x="11584" y="17289"/>
                </a:cubicBezTo>
                <a:cubicBezTo>
                  <a:pt x="11572" y="17264"/>
                  <a:pt x="11542" y="17254"/>
                  <a:pt x="11534" y="17239"/>
                </a:cubicBezTo>
                <a:cubicBezTo>
                  <a:pt x="11534" y="17214"/>
                  <a:pt x="11534" y="17206"/>
                  <a:pt x="11509" y="17214"/>
                </a:cubicBezTo>
              </a:path>
              <a:path w="13544" h="3747">
                <a:moveTo>
                  <a:pt x="14139" y="15949"/>
                </a:moveTo>
                <a:cubicBezTo>
                  <a:pt x="14163" y="15914"/>
                  <a:pt x="14207" y="15925"/>
                  <a:pt x="14263" y="15925"/>
                </a:cubicBezTo>
                <a:cubicBezTo>
                  <a:pt x="14321" y="15925"/>
                  <a:pt x="14378" y="15925"/>
                  <a:pt x="14436" y="15925"/>
                </a:cubicBezTo>
              </a:path>
              <a:path w="13544" h="3747">
                <a:moveTo>
                  <a:pt x="14188" y="16272"/>
                </a:moveTo>
                <a:cubicBezTo>
                  <a:pt x="14258" y="16281"/>
                  <a:pt x="14313" y="16297"/>
                  <a:pt x="14387" y="16297"/>
                </a:cubicBezTo>
                <a:cubicBezTo>
                  <a:pt x="14460" y="16297"/>
                  <a:pt x="14526" y="16308"/>
                  <a:pt x="14585" y="16272"/>
                </a:cubicBezTo>
              </a:path>
              <a:path w="13544" h="3747">
                <a:moveTo>
                  <a:pt x="14635" y="15577"/>
                </a:moveTo>
                <a:cubicBezTo>
                  <a:pt x="14753" y="15558"/>
                  <a:pt x="14865" y="15553"/>
                  <a:pt x="14982" y="15528"/>
                </a:cubicBezTo>
              </a:path>
              <a:path w="13544" h="3747">
                <a:moveTo>
                  <a:pt x="15230" y="15156"/>
                </a:moveTo>
                <a:cubicBezTo>
                  <a:pt x="15230" y="15374"/>
                  <a:pt x="15231" y="15588"/>
                  <a:pt x="15255" y="15801"/>
                </a:cubicBezTo>
                <a:cubicBezTo>
                  <a:pt x="15267" y="15905"/>
                  <a:pt x="15257" y="15999"/>
                  <a:pt x="15280" y="16098"/>
                </a:cubicBezTo>
                <a:cubicBezTo>
                  <a:pt x="15280" y="16106"/>
                  <a:pt x="15280" y="16115"/>
                  <a:pt x="15280" y="16123"/>
                </a:cubicBezTo>
              </a:path>
              <a:path w="13544" h="3747">
                <a:moveTo>
                  <a:pt x="15453" y="15255"/>
                </a:moveTo>
                <a:cubicBezTo>
                  <a:pt x="15544" y="15197"/>
                  <a:pt x="15576" y="15160"/>
                  <a:pt x="15677" y="15205"/>
                </a:cubicBezTo>
                <a:cubicBezTo>
                  <a:pt x="15706" y="15218"/>
                  <a:pt x="15791" y="15268"/>
                  <a:pt x="15801" y="15304"/>
                </a:cubicBezTo>
                <a:cubicBezTo>
                  <a:pt x="15821" y="15375"/>
                  <a:pt x="15804" y="15490"/>
                  <a:pt x="15776" y="15553"/>
                </a:cubicBezTo>
                <a:cubicBezTo>
                  <a:pt x="15746" y="15620"/>
                  <a:pt x="15745" y="15686"/>
                  <a:pt x="15701" y="15751"/>
                </a:cubicBezTo>
                <a:cubicBezTo>
                  <a:pt x="15665" y="15804"/>
                  <a:pt x="15622" y="15862"/>
                  <a:pt x="15602" y="15925"/>
                </a:cubicBezTo>
                <a:cubicBezTo>
                  <a:pt x="15588" y="15969"/>
                  <a:pt x="15577" y="15996"/>
                  <a:pt x="15577" y="16049"/>
                </a:cubicBezTo>
                <a:cubicBezTo>
                  <a:pt x="15577" y="16109"/>
                  <a:pt x="15587" y="16096"/>
                  <a:pt x="15627" y="16123"/>
                </a:cubicBezTo>
                <a:cubicBezTo>
                  <a:pt x="15674" y="16154"/>
                  <a:pt x="15699" y="16130"/>
                  <a:pt x="15751" y="16148"/>
                </a:cubicBezTo>
                <a:cubicBezTo>
                  <a:pt x="15824" y="16173"/>
                  <a:pt x="15874" y="16173"/>
                  <a:pt x="15949" y="16148"/>
                </a:cubicBezTo>
                <a:cubicBezTo>
                  <a:pt x="15995" y="16133"/>
                  <a:pt x="16017" y="16105"/>
                  <a:pt x="16049" y="16073"/>
                </a:cubicBezTo>
              </a:path>
              <a:path w="13544" h="3747">
                <a:moveTo>
                  <a:pt x="16098" y="15701"/>
                </a:moveTo>
                <a:cubicBezTo>
                  <a:pt x="16157" y="15677"/>
                  <a:pt x="16207" y="15656"/>
                  <a:pt x="16272" y="15652"/>
                </a:cubicBezTo>
                <a:cubicBezTo>
                  <a:pt x="16321" y="15652"/>
                  <a:pt x="16338" y="15652"/>
                  <a:pt x="16371" y="15652"/>
                </a:cubicBezTo>
              </a:path>
              <a:path w="13544" h="3747">
                <a:moveTo>
                  <a:pt x="16768" y="15354"/>
                </a:moveTo>
                <a:cubicBezTo>
                  <a:pt x="16739" y="15412"/>
                  <a:pt x="16694" y="15472"/>
                  <a:pt x="16669" y="15528"/>
                </a:cubicBezTo>
                <a:cubicBezTo>
                  <a:pt x="16637" y="15598"/>
                  <a:pt x="16622" y="15700"/>
                  <a:pt x="16619" y="15776"/>
                </a:cubicBezTo>
                <a:cubicBezTo>
                  <a:pt x="16615" y="15873"/>
                  <a:pt x="16631" y="15935"/>
                  <a:pt x="16669" y="16024"/>
                </a:cubicBezTo>
                <a:cubicBezTo>
                  <a:pt x="16707" y="16111"/>
                  <a:pt x="16735" y="16132"/>
                  <a:pt x="16818" y="16173"/>
                </a:cubicBezTo>
                <a:cubicBezTo>
                  <a:pt x="16870" y="16199"/>
                  <a:pt x="16898" y="16212"/>
                  <a:pt x="16942" y="16173"/>
                </a:cubicBezTo>
                <a:cubicBezTo>
                  <a:pt x="16989" y="16131"/>
                  <a:pt x="17012" y="16111"/>
                  <a:pt x="17016" y="16049"/>
                </a:cubicBezTo>
                <a:cubicBezTo>
                  <a:pt x="17020" y="15981"/>
                  <a:pt x="17029" y="15903"/>
                  <a:pt x="16991" y="15850"/>
                </a:cubicBezTo>
                <a:cubicBezTo>
                  <a:pt x="16975" y="15827"/>
                  <a:pt x="16921" y="15809"/>
                  <a:pt x="16892" y="15825"/>
                </a:cubicBezTo>
                <a:cubicBezTo>
                  <a:pt x="16839" y="15855"/>
                  <a:pt x="16842" y="15896"/>
                  <a:pt x="16842" y="15949"/>
                </a:cubicBezTo>
                <a:cubicBezTo>
                  <a:pt x="16842" y="16008"/>
                  <a:pt x="16839" y="16082"/>
                  <a:pt x="16892" y="16123"/>
                </a:cubicBezTo>
                <a:cubicBezTo>
                  <a:pt x="16906" y="16134"/>
                  <a:pt x="16946" y="16143"/>
                  <a:pt x="16966" y="16148"/>
                </a:cubicBezTo>
              </a:path>
              <a:path w="13544" h="3747">
                <a:moveTo>
                  <a:pt x="17214" y="15553"/>
                </a:moveTo>
                <a:cubicBezTo>
                  <a:pt x="17231" y="15635"/>
                  <a:pt x="17214" y="15711"/>
                  <a:pt x="17214" y="15801"/>
                </a:cubicBezTo>
                <a:cubicBezTo>
                  <a:pt x="17214" y="15861"/>
                  <a:pt x="17221" y="15991"/>
                  <a:pt x="17239" y="16049"/>
                </a:cubicBezTo>
                <a:cubicBezTo>
                  <a:pt x="17249" y="16082"/>
                  <a:pt x="17270" y="16117"/>
                  <a:pt x="17289" y="16148"/>
                </a:cubicBezTo>
                <a:cubicBezTo>
                  <a:pt x="17289" y="16067"/>
                  <a:pt x="17276" y="16000"/>
                  <a:pt x="17264" y="15925"/>
                </a:cubicBezTo>
                <a:cubicBezTo>
                  <a:pt x="17248" y="15826"/>
                  <a:pt x="17228" y="15722"/>
                  <a:pt x="17214" y="15627"/>
                </a:cubicBezTo>
                <a:cubicBezTo>
                  <a:pt x="17201" y="15535"/>
                  <a:pt x="17225" y="15462"/>
                  <a:pt x="17239" y="15379"/>
                </a:cubicBezTo>
                <a:cubicBezTo>
                  <a:pt x="17246" y="15340"/>
                  <a:pt x="17261" y="15270"/>
                  <a:pt x="17314" y="15255"/>
                </a:cubicBezTo>
                <a:cubicBezTo>
                  <a:pt x="17369" y="15239"/>
                  <a:pt x="17428" y="15230"/>
                  <a:pt x="17487" y="15230"/>
                </a:cubicBezTo>
                <a:cubicBezTo>
                  <a:pt x="17603" y="15230"/>
                  <a:pt x="17719" y="15230"/>
                  <a:pt x="17835" y="15230"/>
                </a:cubicBezTo>
              </a:path>
              <a:path w="13544" h="3747">
                <a:moveTo>
                  <a:pt x="17487" y="15577"/>
                </a:moveTo>
                <a:cubicBezTo>
                  <a:pt x="17517" y="15592"/>
                  <a:pt x="17544" y="15592"/>
                  <a:pt x="17587" y="15577"/>
                </a:cubicBezTo>
                <a:cubicBezTo>
                  <a:pt x="17649" y="15556"/>
                  <a:pt x="17681" y="15545"/>
                  <a:pt x="17735" y="15577"/>
                </a:cubicBezTo>
                <a:cubicBezTo>
                  <a:pt x="17809" y="15620"/>
                  <a:pt x="17852" y="15645"/>
                  <a:pt x="17859" y="15726"/>
                </a:cubicBezTo>
                <a:cubicBezTo>
                  <a:pt x="17864" y="15788"/>
                  <a:pt x="17814" y="15832"/>
                  <a:pt x="17760" y="15850"/>
                </a:cubicBezTo>
                <a:cubicBezTo>
                  <a:pt x="17719" y="15864"/>
                  <a:pt x="17681" y="15875"/>
                  <a:pt x="17636" y="15875"/>
                </a:cubicBezTo>
                <a:cubicBezTo>
                  <a:pt x="17628" y="15875"/>
                  <a:pt x="17619" y="15875"/>
                  <a:pt x="17611" y="15875"/>
                </a:cubicBezTo>
                <a:cubicBezTo>
                  <a:pt x="17654" y="15907"/>
                  <a:pt x="17686" y="15893"/>
                  <a:pt x="17735" y="15925"/>
                </a:cubicBezTo>
                <a:cubicBezTo>
                  <a:pt x="17788" y="15960"/>
                  <a:pt x="17845" y="16035"/>
                  <a:pt x="17859" y="16098"/>
                </a:cubicBezTo>
                <a:cubicBezTo>
                  <a:pt x="17872" y="16158"/>
                  <a:pt x="17872" y="16251"/>
                  <a:pt x="17835" y="16297"/>
                </a:cubicBezTo>
                <a:cubicBezTo>
                  <a:pt x="17804" y="16336"/>
                  <a:pt x="17756" y="16321"/>
                  <a:pt x="17711" y="16321"/>
                </a:cubicBezTo>
                <a:cubicBezTo>
                  <a:pt x="17669" y="16321"/>
                  <a:pt x="17613" y="16338"/>
                  <a:pt x="17587" y="16297"/>
                </a:cubicBezTo>
                <a:cubicBezTo>
                  <a:pt x="17587" y="16272"/>
                  <a:pt x="17587" y="16264"/>
                  <a:pt x="17562" y="16272"/>
                </a:cubicBezTo>
              </a:path>
              <a:path w="13544" h="3747">
                <a:moveTo>
                  <a:pt x="17785" y="16570"/>
                </a:moveTo>
                <a:cubicBezTo>
                  <a:pt x="17700" y="16580"/>
                  <a:pt x="17627" y="16594"/>
                  <a:pt x="17537" y="16594"/>
                </a:cubicBezTo>
                <a:cubicBezTo>
                  <a:pt x="17384" y="16594"/>
                  <a:pt x="17242" y="16609"/>
                  <a:pt x="17090" y="16619"/>
                </a:cubicBezTo>
                <a:cubicBezTo>
                  <a:pt x="16794" y="16639"/>
                  <a:pt x="16489" y="16615"/>
                  <a:pt x="16197" y="16594"/>
                </a:cubicBezTo>
                <a:cubicBezTo>
                  <a:pt x="15999" y="16580"/>
                  <a:pt x="15800" y="16585"/>
                  <a:pt x="15602" y="16570"/>
                </a:cubicBezTo>
                <a:cubicBezTo>
                  <a:pt x="15519" y="16564"/>
                  <a:pt x="15455" y="16584"/>
                  <a:pt x="15379" y="16594"/>
                </a:cubicBezTo>
                <a:cubicBezTo>
                  <a:pt x="15262" y="16609"/>
                  <a:pt x="15353" y="16583"/>
                  <a:pt x="15329" y="16619"/>
                </a:cubicBezTo>
              </a:path>
              <a:path w="13544" h="3747">
                <a:moveTo>
                  <a:pt x="16272" y="16842"/>
                </a:moveTo>
                <a:cubicBezTo>
                  <a:pt x="16287" y="16946"/>
                  <a:pt x="16290" y="16994"/>
                  <a:pt x="16247" y="17090"/>
                </a:cubicBezTo>
                <a:cubicBezTo>
                  <a:pt x="16216" y="17159"/>
                  <a:pt x="16160" y="17240"/>
                  <a:pt x="16148" y="17314"/>
                </a:cubicBezTo>
                <a:cubicBezTo>
                  <a:pt x="16130" y="17423"/>
                  <a:pt x="16149" y="17539"/>
                  <a:pt x="16197" y="17636"/>
                </a:cubicBezTo>
                <a:cubicBezTo>
                  <a:pt x="16227" y="17697"/>
                  <a:pt x="16331" y="17831"/>
                  <a:pt x="16396" y="17859"/>
                </a:cubicBezTo>
                <a:cubicBezTo>
                  <a:pt x="16451" y="17883"/>
                  <a:pt x="16547" y="17866"/>
                  <a:pt x="16594" y="17859"/>
                </a:cubicBezTo>
                <a:cubicBezTo>
                  <a:pt x="16640" y="17852"/>
                  <a:pt x="16682" y="17810"/>
                  <a:pt x="16694" y="17760"/>
                </a:cubicBezTo>
                <a:cubicBezTo>
                  <a:pt x="16711" y="17688"/>
                  <a:pt x="16680" y="17626"/>
                  <a:pt x="16669" y="17562"/>
                </a:cubicBezTo>
                <a:cubicBezTo>
                  <a:pt x="16658" y="17493"/>
                  <a:pt x="16655" y="17487"/>
                  <a:pt x="16594" y="17462"/>
                </a:cubicBezTo>
                <a:cubicBezTo>
                  <a:pt x="16566" y="17450"/>
                  <a:pt x="16486" y="17436"/>
                  <a:pt x="16470" y="17487"/>
                </a:cubicBezTo>
                <a:cubicBezTo>
                  <a:pt x="16437" y="17592"/>
                  <a:pt x="16458" y="17739"/>
                  <a:pt x="16520" y="17835"/>
                </a:cubicBezTo>
                <a:cubicBezTo>
                  <a:pt x="16575" y="17889"/>
                  <a:pt x="16595" y="17910"/>
                  <a:pt x="16619" y="17959"/>
                </a:cubicBezTo>
              </a:path>
              <a:path w="13544" h="3747">
                <a:moveTo>
                  <a:pt x="18455" y="16247"/>
                </a:moveTo>
                <a:cubicBezTo>
                  <a:pt x="18538" y="16229"/>
                  <a:pt x="18595" y="16222"/>
                  <a:pt x="18678" y="16222"/>
                </a:cubicBezTo>
              </a:path>
              <a:path w="13544" h="3747">
                <a:moveTo>
                  <a:pt x="18405" y="16495"/>
                </a:moveTo>
                <a:cubicBezTo>
                  <a:pt x="18538" y="16552"/>
                  <a:pt x="18548" y="16536"/>
                  <a:pt x="18678" y="16520"/>
                </a:cubicBezTo>
                <a:cubicBezTo>
                  <a:pt x="18703" y="16520"/>
                  <a:pt x="18727" y="16520"/>
                  <a:pt x="18752" y="16520"/>
                </a:cubicBezTo>
              </a:path>
              <a:path w="13544" h="3747">
                <a:moveTo>
                  <a:pt x="18976" y="15974"/>
                </a:moveTo>
                <a:cubicBezTo>
                  <a:pt x="19054" y="15980"/>
                  <a:pt x="19082" y="15985"/>
                  <a:pt x="19149" y="15999"/>
                </a:cubicBezTo>
              </a:path>
              <a:path w="13544" h="3747">
                <a:moveTo>
                  <a:pt x="19372" y="15627"/>
                </a:moveTo>
                <a:cubicBezTo>
                  <a:pt x="19420" y="15509"/>
                  <a:pt x="19409" y="15564"/>
                  <a:pt x="19496" y="15503"/>
                </a:cubicBezTo>
                <a:cubicBezTo>
                  <a:pt x="19536" y="15475"/>
                  <a:pt x="19593" y="15460"/>
                  <a:pt x="19645" y="15453"/>
                </a:cubicBezTo>
                <a:cubicBezTo>
                  <a:pt x="19688" y="15447"/>
                  <a:pt x="19760" y="15461"/>
                  <a:pt x="19794" y="15478"/>
                </a:cubicBezTo>
                <a:cubicBezTo>
                  <a:pt x="19830" y="15496"/>
                  <a:pt x="19878" y="15590"/>
                  <a:pt x="19893" y="15627"/>
                </a:cubicBezTo>
                <a:cubicBezTo>
                  <a:pt x="19924" y="15703"/>
                  <a:pt x="19948" y="15873"/>
                  <a:pt x="19943" y="15949"/>
                </a:cubicBezTo>
                <a:cubicBezTo>
                  <a:pt x="19938" y="16027"/>
                  <a:pt x="19916" y="16147"/>
                  <a:pt x="19893" y="16222"/>
                </a:cubicBezTo>
                <a:cubicBezTo>
                  <a:pt x="19875" y="16282"/>
                  <a:pt x="19835" y="16351"/>
                  <a:pt x="19794" y="16396"/>
                </a:cubicBezTo>
                <a:cubicBezTo>
                  <a:pt x="19748" y="16447"/>
                  <a:pt x="19714" y="16418"/>
                  <a:pt x="19670" y="16396"/>
                </a:cubicBezTo>
                <a:cubicBezTo>
                  <a:pt x="19617" y="16369"/>
                  <a:pt x="19626" y="16348"/>
                  <a:pt x="19596" y="16297"/>
                </a:cubicBezTo>
                <a:cubicBezTo>
                  <a:pt x="19573" y="16274"/>
                  <a:pt x="19565" y="16270"/>
                  <a:pt x="19571" y="16247"/>
                </a:cubicBezTo>
                <a:cubicBezTo>
                  <a:pt x="19623" y="16217"/>
                  <a:pt x="19639" y="16200"/>
                  <a:pt x="19695" y="16197"/>
                </a:cubicBezTo>
                <a:cubicBezTo>
                  <a:pt x="19765" y="16194"/>
                  <a:pt x="19783" y="16215"/>
                  <a:pt x="19844" y="16247"/>
                </a:cubicBezTo>
                <a:cubicBezTo>
                  <a:pt x="19879" y="16266"/>
                  <a:pt x="19906" y="16297"/>
                  <a:pt x="19943" y="16321"/>
                </a:cubicBezTo>
                <a:cubicBezTo>
                  <a:pt x="19994" y="16354"/>
                  <a:pt x="20042" y="16386"/>
                  <a:pt x="20092" y="16421"/>
                </a:cubicBezTo>
                <a:cubicBezTo>
                  <a:pt x="20117" y="16438"/>
                  <a:pt x="20204" y="16523"/>
                  <a:pt x="20241" y="16520"/>
                </a:cubicBezTo>
                <a:cubicBezTo>
                  <a:pt x="20265" y="16520"/>
                  <a:pt x="20273" y="16520"/>
                  <a:pt x="20265" y="16495"/>
                </a:cubicBezTo>
              </a:path>
              <a:path w="13544" h="3747">
                <a:moveTo>
                  <a:pt x="20265" y="15925"/>
                </a:moveTo>
                <a:cubicBezTo>
                  <a:pt x="20342" y="15946"/>
                  <a:pt x="20437" y="16011"/>
                  <a:pt x="20513" y="16024"/>
                </a:cubicBezTo>
                <a:cubicBezTo>
                  <a:pt x="20589" y="16037"/>
                  <a:pt x="20668" y="16025"/>
                  <a:pt x="20737" y="15999"/>
                </a:cubicBezTo>
              </a:path>
              <a:path w="13544" h="3747">
                <a:moveTo>
                  <a:pt x="20960" y="15652"/>
                </a:moveTo>
                <a:cubicBezTo>
                  <a:pt x="20960" y="15935"/>
                  <a:pt x="20932" y="16255"/>
                  <a:pt x="20985" y="16520"/>
                </a:cubicBezTo>
                <a:cubicBezTo>
                  <a:pt x="20990" y="16545"/>
                  <a:pt x="20974" y="16523"/>
                  <a:pt x="20985" y="16545"/>
                </a:cubicBezTo>
                <a:cubicBezTo>
                  <a:pt x="20985" y="16470"/>
                  <a:pt x="21000" y="16418"/>
                  <a:pt x="21010" y="16346"/>
                </a:cubicBezTo>
                <a:cubicBezTo>
                  <a:pt x="21031" y="16200"/>
                  <a:pt x="20991" y="16065"/>
                  <a:pt x="20985" y="15925"/>
                </a:cubicBezTo>
                <a:cubicBezTo>
                  <a:pt x="20979" y="15795"/>
                  <a:pt x="20996" y="15678"/>
                  <a:pt x="21010" y="15553"/>
                </a:cubicBezTo>
                <a:cubicBezTo>
                  <a:pt x="21015" y="15507"/>
                  <a:pt x="21011" y="15466"/>
                  <a:pt x="21034" y="15429"/>
                </a:cubicBezTo>
                <a:cubicBezTo>
                  <a:pt x="21067" y="15375"/>
                  <a:pt x="21150" y="15338"/>
                  <a:pt x="21208" y="15329"/>
                </a:cubicBezTo>
                <a:cubicBezTo>
                  <a:pt x="21294" y="15316"/>
                  <a:pt x="21367" y="15304"/>
                  <a:pt x="21456" y="15304"/>
                </a:cubicBezTo>
                <a:cubicBezTo>
                  <a:pt x="21537" y="15304"/>
                  <a:pt x="21597" y="15329"/>
                  <a:pt x="21679" y="15329"/>
                </a:cubicBezTo>
                <a:cubicBezTo>
                  <a:pt x="21748" y="15329"/>
                  <a:pt x="21728" y="15330"/>
                  <a:pt x="21779" y="15304"/>
                </a:cubicBezTo>
              </a:path>
              <a:path w="13544" h="3747">
                <a:moveTo>
                  <a:pt x="21332" y="15627"/>
                </a:moveTo>
                <a:cubicBezTo>
                  <a:pt x="21312" y="15667"/>
                  <a:pt x="21303" y="15674"/>
                  <a:pt x="21307" y="15701"/>
                </a:cubicBezTo>
                <a:cubicBezTo>
                  <a:pt x="21383" y="15701"/>
                  <a:pt x="21435" y="15693"/>
                  <a:pt x="21506" y="15677"/>
                </a:cubicBezTo>
                <a:cubicBezTo>
                  <a:pt x="21530" y="15672"/>
                  <a:pt x="21617" y="15704"/>
                  <a:pt x="21630" y="15726"/>
                </a:cubicBezTo>
                <a:cubicBezTo>
                  <a:pt x="21654" y="15764"/>
                  <a:pt x="21662" y="15789"/>
                  <a:pt x="21630" y="15825"/>
                </a:cubicBezTo>
                <a:cubicBezTo>
                  <a:pt x="21599" y="15860"/>
                  <a:pt x="21547" y="15908"/>
                  <a:pt x="21506" y="15925"/>
                </a:cubicBezTo>
                <a:cubicBezTo>
                  <a:pt x="21471" y="15939"/>
                  <a:pt x="21447" y="15949"/>
                  <a:pt x="21406" y="15949"/>
                </a:cubicBezTo>
                <a:cubicBezTo>
                  <a:pt x="21418" y="15985"/>
                  <a:pt x="21442" y="15982"/>
                  <a:pt x="21481" y="15999"/>
                </a:cubicBezTo>
                <a:cubicBezTo>
                  <a:pt x="21550" y="16029"/>
                  <a:pt x="21585" y="16071"/>
                  <a:pt x="21630" y="16123"/>
                </a:cubicBezTo>
                <a:cubicBezTo>
                  <a:pt x="21692" y="16194"/>
                  <a:pt x="21715" y="16321"/>
                  <a:pt x="21704" y="16421"/>
                </a:cubicBezTo>
                <a:cubicBezTo>
                  <a:pt x="21693" y="16519"/>
                  <a:pt x="21644" y="16623"/>
                  <a:pt x="21580" y="16694"/>
                </a:cubicBezTo>
                <a:cubicBezTo>
                  <a:pt x="21536" y="16742"/>
                  <a:pt x="21477" y="16789"/>
                  <a:pt x="21406" y="16768"/>
                </a:cubicBezTo>
                <a:cubicBezTo>
                  <a:pt x="21344" y="16749"/>
                  <a:pt x="21301" y="16688"/>
                  <a:pt x="21258" y="16644"/>
                </a:cubicBezTo>
              </a:path>
              <a:path w="13544" h="3747">
                <a:moveTo>
                  <a:pt x="19372" y="14560"/>
                </a:moveTo>
                <a:cubicBezTo>
                  <a:pt x="19310" y="14506"/>
                  <a:pt x="19342" y="14476"/>
                  <a:pt x="19224" y="14461"/>
                </a:cubicBezTo>
                <a:cubicBezTo>
                  <a:pt x="19125" y="14448"/>
                  <a:pt x="19007" y="14442"/>
                  <a:pt x="18901" y="14461"/>
                </a:cubicBezTo>
                <a:cubicBezTo>
                  <a:pt x="18857" y="14469"/>
                  <a:pt x="18678" y="14515"/>
                  <a:pt x="18653" y="14560"/>
                </a:cubicBezTo>
                <a:cubicBezTo>
                  <a:pt x="18622" y="14616"/>
                  <a:pt x="18667" y="14739"/>
                  <a:pt x="18703" y="14784"/>
                </a:cubicBezTo>
                <a:cubicBezTo>
                  <a:pt x="18753" y="14845"/>
                  <a:pt x="18782" y="14872"/>
                  <a:pt x="18827" y="14932"/>
                </a:cubicBezTo>
                <a:cubicBezTo>
                  <a:pt x="18777" y="14966"/>
                  <a:pt x="18730" y="15000"/>
                  <a:pt x="18678" y="15032"/>
                </a:cubicBezTo>
                <a:cubicBezTo>
                  <a:pt x="18627" y="15063"/>
                  <a:pt x="18543" y="15090"/>
                  <a:pt x="18529" y="15156"/>
                </a:cubicBezTo>
                <a:cubicBezTo>
                  <a:pt x="18514" y="15227"/>
                  <a:pt x="18541" y="15296"/>
                  <a:pt x="18579" y="15354"/>
                </a:cubicBezTo>
                <a:cubicBezTo>
                  <a:pt x="18620" y="15417"/>
                  <a:pt x="18703" y="15479"/>
                  <a:pt x="18752" y="15528"/>
                </a:cubicBezTo>
                <a:cubicBezTo>
                  <a:pt x="18791" y="15567"/>
                  <a:pt x="18791" y="15566"/>
                  <a:pt x="18827" y="15602"/>
                </a:cubicBezTo>
                <a:cubicBezTo>
                  <a:pt x="18786" y="15639"/>
                  <a:pt x="18716" y="15681"/>
                  <a:pt x="18678" y="15726"/>
                </a:cubicBezTo>
                <a:cubicBezTo>
                  <a:pt x="18647" y="15763"/>
                  <a:pt x="18610" y="15825"/>
                  <a:pt x="18604" y="15875"/>
                </a:cubicBezTo>
                <a:cubicBezTo>
                  <a:pt x="18589" y="15998"/>
                  <a:pt x="18696" y="16128"/>
                  <a:pt x="18752" y="16222"/>
                </a:cubicBezTo>
                <a:cubicBezTo>
                  <a:pt x="18803" y="16308"/>
                  <a:pt x="18872" y="16366"/>
                  <a:pt x="18926" y="16446"/>
                </a:cubicBezTo>
                <a:cubicBezTo>
                  <a:pt x="18990" y="16541"/>
                  <a:pt x="18934" y="16528"/>
                  <a:pt x="18951" y="16619"/>
                </a:cubicBezTo>
                <a:cubicBezTo>
                  <a:pt x="18975" y="16744"/>
                  <a:pt x="18971" y="16747"/>
                  <a:pt x="19075" y="16842"/>
                </a:cubicBezTo>
                <a:cubicBezTo>
                  <a:pt x="19135" y="16897"/>
                  <a:pt x="19217" y="16969"/>
                  <a:pt x="19298" y="16991"/>
                </a:cubicBezTo>
                <a:cubicBezTo>
                  <a:pt x="19358" y="17007"/>
                  <a:pt x="19468" y="16998"/>
                  <a:pt x="19521" y="16966"/>
                </a:cubicBezTo>
                <a:cubicBezTo>
                  <a:pt x="19563" y="16941"/>
                  <a:pt x="19525" y="16908"/>
                  <a:pt x="19546" y="16892"/>
                </a:cubicBezTo>
                <a:cubicBezTo>
                  <a:pt x="19574" y="16925"/>
                  <a:pt x="19607" y="16977"/>
                  <a:pt x="19645" y="17016"/>
                </a:cubicBezTo>
                <a:cubicBezTo>
                  <a:pt x="19722" y="17095"/>
                  <a:pt x="19802" y="17151"/>
                  <a:pt x="19893" y="17214"/>
                </a:cubicBezTo>
                <a:cubicBezTo>
                  <a:pt x="20010" y="17295"/>
                  <a:pt x="20119" y="17368"/>
                  <a:pt x="20265" y="17363"/>
                </a:cubicBezTo>
                <a:cubicBezTo>
                  <a:pt x="20330" y="17361"/>
                  <a:pt x="20365" y="17318"/>
                  <a:pt x="20414" y="17289"/>
                </a:cubicBezTo>
                <a:cubicBezTo>
                  <a:pt x="20454" y="17265"/>
                  <a:pt x="20463" y="17215"/>
                  <a:pt x="20513" y="17214"/>
                </a:cubicBezTo>
                <a:cubicBezTo>
                  <a:pt x="20592" y="17212"/>
                  <a:pt x="20750" y="17337"/>
                  <a:pt x="20811" y="17363"/>
                </a:cubicBezTo>
                <a:cubicBezTo>
                  <a:pt x="20886" y="17395"/>
                  <a:pt x="21002" y="17448"/>
                  <a:pt x="21084" y="17438"/>
                </a:cubicBezTo>
                <a:cubicBezTo>
                  <a:pt x="21140" y="17431"/>
                  <a:pt x="21195" y="17376"/>
                  <a:pt x="21233" y="17338"/>
                </a:cubicBezTo>
                <a:cubicBezTo>
                  <a:pt x="21247" y="17324"/>
                  <a:pt x="21276" y="17241"/>
                  <a:pt x="21282" y="17239"/>
                </a:cubicBezTo>
                <a:cubicBezTo>
                  <a:pt x="21375" y="17199"/>
                  <a:pt x="21489" y="17277"/>
                  <a:pt x="21580" y="17264"/>
                </a:cubicBezTo>
                <a:cubicBezTo>
                  <a:pt x="21667" y="17252"/>
                  <a:pt x="21712" y="17226"/>
                  <a:pt x="21779" y="17165"/>
                </a:cubicBezTo>
                <a:cubicBezTo>
                  <a:pt x="21871" y="17082"/>
                  <a:pt x="21939" y="16991"/>
                  <a:pt x="21977" y="16867"/>
                </a:cubicBezTo>
                <a:cubicBezTo>
                  <a:pt x="22009" y="16764"/>
                  <a:pt x="21997" y="16677"/>
                  <a:pt x="22002" y="16570"/>
                </a:cubicBezTo>
                <a:cubicBezTo>
                  <a:pt x="22053" y="16579"/>
                  <a:pt x="22100" y="16584"/>
                  <a:pt x="22151" y="16594"/>
                </a:cubicBezTo>
                <a:cubicBezTo>
                  <a:pt x="22237" y="16611"/>
                  <a:pt x="22229" y="16638"/>
                  <a:pt x="22299" y="16570"/>
                </a:cubicBezTo>
                <a:cubicBezTo>
                  <a:pt x="22382" y="16489"/>
                  <a:pt x="22432" y="16305"/>
                  <a:pt x="22448" y="16197"/>
                </a:cubicBezTo>
                <a:cubicBezTo>
                  <a:pt x="22474" y="16020"/>
                  <a:pt x="22469" y="15877"/>
                  <a:pt x="22423" y="15701"/>
                </a:cubicBezTo>
                <a:cubicBezTo>
                  <a:pt x="22377" y="15527"/>
                  <a:pt x="22255" y="15419"/>
                  <a:pt x="22151" y="15304"/>
                </a:cubicBezTo>
                <a:cubicBezTo>
                  <a:pt x="22132" y="15283"/>
                  <a:pt x="22199" y="15345"/>
                  <a:pt x="22175" y="15329"/>
                </a:cubicBezTo>
                <a:cubicBezTo>
                  <a:pt x="22149" y="15248"/>
                  <a:pt x="22134" y="15163"/>
                  <a:pt x="22101" y="15081"/>
                </a:cubicBezTo>
                <a:cubicBezTo>
                  <a:pt x="22033" y="14913"/>
                  <a:pt x="21865" y="14725"/>
                  <a:pt x="21704" y="14635"/>
                </a:cubicBezTo>
                <a:cubicBezTo>
                  <a:pt x="21573" y="14562"/>
                  <a:pt x="21410" y="14496"/>
                  <a:pt x="21258" y="14511"/>
                </a:cubicBezTo>
                <a:cubicBezTo>
                  <a:pt x="21152" y="14521"/>
                  <a:pt x="21162" y="14589"/>
                  <a:pt x="21109" y="14635"/>
                </a:cubicBezTo>
                <a:cubicBezTo>
                  <a:pt x="21101" y="14643"/>
                  <a:pt x="21092" y="14652"/>
                  <a:pt x="21084" y="14660"/>
                </a:cubicBezTo>
                <a:cubicBezTo>
                  <a:pt x="21017" y="14605"/>
                  <a:pt x="20953" y="14544"/>
                  <a:pt x="20886" y="14486"/>
                </a:cubicBezTo>
                <a:cubicBezTo>
                  <a:pt x="20786" y="14399"/>
                  <a:pt x="20671" y="14275"/>
                  <a:pt x="20538" y="14238"/>
                </a:cubicBezTo>
                <a:cubicBezTo>
                  <a:pt x="20433" y="14209"/>
                  <a:pt x="20301" y="14194"/>
                  <a:pt x="20191" y="14213"/>
                </a:cubicBezTo>
                <a:cubicBezTo>
                  <a:pt x="20087" y="14231"/>
                  <a:pt x="20094" y="14234"/>
                  <a:pt x="20067" y="14312"/>
                </a:cubicBezTo>
                <a:cubicBezTo>
                  <a:pt x="20067" y="14354"/>
                  <a:pt x="20059" y="14370"/>
                  <a:pt x="20092" y="14362"/>
                </a:cubicBezTo>
                <a:cubicBezTo>
                  <a:pt x="20039" y="14356"/>
                  <a:pt x="19997" y="14340"/>
                  <a:pt x="19943" y="14337"/>
                </a:cubicBezTo>
                <a:cubicBezTo>
                  <a:pt x="19864" y="14332"/>
                  <a:pt x="19808" y="14311"/>
                  <a:pt x="19720" y="14337"/>
                </a:cubicBezTo>
                <a:cubicBezTo>
                  <a:pt x="19656" y="14356"/>
                  <a:pt x="19584" y="14406"/>
                  <a:pt x="19546" y="14461"/>
                </a:cubicBezTo>
                <a:cubicBezTo>
                  <a:pt x="19505" y="14521"/>
                  <a:pt x="19510" y="14639"/>
                  <a:pt x="19496" y="147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724360"/>
            <a:ext cx="1608120" cy="79560"/>
          </a:xfrm>
          <a:custGeom>
            <a:avLst/>
            <a:gdLst/>
            <a:ahLst/>
            <a:rect l="l" t="t" r="r" b="b"/>
            <a:pathLst>
              <a:path w="4466" h="224">
                <a:moveTo>
                  <a:pt x="9401" y="15925"/>
                </a:moveTo>
                <a:cubicBezTo>
                  <a:pt x="9445" y="15921"/>
                  <a:pt x="9493" y="15904"/>
                  <a:pt x="9525" y="15900"/>
                </a:cubicBezTo>
                <a:cubicBezTo>
                  <a:pt x="9690" y="15881"/>
                  <a:pt x="9862" y="15908"/>
                  <a:pt x="10021" y="15925"/>
                </a:cubicBezTo>
                <a:cubicBezTo>
                  <a:pt x="10168" y="15940"/>
                  <a:pt x="10321" y="15945"/>
                  <a:pt x="10468" y="15949"/>
                </a:cubicBezTo>
                <a:cubicBezTo>
                  <a:pt x="10594" y="15952"/>
                  <a:pt x="10712" y="15974"/>
                  <a:pt x="10840" y="15974"/>
                </a:cubicBezTo>
                <a:cubicBezTo>
                  <a:pt x="10981" y="15974"/>
                  <a:pt x="11146" y="15981"/>
                  <a:pt x="11286" y="15999"/>
                </a:cubicBezTo>
                <a:cubicBezTo>
                  <a:pt x="11473" y="16023"/>
                  <a:pt x="11667" y="16044"/>
                  <a:pt x="11857" y="16049"/>
                </a:cubicBezTo>
                <a:cubicBezTo>
                  <a:pt x="12016" y="16053"/>
                  <a:pt x="12170" y="16070"/>
                  <a:pt x="12328" y="16073"/>
                </a:cubicBezTo>
                <a:cubicBezTo>
                  <a:pt x="12488" y="16076"/>
                  <a:pt x="12641" y="16087"/>
                  <a:pt x="12799" y="16098"/>
                </a:cubicBezTo>
                <a:cubicBezTo>
                  <a:pt x="13030" y="16114"/>
                  <a:pt x="13263" y="16106"/>
                  <a:pt x="13494" y="16123"/>
                </a:cubicBezTo>
                <a:cubicBezTo>
                  <a:pt x="13595" y="16130"/>
                  <a:pt x="13731" y="16142"/>
                  <a:pt x="13816" y="16098"/>
                </a:cubicBezTo>
                <a:cubicBezTo>
                  <a:pt x="13840" y="16085"/>
                  <a:pt x="13854" y="16057"/>
                  <a:pt x="13866" y="160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Use the sum and difference formulas to find the exact values of the sine, cosine, and tangent of 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14600" y="1828800"/>
          <a:ext cx="411480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828800"/>
                    <a:ext cx="4114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1:30Z</dcterms:created>
  <dc:creator>jnewman</dc:creator>
  <dc:description/>
  <dc:language>en-US</dc:language>
  <cp:lastModifiedBy>abeason</cp:lastModifiedBy>
  <dcterms:modified xsi:type="dcterms:W3CDTF">2008-12-15T18:22:00Z</dcterms:modified>
  <cp:revision>9</cp:revision>
  <dc:subject/>
  <dc:title>Lesson 5.4 part one</dc:title>
</cp:coreProperties>
</file>